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717F-244C-448F-BD3C-992DBD287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834F-ABEB-4268-9154-56DE2B6C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691A-ECD3-468D-801A-626D26B1B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CEAD-8D4B-43EC-B743-7B4BD87F3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C130-5531-4135-854B-863EE3437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F7F7-656C-4694-9C55-C5EF6D0B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C3A7-1D19-4EF6-995F-94599550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29BD-E9B4-44CF-AD13-EC8CD064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36F6-893F-4311-AE12-D5859B1F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4436-6401-479D-8E81-DF36DEF3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79B4-AB90-4C79-8BDF-D467B161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CD4F-BAAC-4CC0-8ADA-10045B72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496A-225A-43C3-91EF-7F33D226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3C1D-995A-4275-8CEF-70BA0DE2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B39E-E537-41F5-ACDB-3AC09078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9A07-6794-4793-803A-0AEEA5ED1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9C18-57A8-47F5-8DB1-B0DF64B62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7B04-988A-436D-B14E-C9336CE9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7A7E-207A-4589-A509-1C8B2E07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8FE3-8530-44B7-809A-7FF7E0AC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DFB6-80F5-4909-AEBB-91907357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8E65-DEA7-4306-BBAB-6A54616D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C01E-A11F-420D-B6BF-E612E143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56AC-0A55-4EB1-8746-70AA4108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8C3B-1EA4-4838-BB54-015C519D94A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1D1B-4BDF-4BD0-B17D-D6B17A3A3BD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5/7 as a decim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0.9 as a perc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12% as a fraction in simplest ter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750960" y="1116000"/>
            <a:ext cx="4572000" cy="3687840"/>
          </a:xfrm>
          <a:custGeom>
            <a:avLst/>
            <a:gdLst/>
            <a:ahLst/>
            <a:rect l="l" t="t" r="r" b="b"/>
            <a:pathLst>
              <a:path w="12701" h="10245">
                <a:moveTo>
                  <a:pt x="14759" y="3101"/>
                </a:moveTo>
                <a:cubicBezTo>
                  <a:pt x="14767" y="3101"/>
                  <a:pt x="14776" y="3101"/>
                  <a:pt x="14784" y="3101"/>
                </a:cubicBezTo>
              </a:path>
              <a:path w="12701" h="10245">
                <a:moveTo>
                  <a:pt x="7987" y="12849"/>
                </a:moveTo>
                <a:cubicBezTo>
                  <a:pt x="7979" y="12882"/>
                  <a:pt x="7970" y="12915"/>
                  <a:pt x="7962" y="12948"/>
                </a:cubicBezTo>
              </a:path>
              <a:path w="12701" h="10245">
                <a:moveTo>
                  <a:pt x="7962" y="12948"/>
                </a:moveTo>
                <a:lnTo>
                  <a:pt x="7962" y="12948"/>
                </a:lnTo>
              </a:path>
              <a:path w="12701" h="10245">
                <a:moveTo>
                  <a:pt x="8012" y="13345"/>
                </a:moveTo>
                <a:lnTo>
                  <a:pt x="8012" y="13345"/>
                </a:lnTo>
              </a:path>
              <a:path w="12701" h="10245">
                <a:moveTo>
                  <a:pt x="2108" y="11063"/>
                </a:moveTo>
                <a:cubicBezTo>
                  <a:pt x="2100" y="11063"/>
                  <a:pt x="2092" y="11063"/>
                  <a:pt x="2084" y="110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848720" y="3660840"/>
            <a:ext cx="81000" cy="36360"/>
          </a:xfrm>
          <a:custGeom>
            <a:avLst/>
            <a:gdLst/>
            <a:ahLst/>
            <a:rect l="l" t="t" r="r" b="b"/>
            <a:pathLst>
              <a:path w="225" h="100">
                <a:moveTo>
                  <a:pt x="21803" y="10269"/>
                </a:moveTo>
                <a:cubicBezTo>
                  <a:pt x="21881" y="10221"/>
                  <a:pt x="21939" y="10188"/>
                  <a:pt x="22027" y="101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32680" y="1027080"/>
            <a:ext cx="1714320" cy="2527200"/>
          </a:xfrm>
          <a:custGeom>
            <a:avLst/>
            <a:gdLst/>
            <a:ahLst/>
            <a:rect l="l" t="t" r="r" b="b"/>
            <a:pathLst>
              <a:path w="4763" h="7020">
                <a:moveTo>
                  <a:pt x="20067" y="7863"/>
                </a:moveTo>
                <a:cubicBezTo>
                  <a:pt x="20124" y="7853"/>
                  <a:pt x="20158" y="7817"/>
                  <a:pt x="20191" y="7813"/>
                </a:cubicBezTo>
                <a:cubicBezTo>
                  <a:pt x="20248" y="7806"/>
                  <a:pt x="20274" y="7928"/>
                  <a:pt x="20265" y="7962"/>
                </a:cubicBezTo>
                <a:cubicBezTo>
                  <a:pt x="20242" y="8053"/>
                  <a:pt x="20130" y="8128"/>
                  <a:pt x="20092" y="8210"/>
                </a:cubicBezTo>
                <a:cubicBezTo>
                  <a:pt x="20092" y="8235"/>
                  <a:pt x="20092" y="8243"/>
                  <a:pt x="20092" y="8260"/>
                </a:cubicBezTo>
                <a:cubicBezTo>
                  <a:pt x="20137" y="8245"/>
                  <a:pt x="20222" y="8191"/>
                  <a:pt x="20290" y="8161"/>
                </a:cubicBezTo>
                <a:cubicBezTo>
                  <a:pt x="20342" y="8138"/>
                  <a:pt x="20360" y="8136"/>
                  <a:pt x="20414" y="8136"/>
                </a:cubicBezTo>
              </a:path>
              <a:path w="4763" h="7020">
                <a:moveTo>
                  <a:pt x="19546" y="4316"/>
                </a:moveTo>
                <a:cubicBezTo>
                  <a:pt x="19569" y="4293"/>
                  <a:pt x="19577" y="4289"/>
                  <a:pt x="19571" y="4266"/>
                </a:cubicBezTo>
                <a:cubicBezTo>
                  <a:pt x="19486" y="4283"/>
                  <a:pt x="19457" y="4351"/>
                  <a:pt x="19447" y="4440"/>
                </a:cubicBezTo>
                <a:cubicBezTo>
                  <a:pt x="19433" y="4567"/>
                  <a:pt x="19459" y="4639"/>
                  <a:pt x="19521" y="4738"/>
                </a:cubicBezTo>
                <a:cubicBezTo>
                  <a:pt x="19670" y="4715"/>
                  <a:pt x="19761" y="4677"/>
                  <a:pt x="19794" y="4514"/>
                </a:cubicBezTo>
                <a:cubicBezTo>
                  <a:pt x="19820" y="4383"/>
                  <a:pt x="19709" y="4371"/>
                  <a:pt x="19621" y="4390"/>
                </a:cubicBezTo>
              </a:path>
              <a:path w="4763" h="7020">
                <a:moveTo>
                  <a:pt x="19670" y="4862"/>
                </a:moveTo>
                <a:cubicBezTo>
                  <a:pt x="19710" y="5011"/>
                  <a:pt x="19762" y="5160"/>
                  <a:pt x="19819" y="5308"/>
                </a:cubicBezTo>
                <a:cubicBezTo>
                  <a:pt x="19888" y="5485"/>
                  <a:pt x="19909" y="5673"/>
                  <a:pt x="19968" y="5854"/>
                </a:cubicBezTo>
                <a:cubicBezTo>
                  <a:pt x="20029" y="6043"/>
                  <a:pt x="20084" y="6234"/>
                  <a:pt x="20141" y="6424"/>
                </a:cubicBezTo>
                <a:cubicBezTo>
                  <a:pt x="20183" y="6564"/>
                  <a:pt x="20237" y="6710"/>
                  <a:pt x="20290" y="6846"/>
                </a:cubicBezTo>
                <a:cubicBezTo>
                  <a:pt x="20309" y="6894"/>
                  <a:pt x="20321" y="6949"/>
                  <a:pt x="20340" y="6995"/>
                </a:cubicBezTo>
                <a:cubicBezTo>
                  <a:pt x="20362" y="7048"/>
                  <a:pt x="20368" y="7097"/>
                  <a:pt x="20389" y="7144"/>
                </a:cubicBezTo>
                <a:cubicBezTo>
                  <a:pt x="20410" y="7190"/>
                  <a:pt x="20422" y="7228"/>
                  <a:pt x="20439" y="7268"/>
                </a:cubicBezTo>
                <a:cubicBezTo>
                  <a:pt x="20456" y="7307"/>
                  <a:pt x="20452" y="7325"/>
                  <a:pt x="20464" y="7367"/>
                </a:cubicBezTo>
                <a:cubicBezTo>
                  <a:pt x="20464" y="7395"/>
                  <a:pt x="20466" y="7406"/>
                  <a:pt x="20489" y="7417"/>
                </a:cubicBezTo>
              </a:path>
              <a:path w="4763" h="7020">
                <a:moveTo>
                  <a:pt x="20687" y="7689"/>
                </a:moveTo>
                <a:cubicBezTo>
                  <a:pt x="20608" y="7753"/>
                  <a:pt x="20592" y="7852"/>
                  <a:pt x="20588" y="7962"/>
                </a:cubicBezTo>
                <a:cubicBezTo>
                  <a:pt x="20588" y="8031"/>
                  <a:pt x="20582" y="8053"/>
                  <a:pt x="20638" y="8062"/>
                </a:cubicBezTo>
                <a:cubicBezTo>
                  <a:pt x="20735" y="8029"/>
                  <a:pt x="20799" y="7975"/>
                  <a:pt x="20811" y="7863"/>
                </a:cubicBezTo>
                <a:cubicBezTo>
                  <a:pt x="20822" y="7759"/>
                  <a:pt x="20773" y="7770"/>
                  <a:pt x="20712" y="7739"/>
                </a:cubicBezTo>
                <a:cubicBezTo>
                  <a:pt x="20704" y="7731"/>
                  <a:pt x="20695" y="7722"/>
                  <a:pt x="20687" y="7714"/>
                </a:cubicBezTo>
              </a:path>
              <a:path w="4763" h="7020">
                <a:moveTo>
                  <a:pt x="18802" y="4142"/>
                </a:moveTo>
                <a:cubicBezTo>
                  <a:pt x="18940" y="4142"/>
                  <a:pt x="19064" y="4120"/>
                  <a:pt x="19199" y="4093"/>
                </a:cubicBezTo>
                <a:cubicBezTo>
                  <a:pt x="19381" y="4057"/>
                  <a:pt x="19563" y="4027"/>
                  <a:pt x="19745" y="3994"/>
                </a:cubicBezTo>
                <a:cubicBezTo>
                  <a:pt x="19917" y="3963"/>
                  <a:pt x="20091" y="3946"/>
                  <a:pt x="20265" y="3919"/>
                </a:cubicBezTo>
                <a:cubicBezTo>
                  <a:pt x="20473" y="3886"/>
                  <a:pt x="20680" y="3841"/>
                  <a:pt x="20886" y="3795"/>
                </a:cubicBezTo>
                <a:cubicBezTo>
                  <a:pt x="20986" y="3773"/>
                  <a:pt x="21083" y="3750"/>
                  <a:pt x="21183" y="3746"/>
                </a:cubicBezTo>
                <a:cubicBezTo>
                  <a:pt x="21224" y="3744"/>
                  <a:pt x="21266" y="3746"/>
                  <a:pt x="21307" y="3746"/>
                </a:cubicBezTo>
              </a:path>
              <a:path w="4763" h="7020">
                <a:moveTo>
                  <a:pt x="19124" y="3572"/>
                </a:moveTo>
                <a:cubicBezTo>
                  <a:pt x="19154" y="3522"/>
                  <a:pt x="19184" y="3497"/>
                  <a:pt x="19248" y="3497"/>
                </a:cubicBezTo>
                <a:cubicBezTo>
                  <a:pt x="19267" y="3651"/>
                  <a:pt x="19250" y="3776"/>
                  <a:pt x="19174" y="3919"/>
                </a:cubicBezTo>
                <a:cubicBezTo>
                  <a:pt x="19136" y="3976"/>
                  <a:pt x="19120" y="3979"/>
                  <a:pt x="19124" y="4018"/>
                </a:cubicBezTo>
                <a:cubicBezTo>
                  <a:pt x="19250" y="3965"/>
                  <a:pt x="19366" y="3905"/>
                  <a:pt x="19472" y="3820"/>
                </a:cubicBezTo>
              </a:path>
              <a:path w="4763" h="7020">
                <a:moveTo>
                  <a:pt x="20340" y="8260"/>
                </a:moveTo>
                <a:cubicBezTo>
                  <a:pt x="20340" y="8334"/>
                  <a:pt x="20360" y="8421"/>
                  <a:pt x="20389" y="8483"/>
                </a:cubicBezTo>
                <a:cubicBezTo>
                  <a:pt x="20397" y="8491"/>
                  <a:pt x="20406" y="8500"/>
                  <a:pt x="20414" y="8508"/>
                </a:cubicBezTo>
              </a:path>
              <a:path w="4763" h="7020">
                <a:moveTo>
                  <a:pt x="20588" y="8235"/>
                </a:moveTo>
                <a:cubicBezTo>
                  <a:pt x="20597" y="8269"/>
                  <a:pt x="20604" y="8308"/>
                  <a:pt x="20638" y="8310"/>
                </a:cubicBezTo>
                <a:cubicBezTo>
                  <a:pt x="20712" y="8314"/>
                  <a:pt x="20746" y="8310"/>
                  <a:pt x="20811" y="8285"/>
                </a:cubicBezTo>
              </a:path>
              <a:path w="4763" h="7020">
                <a:moveTo>
                  <a:pt x="20737" y="8086"/>
                </a:moveTo>
                <a:cubicBezTo>
                  <a:pt x="20752" y="8188"/>
                  <a:pt x="20794" y="8266"/>
                  <a:pt x="20836" y="8359"/>
                </a:cubicBezTo>
                <a:cubicBezTo>
                  <a:pt x="20856" y="8400"/>
                  <a:pt x="20865" y="8406"/>
                  <a:pt x="20861" y="8434"/>
                </a:cubicBezTo>
              </a:path>
              <a:path w="4763" h="7020">
                <a:moveTo>
                  <a:pt x="19844" y="8483"/>
                </a:moveTo>
                <a:cubicBezTo>
                  <a:pt x="19944" y="8442"/>
                  <a:pt x="20037" y="8414"/>
                  <a:pt x="20141" y="8384"/>
                </a:cubicBezTo>
              </a:path>
              <a:path w="4763" h="7020">
                <a:moveTo>
                  <a:pt x="19943" y="8607"/>
                </a:moveTo>
                <a:cubicBezTo>
                  <a:pt x="20245" y="8583"/>
                  <a:pt x="20537" y="8510"/>
                  <a:pt x="20836" y="8458"/>
                </a:cubicBezTo>
                <a:cubicBezTo>
                  <a:pt x="20932" y="8441"/>
                  <a:pt x="20996" y="8434"/>
                  <a:pt x="21084" y="8434"/>
                </a:cubicBezTo>
              </a:path>
              <a:path w="4763" h="7020">
                <a:moveTo>
                  <a:pt x="20836" y="8632"/>
                </a:moveTo>
                <a:cubicBezTo>
                  <a:pt x="20836" y="8566"/>
                  <a:pt x="20846" y="8715"/>
                  <a:pt x="20836" y="8781"/>
                </a:cubicBezTo>
                <a:cubicBezTo>
                  <a:pt x="20820" y="8886"/>
                  <a:pt x="20803" y="8984"/>
                  <a:pt x="20960" y="8979"/>
                </a:cubicBezTo>
                <a:cubicBezTo>
                  <a:pt x="21072" y="8975"/>
                  <a:pt x="21168" y="8881"/>
                  <a:pt x="21183" y="8781"/>
                </a:cubicBezTo>
                <a:cubicBezTo>
                  <a:pt x="21183" y="8756"/>
                  <a:pt x="21183" y="8748"/>
                  <a:pt x="21158" y="8756"/>
                </a:cubicBezTo>
                <a:cubicBezTo>
                  <a:pt x="21068" y="8779"/>
                  <a:pt x="21032" y="8815"/>
                  <a:pt x="21010" y="8905"/>
                </a:cubicBezTo>
              </a:path>
              <a:path w="4763" h="7020">
                <a:moveTo>
                  <a:pt x="20216" y="4266"/>
                </a:moveTo>
                <a:cubicBezTo>
                  <a:pt x="20184" y="4243"/>
                  <a:pt x="20172" y="4240"/>
                  <a:pt x="20141" y="4217"/>
                </a:cubicBezTo>
                <a:cubicBezTo>
                  <a:pt x="20051" y="4327"/>
                  <a:pt x="20012" y="4469"/>
                  <a:pt x="20042" y="4614"/>
                </a:cubicBezTo>
                <a:cubicBezTo>
                  <a:pt x="20098" y="4885"/>
                  <a:pt x="20312" y="4657"/>
                  <a:pt x="20365" y="4539"/>
                </a:cubicBezTo>
                <a:cubicBezTo>
                  <a:pt x="20425" y="4405"/>
                  <a:pt x="20325" y="4365"/>
                  <a:pt x="20216" y="4341"/>
                </a:cubicBezTo>
              </a:path>
              <a:path w="4763" h="7020">
                <a:moveTo>
                  <a:pt x="20315" y="4738"/>
                </a:moveTo>
                <a:cubicBezTo>
                  <a:pt x="20339" y="4852"/>
                  <a:pt x="20365" y="4969"/>
                  <a:pt x="20389" y="5085"/>
                </a:cubicBezTo>
                <a:cubicBezTo>
                  <a:pt x="20427" y="5269"/>
                  <a:pt x="20486" y="5450"/>
                  <a:pt x="20538" y="5631"/>
                </a:cubicBezTo>
                <a:cubicBezTo>
                  <a:pt x="20589" y="5809"/>
                  <a:pt x="20656" y="5979"/>
                  <a:pt x="20712" y="6152"/>
                </a:cubicBezTo>
                <a:cubicBezTo>
                  <a:pt x="20755" y="6284"/>
                  <a:pt x="20793" y="6418"/>
                  <a:pt x="20836" y="6548"/>
                </a:cubicBezTo>
                <a:cubicBezTo>
                  <a:pt x="20868" y="6642"/>
                  <a:pt x="20905" y="6731"/>
                  <a:pt x="20935" y="6821"/>
                </a:cubicBezTo>
                <a:cubicBezTo>
                  <a:pt x="20966" y="6913"/>
                  <a:pt x="21003" y="7002"/>
                  <a:pt x="21034" y="7094"/>
                </a:cubicBezTo>
                <a:cubicBezTo>
                  <a:pt x="21071" y="7201"/>
                  <a:pt x="21100" y="7309"/>
                  <a:pt x="21134" y="7417"/>
                </a:cubicBezTo>
                <a:cubicBezTo>
                  <a:pt x="21165" y="7513"/>
                  <a:pt x="21199" y="7615"/>
                  <a:pt x="21208" y="7714"/>
                </a:cubicBezTo>
                <a:cubicBezTo>
                  <a:pt x="21220" y="7844"/>
                  <a:pt x="21266" y="7959"/>
                  <a:pt x="21282" y="8086"/>
                </a:cubicBezTo>
                <a:cubicBezTo>
                  <a:pt x="21285" y="8110"/>
                  <a:pt x="21280" y="8136"/>
                  <a:pt x="21282" y="8161"/>
                </a:cubicBezTo>
              </a:path>
              <a:path w="4763" h="7020">
                <a:moveTo>
                  <a:pt x="21506" y="8483"/>
                </a:moveTo>
                <a:cubicBezTo>
                  <a:pt x="21462" y="8516"/>
                  <a:pt x="21395" y="8633"/>
                  <a:pt x="21382" y="8706"/>
                </a:cubicBezTo>
                <a:cubicBezTo>
                  <a:pt x="21382" y="8764"/>
                  <a:pt x="21382" y="8773"/>
                  <a:pt x="21382" y="8806"/>
                </a:cubicBezTo>
                <a:cubicBezTo>
                  <a:pt x="21503" y="8845"/>
                  <a:pt x="21546" y="8842"/>
                  <a:pt x="21605" y="8731"/>
                </a:cubicBezTo>
                <a:cubicBezTo>
                  <a:pt x="21651" y="8643"/>
                  <a:pt x="21701" y="8548"/>
                  <a:pt x="21580" y="8508"/>
                </a:cubicBezTo>
                <a:cubicBezTo>
                  <a:pt x="21547" y="8508"/>
                  <a:pt x="21531" y="8508"/>
                  <a:pt x="21506" y="8508"/>
                </a:cubicBezTo>
              </a:path>
              <a:path w="4763" h="7020">
                <a:moveTo>
                  <a:pt x="19869" y="3448"/>
                </a:moveTo>
                <a:cubicBezTo>
                  <a:pt x="19808" y="3412"/>
                  <a:pt x="19738" y="3409"/>
                  <a:pt x="19670" y="3448"/>
                </a:cubicBezTo>
                <a:cubicBezTo>
                  <a:pt x="19662" y="3456"/>
                  <a:pt x="19653" y="3465"/>
                  <a:pt x="19645" y="3473"/>
                </a:cubicBezTo>
                <a:cubicBezTo>
                  <a:pt x="19686" y="3580"/>
                  <a:pt x="19794" y="3599"/>
                  <a:pt x="19893" y="3671"/>
                </a:cubicBezTo>
                <a:cubicBezTo>
                  <a:pt x="19923" y="3701"/>
                  <a:pt x="19934" y="3715"/>
                  <a:pt x="19943" y="3746"/>
                </a:cubicBezTo>
                <a:cubicBezTo>
                  <a:pt x="19858" y="3801"/>
                  <a:pt x="19786" y="3829"/>
                  <a:pt x="19695" y="3820"/>
                </a:cubicBezTo>
                <a:cubicBezTo>
                  <a:pt x="19722" y="3701"/>
                  <a:pt x="19811" y="3672"/>
                  <a:pt x="19869" y="3572"/>
                </a:cubicBezTo>
                <a:cubicBezTo>
                  <a:pt x="19886" y="3542"/>
                  <a:pt x="19949" y="3426"/>
                  <a:pt x="19893" y="3423"/>
                </a:cubicBezTo>
                <a:cubicBezTo>
                  <a:pt x="19852" y="3421"/>
                  <a:pt x="19810" y="3423"/>
                  <a:pt x="19769" y="3423"/>
                </a:cubicBezTo>
              </a:path>
              <a:path w="4763" h="7020">
                <a:moveTo>
                  <a:pt x="21258" y="9054"/>
                </a:moveTo>
                <a:cubicBezTo>
                  <a:pt x="21186" y="9061"/>
                  <a:pt x="21131" y="9079"/>
                  <a:pt x="21059" y="9079"/>
                </a:cubicBezTo>
                <a:cubicBezTo>
                  <a:pt x="21059" y="9117"/>
                  <a:pt x="21043" y="9183"/>
                  <a:pt x="21084" y="9203"/>
                </a:cubicBezTo>
                <a:cubicBezTo>
                  <a:pt x="21144" y="9233"/>
                  <a:pt x="21239" y="9130"/>
                  <a:pt x="21307" y="9153"/>
                </a:cubicBezTo>
                <a:cubicBezTo>
                  <a:pt x="21315" y="9161"/>
                  <a:pt x="21324" y="9170"/>
                  <a:pt x="21332" y="9178"/>
                </a:cubicBezTo>
                <a:cubicBezTo>
                  <a:pt x="21317" y="9255"/>
                  <a:pt x="21231" y="9327"/>
                  <a:pt x="21158" y="9327"/>
                </a:cubicBezTo>
                <a:cubicBezTo>
                  <a:pt x="21158" y="9319"/>
                  <a:pt x="21158" y="9310"/>
                  <a:pt x="21158" y="9302"/>
                </a:cubicBezTo>
              </a:path>
              <a:path w="4763" h="7020">
                <a:moveTo>
                  <a:pt x="21555" y="8905"/>
                </a:moveTo>
                <a:cubicBezTo>
                  <a:pt x="21555" y="8988"/>
                  <a:pt x="21554" y="9102"/>
                  <a:pt x="21580" y="9178"/>
                </a:cubicBezTo>
                <a:cubicBezTo>
                  <a:pt x="21614" y="9279"/>
                  <a:pt x="21778" y="9156"/>
                  <a:pt x="21803" y="9128"/>
                </a:cubicBezTo>
                <a:cubicBezTo>
                  <a:pt x="21811" y="9112"/>
                  <a:pt x="21820" y="9095"/>
                  <a:pt x="21828" y="9079"/>
                </a:cubicBezTo>
                <a:cubicBezTo>
                  <a:pt x="21720" y="9092"/>
                  <a:pt x="21716" y="9120"/>
                  <a:pt x="21704" y="9227"/>
                </a:cubicBezTo>
              </a:path>
              <a:path w="4763" h="7020">
                <a:moveTo>
                  <a:pt x="20762" y="9327"/>
                </a:moveTo>
                <a:cubicBezTo>
                  <a:pt x="20821" y="9317"/>
                  <a:pt x="20877" y="9296"/>
                  <a:pt x="20935" y="9277"/>
                </a:cubicBezTo>
              </a:path>
              <a:path w="4763" h="7020">
                <a:moveTo>
                  <a:pt x="21010" y="9475"/>
                </a:moveTo>
                <a:cubicBezTo>
                  <a:pt x="21315" y="9404"/>
                  <a:pt x="21620" y="9358"/>
                  <a:pt x="21927" y="9302"/>
                </a:cubicBezTo>
                <a:cubicBezTo>
                  <a:pt x="22005" y="9283"/>
                  <a:pt x="22022" y="9291"/>
                  <a:pt x="22051" y="9252"/>
                </a:cubicBezTo>
              </a:path>
              <a:path w="4763" h="7020">
                <a:moveTo>
                  <a:pt x="21779" y="9550"/>
                </a:moveTo>
                <a:cubicBezTo>
                  <a:pt x="21779" y="9622"/>
                  <a:pt x="21743" y="9727"/>
                  <a:pt x="21853" y="9723"/>
                </a:cubicBezTo>
                <a:cubicBezTo>
                  <a:pt x="21972" y="9719"/>
                  <a:pt x="22007" y="9676"/>
                  <a:pt x="22076" y="9599"/>
                </a:cubicBezTo>
              </a:path>
              <a:path w="4763" h="7020">
                <a:moveTo>
                  <a:pt x="22002" y="9451"/>
                </a:moveTo>
                <a:cubicBezTo>
                  <a:pt x="22002" y="9574"/>
                  <a:pt x="22003" y="9706"/>
                  <a:pt x="22051" y="9823"/>
                </a:cubicBezTo>
                <a:cubicBezTo>
                  <a:pt x="22074" y="9845"/>
                  <a:pt x="22082" y="9850"/>
                  <a:pt x="22076" y="9872"/>
                </a:cubicBezTo>
              </a:path>
              <a:path w="4763" h="7020">
                <a:moveTo>
                  <a:pt x="17314" y="3473"/>
                </a:moveTo>
                <a:cubicBezTo>
                  <a:pt x="17355" y="3468"/>
                  <a:pt x="17376" y="3461"/>
                  <a:pt x="17413" y="3448"/>
                </a:cubicBezTo>
                <a:cubicBezTo>
                  <a:pt x="17483" y="3423"/>
                  <a:pt x="17565" y="3387"/>
                  <a:pt x="17636" y="3373"/>
                </a:cubicBezTo>
                <a:cubicBezTo>
                  <a:pt x="17708" y="3358"/>
                  <a:pt x="17788" y="3336"/>
                  <a:pt x="17859" y="3324"/>
                </a:cubicBezTo>
                <a:cubicBezTo>
                  <a:pt x="17922" y="3313"/>
                  <a:pt x="17991" y="3315"/>
                  <a:pt x="18058" y="3299"/>
                </a:cubicBezTo>
                <a:cubicBezTo>
                  <a:pt x="18137" y="3280"/>
                  <a:pt x="18226" y="3272"/>
                  <a:pt x="18306" y="3249"/>
                </a:cubicBezTo>
                <a:cubicBezTo>
                  <a:pt x="18396" y="3224"/>
                  <a:pt x="18486" y="3206"/>
                  <a:pt x="18579" y="3175"/>
                </a:cubicBezTo>
                <a:cubicBezTo>
                  <a:pt x="18652" y="3150"/>
                  <a:pt x="18710" y="3141"/>
                  <a:pt x="18777" y="3125"/>
                </a:cubicBezTo>
                <a:cubicBezTo>
                  <a:pt x="18873" y="3102"/>
                  <a:pt x="18982" y="3080"/>
                  <a:pt x="19075" y="3051"/>
                </a:cubicBezTo>
                <a:cubicBezTo>
                  <a:pt x="19150" y="3027"/>
                  <a:pt x="19222" y="3017"/>
                  <a:pt x="19298" y="3001"/>
                </a:cubicBezTo>
                <a:cubicBezTo>
                  <a:pt x="19396" y="2981"/>
                  <a:pt x="19497" y="2939"/>
                  <a:pt x="19596" y="2927"/>
                </a:cubicBezTo>
                <a:cubicBezTo>
                  <a:pt x="19706" y="2914"/>
                  <a:pt x="19819" y="2872"/>
                  <a:pt x="19918" y="2853"/>
                </a:cubicBezTo>
                <a:cubicBezTo>
                  <a:pt x="19926" y="2853"/>
                  <a:pt x="19935" y="2853"/>
                  <a:pt x="19943" y="2853"/>
                </a:cubicBezTo>
              </a:path>
              <a:path w="4763" h="7020">
                <a:moveTo>
                  <a:pt x="19844" y="2877"/>
                </a:moveTo>
                <a:cubicBezTo>
                  <a:pt x="19907" y="2893"/>
                  <a:pt x="19912" y="2902"/>
                  <a:pt x="19993" y="2902"/>
                </a:cubicBezTo>
                <a:cubicBezTo>
                  <a:pt x="20038" y="2902"/>
                  <a:pt x="20070" y="2877"/>
                  <a:pt x="20117" y="2877"/>
                </a:cubicBezTo>
                <a:cubicBezTo>
                  <a:pt x="20193" y="2877"/>
                  <a:pt x="20251" y="2874"/>
                  <a:pt x="20315" y="2853"/>
                </a:cubicBezTo>
                <a:cubicBezTo>
                  <a:pt x="20340" y="2853"/>
                  <a:pt x="20348" y="2853"/>
                  <a:pt x="20365" y="2853"/>
                </a:cubicBezTo>
                <a:cubicBezTo>
                  <a:pt x="20431" y="2853"/>
                  <a:pt x="20256" y="2849"/>
                  <a:pt x="20241" y="2853"/>
                </a:cubicBezTo>
                <a:cubicBezTo>
                  <a:pt x="20188" y="2867"/>
                  <a:pt x="20141" y="2897"/>
                  <a:pt x="20092" y="2902"/>
                </a:cubicBezTo>
                <a:cubicBezTo>
                  <a:pt x="20036" y="2908"/>
                  <a:pt x="19975" y="2902"/>
                  <a:pt x="19918" y="2902"/>
                </a:cubicBezTo>
              </a:path>
              <a:path w="4763" h="7020">
                <a:moveTo>
                  <a:pt x="19918" y="2877"/>
                </a:moveTo>
                <a:cubicBezTo>
                  <a:pt x="19976" y="2877"/>
                  <a:pt x="20034" y="2877"/>
                  <a:pt x="20092" y="28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89760" y="1312920"/>
            <a:ext cx="492120" cy="741240"/>
          </a:xfrm>
          <a:custGeom>
            <a:avLst/>
            <a:gdLst/>
            <a:ahLst/>
            <a:rect l="l" t="t" r="r" b="b"/>
            <a:pathLst>
              <a:path w="1365" h="2060">
                <a:moveTo>
                  <a:pt x="17611" y="5209"/>
                </a:moveTo>
                <a:cubicBezTo>
                  <a:pt x="17611" y="5217"/>
                  <a:pt x="17611" y="5226"/>
                  <a:pt x="17611" y="5234"/>
                </a:cubicBezTo>
              </a:path>
              <a:path w="1365" h="2060">
                <a:moveTo>
                  <a:pt x="17314" y="4093"/>
                </a:moveTo>
                <a:cubicBezTo>
                  <a:pt x="17322" y="4093"/>
                  <a:pt x="17330" y="4093"/>
                  <a:pt x="17338" y="4093"/>
                </a:cubicBezTo>
              </a:path>
              <a:path w="1365" h="2060">
                <a:moveTo>
                  <a:pt x="16917" y="5705"/>
                </a:moveTo>
                <a:cubicBezTo>
                  <a:pt x="16957" y="5680"/>
                  <a:pt x="17044" y="5592"/>
                  <a:pt x="17066" y="5655"/>
                </a:cubicBezTo>
              </a:path>
              <a:path w="1365" h="2060">
                <a:moveTo>
                  <a:pt x="18207" y="3646"/>
                </a:moveTo>
                <a:cubicBezTo>
                  <a:pt x="18222" y="3772"/>
                  <a:pt x="18256" y="3895"/>
                  <a:pt x="18281" y="4018"/>
                </a:cubicBezTo>
                <a:cubicBezTo>
                  <a:pt x="18281" y="4026"/>
                  <a:pt x="18281" y="4035"/>
                  <a:pt x="18281" y="40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97360" y="1339920"/>
            <a:ext cx="1098720" cy="615960"/>
          </a:xfrm>
          <a:custGeom>
            <a:avLst/>
            <a:gdLst/>
            <a:ahLst/>
            <a:rect l="l" t="t" r="r" b="b"/>
            <a:pathLst>
              <a:path w="3052" h="1712">
                <a:moveTo>
                  <a:pt x="17338" y="4539"/>
                </a:moveTo>
                <a:cubicBezTo>
                  <a:pt x="17281" y="4539"/>
                  <a:pt x="17133" y="4521"/>
                  <a:pt x="17090" y="4564"/>
                </a:cubicBezTo>
                <a:cubicBezTo>
                  <a:pt x="17070" y="4584"/>
                  <a:pt x="17054" y="4740"/>
                  <a:pt x="17041" y="4787"/>
                </a:cubicBezTo>
                <a:cubicBezTo>
                  <a:pt x="17168" y="4766"/>
                  <a:pt x="17251" y="4725"/>
                  <a:pt x="17363" y="4837"/>
                </a:cubicBezTo>
                <a:cubicBezTo>
                  <a:pt x="17536" y="5010"/>
                  <a:pt x="17272" y="5193"/>
                  <a:pt x="17115" y="5209"/>
                </a:cubicBezTo>
                <a:cubicBezTo>
                  <a:pt x="17074" y="5201"/>
                  <a:pt x="17032" y="5192"/>
                  <a:pt x="16991" y="5184"/>
                </a:cubicBezTo>
              </a:path>
              <a:path w="3052" h="1712">
                <a:moveTo>
                  <a:pt x="16768" y="5432"/>
                </a:moveTo>
                <a:cubicBezTo>
                  <a:pt x="16751" y="5204"/>
                  <a:pt x="16702" y="4990"/>
                  <a:pt x="16669" y="4762"/>
                </a:cubicBezTo>
                <a:cubicBezTo>
                  <a:pt x="16657" y="4676"/>
                  <a:pt x="16585" y="4466"/>
                  <a:pt x="16694" y="4415"/>
                </a:cubicBezTo>
                <a:cubicBezTo>
                  <a:pt x="17069" y="4238"/>
                  <a:pt x="17506" y="4238"/>
                  <a:pt x="17909" y="4192"/>
                </a:cubicBezTo>
                <a:cubicBezTo>
                  <a:pt x="18143" y="4165"/>
                  <a:pt x="18642" y="4027"/>
                  <a:pt x="18876" y="4093"/>
                </a:cubicBezTo>
                <a:cubicBezTo>
                  <a:pt x="18876" y="4136"/>
                  <a:pt x="18859" y="4149"/>
                  <a:pt x="18802" y="4142"/>
                </a:cubicBezTo>
              </a:path>
              <a:path w="3052" h="1712">
                <a:moveTo>
                  <a:pt x="15825" y="4787"/>
                </a:moveTo>
                <a:cubicBezTo>
                  <a:pt x="15926" y="4736"/>
                  <a:pt x="16100" y="4723"/>
                  <a:pt x="16222" y="4738"/>
                </a:cubicBezTo>
                <a:cubicBezTo>
                  <a:pt x="16239" y="4746"/>
                  <a:pt x="16255" y="4754"/>
                  <a:pt x="16272" y="4762"/>
                </a:cubicBezTo>
                <a:cubicBezTo>
                  <a:pt x="16353" y="4789"/>
                  <a:pt x="16235" y="5055"/>
                  <a:pt x="16222" y="5110"/>
                </a:cubicBezTo>
                <a:cubicBezTo>
                  <a:pt x="16204" y="5188"/>
                  <a:pt x="16197" y="5218"/>
                  <a:pt x="16197" y="5283"/>
                </a:cubicBezTo>
              </a:path>
              <a:path w="3052" h="1712">
                <a:moveTo>
                  <a:pt x="17066" y="3721"/>
                </a:moveTo>
                <a:cubicBezTo>
                  <a:pt x="17036" y="3751"/>
                  <a:pt x="16978" y="3688"/>
                  <a:pt x="16917" y="3721"/>
                </a:cubicBezTo>
                <a:cubicBezTo>
                  <a:pt x="16788" y="3792"/>
                  <a:pt x="16802" y="4004"/>
                  <a:pt x="16818" y="4118"/>
                </a:cubicBezTo>
                <a:cubicBezTo>
                  <a:pt x="16922" y="4141"/>
                  <a:pt x="16993" y="4107"/>
                  <a:pt x="17041" y="3994"/>
                </a:cubicBezTo>
                <a:cubicBezTo>
                  <a:pt x="17070" y="3924"/>
                  <a:pt x="17082" y="3831"/>
                  <a:pt x="17041" y="3795"/>
                </a:cubicBezTo>
                <a:cubicBezTo>
                  <a:pt x="17019" y="3773"/>
                  <a:pt x="17010" y="3768"/>
                  <a:pt x="17016" y="37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286760" y="1152360"/>
            <a:ext cx="277560" cy="490680"/>
          </a:xfrm>
          <a:custGeom>
            <a:avLst/>
            <a:gdLst/>
            <a:ahLst/>
            <a:rect l="l" t="t" r="r" b="b"/>
            <a:pathLst>
              <a:path w="770" h="1365">
                <a:moveTo>
                  <a:pt x="20786" y="4068"/>
                </a:moveTo>
                <a:cubicBezTo>
                  <a:pt x="20698" y="4068"/>
                  <a:pt x="20702" y="4050"/>
                  <a:pt x="20662" y="4142"/>
                </a:cubicBezTo>
                <a:cubicBezTo>
                  <a:pt x="20623" y="4232"/>
                  <a:pt x="20550" y="4498"/>
                  <a:pt x="20687" y="4564"/>
                </a:cubicBezTo>
                <a:cubicBezTo>
                  <a:pt x="20827" y="4632"/>
                  <a:pt x="21034" y="4362"/>
                  <a:pt x="21010" y="4242"/>
                </a:cubicBezTo>
                <a:cubicBezTo>
                  <a:pt x="20955" y="4214"/>
                  <a:pt x="20932" y="4206"/>
                  <a:pt x="20886" y="4217"/>
                </a:cubicBezTo>
              </a:path>
              <a:path w="770" h="1365">
                <a:moveTo>
                  <a:pt x="20414" y="3225"/>
                </a:moveTo>
                <a:cubicBezTo>
                  <a:pt x="20395" y="3169"/>
                  <a:pt x="20311" y="3219"/>
                  <a:pt x="20265" y="3249"/>
                </a:cubicBezTo>
                <a:cubicBezTo>
                  <a:pt x="20227" y="3273"/>
                  <a:pt x="20237" y="3355"/>
                  <a:pt x="20265" y="3373"/>
                </a:cubicBezTo>
                <a:cubicBezTo>
                  <a:pt x="20327" y="3413"/>
                  <a:pt x="20460" y="3360"/>
                  <a:pt x="20538" y="3398"/>
                </a:cubicBezTo>
                <a:cubicBezTo>
                  <a:pt x="20728" y="3490"/>
                  <a:pt x="20552" y="3620"/>
                  <a:pt x="20439" y="3671"/>
                </a:cubicBezTo>
                <a:cubicBezTo>
                  <a:pt x="20431" y="3671"/>
                  <a:pt x="20422" y="3671"/>
                  <a:pt x="20414" y="36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16800" y="2438280"/>
            <a:ext cx="277560" cy="293760"/>
          </a:xfrm>
          <a:custGeom>
            <a:avLst/>
            <a:gdLst/>
            <a:ahLst/>
            <a:rect l="l" t="t" r="r" b="b"/>
            <a:pathLst>
              <a:path w="770" h="819">
                <a:moveTo>
                  <a:pt x="18380" y="7020"/>
                </a:moveTo>
                <a:cubicBezTo>
                  <a:pt x="18624" y="6926"/>
                  <a:pt x="18867" y="6825"/>
                  <a:pt x="19124" y="6772"/>
                </a:cubicBezTo>
                <a:cubicBezTo>
                  <a:pt x="19132" y="6772"/>
                  <a:pt x="19141" y="6772"/>
                  <a:pt x="19149" y="6772"/>
                </a:cubicBezTo>
              </a:path>
              <a:path w="770" h="819">
                <a:moveTo>
                  <a:pt x="19000" y="7590"/>
                </a:moveTo>
                <a:cubicBezTo>
                  <a:pt x="19030" y="7583"/>
                  <a:pt x="19045" y="7572"/>
                  <a:pt x="19075" y="75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70800" y="1214280"/>
            <a:ext cx="652320" cy="1635120"/>
          </a:xfrm>
          <a:custGeom>
            <a:avLst/>
            <a:gdLst/>
            <a:ahLst/>
            <a:rect l="l" t="t" r="r" b="b"/>
            <a:pathLst>
              <a:path w="1812" h="4541">
                <a:moveTo>
                  <a:pt x="18628" y="6524"/>
                </a:moveTo>
                <a:cubicBezTo>
                  <a:pt x="18612" y="6506"/>
                  <a:pt x="18696" y="6457"/>
                  <a:pt x="18752" y="6474"/>
                </a:cubicBezTo>
                <a:cubicBezTo>
                  <a:pt x="18798" y="6488"/>
                  <a:pt x="18769" y="6542"/>
                  <a:pt x="18777" y="6573"/>
                </a:cubicBezTo>
                <a:cubicBezTo>
                  <a:pt x="18795" y="6642"/>
                  <a:pt x="18827" y="6700"/>
                  <a:pt x="18827" y="6772"/>
                </a:cubicBezTo>
              </a:path>
              <a:path w="1812" h="4541">
                <a:moveTo>
                  <a:pt x="19050" y="7119"/>
                </a:moveTo>
                <a:cubicBezTo>
                  <a:pt x="19133" y="7077"/>
                  <a:pt x="19149" y="7069"/>
                  <a:pt x="19199" y="7045"/>
                </a:cubicBezTo>
                <a:cubicBezTo>
                  <a:pt x="19183" y="7085"/>
                  <a:pt x="19104" y="7138"/>
                  <a:pt x="19149" y="7144"/>
                </a:cubicBezTo>
                <a:cubicBezTo>
                  <a:pt x="19199" y="7151"/>
                  <a:pt x="19232" y="7166"/>
                  <a:pt x="19273" y="7193"/>
                </a:cubicBezTo>
                <a:cubicBezTo>
                  <a:pt x="19250" y="7288"/>
                  <a:pt x="19203" y="7327"/>
                  <a:pt x="19100" y="7342"/>
                </a:cubicBezTo>
                <a:cubicBezTo>
                  <a:pt x="19092" y="7342"/>
                  <a:pt x="19083" y="7342"/>
                  <a:pt x="19075" y="7342"/>
                </a:cubicBezTo>
              </a:path>
              <a:path w="1812" h="4541">
                <a:moveTo>
                  <a:pt x="19000" y="4316"/>
                </a:moveTo>
                <a:cubicBezTo>
                  <a:pt x="18979" y="4249"/>
                  <a:pt x="18940" y="4371"/>
                  <a:pt x="18926" y="4440"/>
                </a:cubicBezTo>
                <a:cubicBezTo>
                  <a:pt x="18896" y="4594"/>
                  <a:pt x="18895" y="4623"/>
                  <a:pt x="18976" y="4738"/>
                </a:cubicBezTo>
                <a:cubicBezTo>
                  <a:pt x="19157" y="4696"/>
                  <a:pt x="19219" y="4590"/>
                  <a:pt x="19199" y="4390"/>
                </a:cubicBezTo>
                <a:cubicBezTo>
                  <a:pt x="19189" y="4285"/>
                  <a:pt x="19081" y="4332"/>
                  <a:pt x="19025" y="4341"/>
                </a:cubicBezTo>
              </a:path>
              <a:path w="1812" h="4541">
                <a:moveTo>
                  <a:pt x="19075" y="4887"/>
                </a:moveTo>
                <a:cubicBezTo>
                  <a:pt x="19075" y="5023"/>
                  <a:pt x="19080" y="5148"/>
                  <a:pt x="19100" y="5283"/>
                </a:cubicBezTo>
                <a:cubicBezTo>
                  <a:pt x="19129" y="5479"/>
                  <a:pt x="19187" y="5661"/>
                  <a:pt x="19224" y="5854"/>
                </a:cubicBezTo>
                <a:cubicBezTo>
                  <a:pt x="19254" y="6008"/>
                  <a:pt x="19302" y="6172"/>
                  <a:pt x="19323" y="6325"/>
                </a:cubicBezTo>
                <a:cubicBezTo>
                  <a:pt x="19337" y="6423"/>
                  <a:pt x="19312" y="6502"/>
                  <a:pt x="19348" y="6598"/>
                </a:cubicBezTo>
                <a:cubicBezTo>
                  <a:pt x="19376" y="6673"/>
                  <a:pt x="19425" y="6744"/>
                  <a:pt x="19447" y="6821"/>
                </a:cubicBezTo>
                <a:cubicBezTo>
                  <a:pt x="19447" y="6829"/>
                  <a:pt x="19447" y="6838"/>
                  <a:pt x="19447" y="6846"/>
                </a:cubicBezTo>
              </a:path>
              <a:path w="1812" h="4541">
                <a:moveTo>
                  <a:pt x="19720" y="6921"/>
                </a:moveTo>
                <a:cubicBezTo>
                  <a:pt x="19673" y="6912"/>
                  <a:pt x="19621" y="6877"/>
                  <a:pt x="19596" y="6945"/>
                </a:cubicBezTo>
                <a:cubicBezTo>
                  <a:pt x="19562" y="7037"/>
                  <a:pt x="19553" y="7107"/>
                  <a:pt x="19571" y="7193"/>
                </a:cubicBezTo>
                <a:cubicBezTo>
                  <a:pt x="19698" y="7213"/>
                  <a:pt x="19827" y="7190"/>
                  <a:pt x="19844" y="7020"/>
                </a:cubicBezTo>
                <a:cubicBezTo>
                  <a:pt x="19852" y="6942"/>
                  <a:pt x="19729" y="6903"/>
                  <a:pt x="19670" y="6896"/>
                </a:cubicBezTo>
                <a:cubicBezTo>
                  <a:pt x="19654" y="6896"/>
                  <a:pt x="19637" y="6896"/>
                  <a:pt x="19621" y="6896"/>
                </a:cubicBezTo>
              </a:path>
              <a:path w="1812" h="4541">
                <a:moveTo>
                  <a:pt x="18579" y="3572"/>
                </a:moveTo>
                <a:cubicBezTo>
                  <a:pt x="18543" y="3584"/>
                  <a:pt x="18536" y="3672"/>
                  <a:pt x="18529" y="3721"/>
                </a:cubicBezTo>
                <a:cubicBezTo>
                  <a:pt x="18529" y="3737"/>
                  <a:pt x="18529" y="3754"/>
                  <a:pt x="18529" y="3770"/>
                </a:cubicBezTo>
                <a:cubicBezTo>
                  <a:pt x="18618" y="3770"/>
                  <a:pt x="18676" y="3725"/>
                  <a:pt x="18752" y="3696"/>
                </a:cubicBezTo>
                <a:cubicBezTo>
                  <a:pt x="18760" y="3696"/>
                  <a:pt x="18769" y="3696"/>
                  <a:pt x="18777" y="3696"/>
                </a:cubicBezTo>
              </a:path>
              <a:path w="1812" h="4541">
                <a:moveTo>
                  <a:pt x="18752" y="3373"/>
                </a:moveTo>
                <a:cubicBezTo>
                  <a:pt x="18752" y="3509"/>
                  <a:pt x="18788" y="3635"/>
                  <a:pt x="18802" y="3770"/>
                </a:cubicBezTo>
                <a:cubicBezTo>
                  <a:pt x="18802" y="3795"/>
                  <a:pt x="18802" y="3820"/>
                  <a:pt x="18802" y="3845"/>
                </a:cubicBezTo>
              </a:path>
              <a:path w="1812" h="4541">
                <a:moveTo>
                  <a:pt x="19199" y="7491"/>
                </a:moveTo>
                <a:cubicBezTo>
                  <a:pt x="19281" y="7450"/>
                  <a:pt x="19357" y="7407"/>
                  <a:pt x="19447" y="7392"/>
                </a:cubicBezTo>
                <a:cubicBezTo>
                  <a:pt x="19427" y="7551"/>
                  <a:pt x="19365" y="7631"/>
                  <a:pt x="19273" y="7764"/>
                </a:cubicBezTo>
                <a:cubicBezTo>
                  <a:pt x="19374" y="7744"/>
                  <a:pt x="19469" y="7691"/>
                  <a:pt x="19571" y="7665"/>
                </a:cubicBezTo>
                <a:cubicBezTo>
                  <a:pt x="19579" y="7665"/>
                  <a:pt x="19588" y="7665"/>
                  <a:pt x="19596" y="7665"/>
                </a:cubicBezTo>
              </a:path>
              <a:path w="1812" h="4541">
                <a:moveTo>
                  <a:pt x="19943" y="7243"/>
                </a:moveTo>
                <a:cubicBezTo>
                  <a:pt x="19841" y="7260"/>
                  <a:pt x="19772" y="7271"/>
                  <a:pt x="19745" y="7367"/>
                </a:cubicBezTo>
                <a:cubicBezTo>
                  <a:pt x="19858" y="7424"/>
                  <a:pt x="19927" y="7422"/>
                  <a:pt x="19943" y="7541"/>
                </a:cubicBezTo>
                <a:cubicBezTo>
                  <a:pt x="19952" y="7605"/>
                  <a:pt x="19864" y="7584"/>
                  <a:pt x="19819" y="7590"/>
                </a:cubicBezTo>
                <a:cubicBezTo>
                  <a:pt x="19837" y="7486"/>
                  <a:pt x="19903" y="7419"/>
                  <a:pt x="19918" y="7317"/>
                </a:cubicBezTo>
                <a:cubicBezTo>
                  <a:pt x="19918" y="7309"/>
                  <a:pt x="19918" y="7301"/>
                  <a:pt x="19918" y="7293"/>
                </a:cubicBezTo>
              </a:path>
              <a:path w="1812" h="4541">
                <a:moveTo>
                  <a:pt x="19224" y="7913"/>
                </a:moveTo>
                <a:cubicBezTo>
                  <a:pt x="19427" y="7819"/>
                  <a:pt x="19651" y="7764"/>
                  <a:pt x="19869" y="7714"/>
                </a:cubicBezTo>
                <a:cubicBezTo>
                  <a:pt x="20023" y="7679"/>
                  <a:pt x="20188" y="7620"/>
                  <a:pt x="20340" y="75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61040" y="1285920"/>
            <a:ext cx="608040" cy="1071360"/>
          </a:xfrm>
          <a:custGeom>
            <a:avLst/>
            <a:gdLst/>
            <a:ahLst/>
            <a:rect l="l" t="t" r="r" b="b"/>
            <a:pathLst>
              <a:path w="1688" h="2977">
                <a:moveTo>
                  <a:pt x="17760" y="4539"/>
                </a:moveTo>
                <a:cubicBezTo>
                  <a:pt x="17693" y="4590"/>
                  <a:pt x="17690" y="4694"/>
                  <a:pt x="17686" y="4787"/>
                </a:cubicBezTo>
                <a:cubicBezTo>
                  <a:pt x="17684" y="4834"/>
                  <a:pt x="17694" y="4960"/>
                  <a:pt x="17735" y="4986"/>
                </a:cubicBezTo>
                <a:cubicBezTo>
                  <a:pt x="17769" y="5007"/>
                  <a:pt x="17772" y="5046"/>
                  <a:pt x="17810" y="5060"/>
                </a:cubicBezTo>
                <a:cubicBezTo>
                  <a:pt x="17896" y="5092"/>
                  <a:pt x="17990" y="5036"/>
                  <a:pt x="18033" y="4961"/>
                </a:cubicBezTo>
                <a:cubicBezTo>
                  <a:pt x="18062" y="4911"/>
                  <a:pt x="18081" y="4771"/>
                  <a:pt x="18058" y="4713"/>
                </a:cubicBezTo>
                <a:cubicBezTo>
                  <a:pt x="18040" y="4666"/>
                  <a:pt x="18032" y="4616"/>
                  <a:pt x="18008" y="4564"/>
                </a:cubicBezTo>
                <a:cubicBezTo>
                  <a:pt x="17988" y="4521"/>
                  <a:pt x="17937" y="4477"/>
                  <a:pt x="17884" y="4465"/>
                </a:cubicBezTo>
                <a:cubicBezTo>
                  <a:pt x="17868" y="4465"/>
                  <a:pt x="17851" y="4465"/>
                  <a:pt x="17835" y="4465"/>
                </a:cubicBezTo>
              </a:path>
              <a:path w="1688" h="2977">
                <a:moveTo>
                  <a:pt x="17388" y="3671"/>
                </a:moveTo>
                <a:cubicBezTo>
                  <a:pt x="17473" y="3614"/>
                  <a:pt x="17584" y="3591"/>
                  <a:pt x="17686" y="3572"/>
                </a:cubicBezTo>
                <a:cubicBezTo>
                  <a:pt x="17694" y="3572"/>
                  <a:pt x="17703" y="3572"/>
                  <a:pt x="17711" y="3572"/>
                </a:cubicBezTo>
                <a:cubicBezTo>
                  <a:pt x="17711" y="3691"/>
                  <a:pt x="17693" y="3802"/>
                  <a:pt x="17686" y="3919"/>
                </a:cubicBezTo>
                <a:cubicBezTo>
                  <a:pt x="17686" y="3927"/>
                  <a:pt x="17686" y="3936"/>
                  <a:pt x="17686" y="3944"/>
                </a:cubicBezTo>
              </a:path>
              <a:path w="1688" h="2977">
                <a:moveTo>
                  <a:pt x="17264" y="5482"/>
                </a:moveTo>
                <a:cubicBezTo>
                  <a:pt x="17258" y="5528"/>
                  <a:pt x="17248" y="5562"/>
                  <a:pt x="17239" y="5606"/>
                </a:cubicBezTo>
                <a:cubicBezTo>
                  <a:pt x="17324" y="5597"/>
                  <a:pt x="17403" y="5577"/>
                  <a:pt x="17487" y="5556"/>
                </a:cubicBezTo>
              </a:path>
              <a:path w="1688" h="2977">
                <a:moveTo>
                  <a:pt x="17438" y="5308"/>
                </a:moveTo>
                <a:cubicBezTo>
                  <a:pt x="17455" y="5447"/>
                  <a:pt x="17462" y="5583"/>
                  <a:pt x="17462" y="5730"/>
                </a:cubicBezTo>
                <a:cubicBezTo>
                  <a:pt x="17462" y="5796"/>
                  <a:pt x="17462" y="5945"/>
                  <a:pt x="17462" y="5879"/>
                </a:cubicBezTo>
              </a:path>
              <a:path w="1688" h="2977">
                <a:moveTo>
                  <a:pt x="18132" y="5432"/>
                </a:moveTo>
                <a:cubicBezTo>
                  <a:pt x="18119" y="5370"/>
                  <a:pt x="18099" y="5330"/>
                  <a:pt x="18033" y="5308"/>
                </a:cubicBezTo>
                <a:cubicBezTo>
                  <a:pt x="17956" y="5282"/>
                  <a:pt x="17821" y="5377"/>
                  <a:pt x="17810" y="5457"/>
                </a:cubicBezTo>
                <a:cubicBezTo>
                  <a:pt x="17818" y="5474"/>
                  <a:pt x="17827" y="5490"/>
                  <a:pt x="17835" y="5507"/>
                </a:cubicBezTo>
                <a:cubicBezTo>
                  <a:pt x="17881" y="5522"/>
                  <a:pt x="17995" y="5522"/>
                  <a:pt x="18033" y="5457"/>
                </a:cubicBezTo>
                <a:cubicBezTo>
                  <a:pt x="18052" y="5400"/>
                  <a:pt x="18061" y="5393"/>
                  <a:pt x="18058" y="5358"/>
                </a:cubicBezTo>
                <a:cubicBezTo>
                  <a:pt x="18058" y="5469"/>
                  <a:pt x="18020" y="5669"/>
                  <a:pt x="18033" y="5755"/>
                </a:cubicBezTo>
                <a:cubicBezTo>
                  <a:pt x="18041" y="5763"/>
                  <a:pt x="18050" y="5771"/>
                  <a:pt x="18058" y="5779"/>
                </a:cubicBezTo>
              </a:path>
              <a:path w="1688" h="2977">
                <a:moveTo>
                  <a:pt x="17115" y="6102"/>
                </a:moveTo>
                <a:cubicBezTo>
                  <a:pt x="17182" y="5991"/>
                  <a:pt x="17357" y="5962"/>
                  <a:pt x="17487" y="5953"/>
                </a:cubicBezTo>
                <a:cubicBezTo>
                  <a:pt x="17763" y="5935"/>
                  <a:pt x="18058" y="5952"/>
                  <a:pt x="18331" y="5904"/>
                </a:cubicBezTo>
                <a:cubicBezTo>
                  <a:pt x="18371" y="5884"/>
                  <a:pt x="18377" y="5875"/>
                  <a:pt x="18405" y="5879"/>
                </a:cubicBezTo>
              </a:path>
              <a:path w="1688" h="2977">
                <a:moveTo>
                  <a:pt x="18107" y="6152"/>
                </a:moveTo>
                <a:cubicBezTo>
                  <a:pt x="18107" y="6072"/>
                  <a:pt x="18107" y="6424"/>
                  <a:pt x="18107" y="6424"/>
                </a:cubicBezTo>
                <a:cubicBezTo>
                  <a:pt x="18107" y="6465"/>
                  <a:pt x="18107" y="6507"/>
                  <a:pt x="18107" y="6548"/>
                </a:cubicBezTo>
              </a:path>
              <a:path w="1688" h="2977">
                <a:moveTo>
                  <a:pt x="18455" y="4440"/>
                </a:moveTo>
                <a:cubicBezTo>
                  <a:pt x="18410" y="4455"/>
                  <a:pt x="18328" y="4622"/>
                  <a:pt x="18331" y="4738"/>
                </a:cubicBezTo>
                <a:cubicBezTo>
                  <a:pt x="18339" y="4763"/>
                  <a:pt x="18347" y="4787"/>
                  <a:pt x="18355" y="4812"/>
                </a:cubicBezTo>
                <a:cubicBezTo>
                  <a:pt x="18470" y="4850"/>
                  <a:pt x="18554" y="4826"/>
                  <a:pt x="18628" y="4713"/>
                </a:cubicBezTo>
                <a:cubicBezTo>
                  <a:pt x="18697" y="4607"/>
                  <a:pt x="18678" y="4527"/>
                  <a:pt x="18604" y="4440"/>
                </a:cubicBezTo>
                <a:cubicBezTo>
                  <a:pt x="18574" y="4410"/>
                  <a:pt x="18560" y="4405"/>
                  <a:pt x="18529" y="4440"/>
                </a:cubicBezTo>
              </a:path>
              <a:path w="1688" h="2977">
                <a:moveTo>
                  <a:pt x="18479" y="5035"/>
                </a:moveTo>
                <a:cubicBezTo>
                  <a:pt x="18479" y="4998"/>
                  <a:pt x="18508" y="5287"/>
                  <a:pt x="18504" y="5333"/>
                </a:cubicBezTo>
                <a:cubicBezTo>
                  <a:pt x="18495" y="5429"/>
                  <a:pt x="18462" y="5517"/>
                  <a:pt x="18455" y="5606"/>
                </a:cubicBezTo>
                <a:cubicBezTo>
                  <a:pt x="18451" y="5657"/>
                  <a:pt x="18479" y="5806"/>
                  <a:pt x="18479" y="5755"/>
                </a:cubicBezTo>
                <a:cubicBezTo>
                  <a:pt x="18479" y="5747"/>
                  <a:pt x="18479" y="5738"/>
                  <a:pt x="18479" y="5730"/>
                </a:cubicBezTo>
              </a:path>
              <a:path w="1688" h="2977">
                <a:moveTo>
                  <a:pt x="18604" y="6003"/>
                </a:moveTo>
                <a:cubicBezTo>
                  <a:pt x="18546" y="6018"/>
                  <a:pt x="18492" y="6089"/>
                  <a:pt x="18479" y="6152"/>
                </a:cubicBezTo>
                <a:cubicBezTo>
                  <a:pt x="18464" y="6221"/>
                  <a:pt x="18464" y="6309"/>
                  <a:pt x="18529" y="6350"/>
                </a:cubicBezTo>
                <a:cubicBezTo>
                  <a:pt x="18612" y="6403"/>
                  <a:pt x="18693" y="6374"/>
                  <a:pt x="18752" y="6300"/>
                </a:cubicBezTo>
                <a:cubicBezTo>
                  <a:pt x="18807" y="6231"/>
                  <a:pt x="18844" y="6080"/>
                  <a:pt x="18777" y="6003"/>
                </a:cubicBezTo>
                <a:cubicBezTo>
                  <a:pt x="18755" y="5977"/>
                  <a:pt x="18658" y="5956"/>
                  <a:pt x="18628" y="5953"/>
                </a:cubicBezTo>
                <a:cubicBezTo>
                  <a:pt x="18604" y="5953"/>
                  <a:pt x="18596" y="5953"/>
                  <a:pt x="18604" y="59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16880" y="1419120"/>
            <a:ext cx="135000" cy="169920"/>
          </a:xfrm>
          <a:custGeom>
            <a:avLst/>
            <a:gdLst/>
            <a:ahLst/>
            <a:rect l="l" t="t" r="r" b="b"/>
            <a:pathLst>
              <a:path w="373" h="472">
                <a:moveTo>
                  <a:pt x="21282" y="3944"/>
                </a:moveTo>
                <a:cubicBezTo>
                  <a:pt x="21229" y="4069"/>
                  <a:pt x="21130" y="4139"/>
                  <a:pt x="21183" y="4291"/>
                </a:cubicBezTo>
                <a:cubicBezTo>
                  <a:pt x="21231" y="4430"/>
                  <a:pt x="21396" y="4467"/>
                  <a:pt x="21481" y="4341"/>
                </a:cubicBezTo>
                <a:cubicBezTo>
                  <a:pt x="21561" y="4222"/>
                  <a:pt x="21561" y="4085"/>
                  <a:pt x="21431" y="4018"/>
                </a:cubicBezTo>
                <a:cubicBezTo>
                  <a:pt x="21339" y="3971"/>
                  <a:pt x="21329" y="4003"/>
                  <a:pt x="21282" y="40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35880" y="1633680"/>
            <a:ext cx="841320" cy="1992240"/>
          </a:xfrm>
          <a:custGeom>
            <a:avLst/>
            <a:gdLst/>
            <a:ahLst/>
            <a:rect l="l" t="t" r="r" b="b"/>
            <a:pathLst>
              <a:path w="2333" h="5533">
                <a:moveTo>
                  <a:pt x="20935" y="4614"/>
                </a:moveTo>
                <a:cubicBezTo>
                  <a:pt x="20951" y="4705"/>
                  <a:pt x="20968" y="4794"/>
                  <a:pt x="20985" y="4887"/>
                </a:cubicBezTo>
                <a:cubicBezTo>
                  <a:pt x="21036" y="5167"/>
                  <a:pt x="21103" y="5457"/>
                  <a:pt x="21183" y="5730"/>
                </a:cubicBezTo>
                <a:cubicBezTo>
                  <a:pt x="21241" y="5927"/>
                  <a:pt x="21277" y="6128"/>
                  <a:pt x="21332" y="6325"/>
                </a:cubicBezTo>
                <a:cubicBezTo>
                  <a:pt x="21397" y="6557"/>
                  <a:pt x="21479" y="6793"/>
                  <a:pt x="21555" y="7020"/>
                </a:cubicBezTo>
                <a:cubicBezTo>
                  <a:pt x="21604" y="7167"/>
                  <a:pt x="21660" y="7302"/>
                  <a:pt x="21729" y="7441"/>
                </a:cubicBezTo>
                <a:cubicBezTo>
                  <a:pt x="21796" y="7575"/>
                  <a:pt x="21876" y="7722"/>
                  <a:pt x="21927" y="7863"/>
                </a:cubicBezTo>
                <a:cubicBezTo>
                  <a:pt x="21967" y="7972"/>
                  <a:pt x="22000" y="8105"/>
                  <a:pt x="22051" y="8210"/>
                </a:cubicBezTo>
                <a:cubicBezTo>
                  <a:pt x="22102" y="8316"/>
                  <a:pt x="22134" y="8420"/>
                  <a:pt x="22175" y="8533"/>
                </a:cubicBezTo>
                <a:cubicBezTo>
                  <a:pt x="22202" y="8609"/>
                  <a:pt x="22221" y="8714"/>
                  <a:pt x="22250" y="8781"/>
                </a:cubicBezTo>
                <a:cubicBezTo>
                  <a:pt x="22275" y="8840"/>
                  <a:pt x="22305" y="8889"/>
                  <a:pt x="22324" y="8954"/>
                </a:cubicBezTo>
                <a:cubicBezTo>
                  <a:pt x="22334" y="8987"/>
                  <a:pt x="22345" y="9022"/>
                  <a:pt x="22349" y="9054"/>
                </a:cubicBezTo>
                <a:cubicBezTo>
                  <a:pt x="22354" y="9095"/>
                  <a:pt x="22346" y="9137"/>
                  <a:pt x="22349" y="9178"/>
                </a:cubicBezTo>
              </a:path>
              <a:path w="2333" h="5533">
                <a:moveTo>
                  <a:pt x="21332" y="4539"/>
                </a:moveTo>
                <a:cubicBezTo>
                  <a:pt x="21361" y="4651"/>
                  <a:pt x="21393" y="4751"/>
                  <a:pt x="21431" y="4862"/>
                </a:cubicBezTo>
                <a:cubicBezTo>
                  <a:pt x="21494" y="5045"/>
                  <a:pt x="21559" y="5244"/>
                  <a:pt x="21605" y="5432"/>
                </a:cubicBezTo>
                <a:cubicBezTo>
                  <a:pt x="21660" y="5655"/>
                  <a:pt x="21695" y="5879"/>
                  <a:pt x="21754" y="6102"/>
                </a:cubicBezTo>
                <a:cubicBezTo>
                  <a:pt x="21815" y="6333"/>
                  <a:pt x="21877" y="6564"/>
                  <a:pt x="21927" y="6796"/>
                </a:cubicBezTo>
                <a:cubicBezTo>
                  <a:pt x="21965" y="6969"/>
                  <a:pt x="22027" y="7126"/>
                  <a:pt x="22076" y="7293"/>
                </a:cubicBezTo>
                <a:cubicBezTo>
                  <a:pt x="22137" y="7500"/>
                  <a:pt x="22176" y="7709"/>
                  <a:pt x="22250" y="7913"/>
                </a:cubicBezTo>
                <a:cubicBezTo>
                  <a:pt x="22296" y="8038"/>
                  <a:pt x="22349" y="8161"/>
                  <a:pt x="22399" y="8285"/>
                </a:cubicBezTo>
                <a:cubicBezTo>
                  <a:pt x="22469" y="8459"/>
                  <a:pt x="22554" y="8619"/>
                  <a:pt x="22647" y="8781"/>
                </a:cubicBezTo>
                <a:cubicBezTo>
                  <a:pt x="22675" y="8829"/>
                  <a:pt x="22699" y="8886"/>
                  <a:pt x="22721" y="8930"/>
                </a:cubicBezTo>
                <a:cubicBezTo>
                  <a:pt x="22757" y="9000"/>
                  <a:pt x="22786" y="9095"/>
                  <a:pt x="22820" y="9153"/>
                </a:cubicBezTo>
                <a:cubicBezTo>
                  <a:pt x="22860" y="9223"/>
                  <a:pt x="22910" y="9276"/>
                  <a:pt x="22944" y="9351"/>
                </a:cubicBezTo>
                <a:cubicBezTo>
                  <a:pt x="22976" y="9420"/>
                  <a:pt x="22990" y="9482"/>
                  <a:pt x="23019" y="9550"/>
                </a:cubicBezTo>
                <a:cubicBezTo>
                  <a:pt x="23049" y="9619"/>
                  <a:pt x="23086" y="9694"/>
                  <a:pt x="23118" y="9773"/>
                </a:cubicBezTo>
                <a:cubicBezTo>
                  <a:pt x="23142" y="9831"/>
                  <a:pt x="23168" y="9895"/>
                  <a:pt x="23192" y="9947"/>
                </a:cubicBezTo>
                <a:cubicBezTo>
                  <a:pt x="23206" y="9979"/>
                  <a:pt x="23221" y="9979"/>
                  <a:pt x="23242" y="10021"/>
                </a:cubicBezTo>
                <a:cubicBezTo>
                  <a:pt x="23258" y="10053"/>
                  <a:pt x="23251" y="10039"/>
                  <a:pt x="23267" y="100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60680" y="3527280"/>
            <a:ext cx="4581360" cy="490680"/>
          </a:xfrm>
          <a:custGeom>
            <a:avLst/>
            <a:gdLst/>
            <a:ahLst/>
            <a:rect l="l" t="t" r="r" b="b"/>
            <a:pathLst>
              <a:path w="12725" h="1365">
                <a:moveTo>
                  <a:pt x="4738" y="10468"/>
                </a:moveTo>
                <a:cubicBezTo>
                  <a:pt x="4651" y="10700"/>
                  <a:pt x="4606" y="10759"/>
                  <a:pt x="4663" y="10988"/>
                </a:cubicBezTo>
                <a:cubicBezTo>
                  <a:pt x="4847" y="10923"/>
                  <a:pt x="5207" y="10749"/>
                  <a:pt x="5035" y="10468"/>
                </a:cubicBezTo>
                <a:cubicBezTo>
                  <a:pt x="4917" y="10397"/>
                  <a:pt x="4883" y="10372"/>
                  <a:pt x="4787" y="10393"/>
                </a:cubicBezTo>
              </a:path>
              <a:path w="12725" h="1365">
                <a:moveTo>
                  <a:pt x="5457" y="10443"/>
                </a:moveTo>
                <a:cubicBezTo>
                  <a:pt x="5601" y="10414"/>
                  <a:pt x="5662" y="10397"/>
                  <a:pt x="5755" y="10344"/>
                </a:cubicBezTo>
              </a:path>
              <a:path w="12725" h="1365">
                <a:moveTo>
                  <a:pt x="6747" y="10368"/>
                </a:moveTo>
                <a:cubicBezTo>
                  <a:pt x="6943" y="10339"/>
                  <a:pt x="7615" y="10120"/>
                  <a:pt x="7789" y="10269"/>
                </a:cubicBezTo>
                <a:cubicBezTo>
                  <a:pt x="7781" y="10294"/>
                  <a:pt x="7772" y="10319"/>
                  <a:pt x="7764" y="10344"/>
                </a:cubicBezTo>
              </a:path>
              <a:path w="12725" h="1365">
                <a:moveTo>
                  <a:pt x="6672" y="10666"/>
                </a:moveTo>
                <a:cubicBezTo>
                  <a:pt x="6640" y="10832"/>
                  <a:pt x="6600" y="10999"/>
                  <a:pt x="6573" y="11162"/>
                </a:cubicBezTo>
              </a:path>
              <a:path w="12725" h="1365">
                <a:moveTo>
                  <a:pt x="5482" y="10740"/>
                </a:moveTo>
                <a:cubicBezTo>
                  <a:pt x="5399" y="10886"/>
                  <a:pt x="5374" y="10912"/>
                  <a:pt x="5358" y="11013"/>
                </a:cubicBezTo>
              </a:path>
              <a:path w="12725" h="1365">
                <a:moveTo>
                  <a:pt x="5358" y="11013"/>
                </a:moveTo>
                <a:lnTo>
                  <a:pt x="5358" y="11013"/>
                </a:lnTo>
              </a:path>
              <a:path w="12725" h="1365">
                <a:moveTo>
                  <a:pt x="5705" y="10716"/>
                </a:moveTo>
                <a:cubicBezTo>
                  <a:pt x="5682" y="10873"/>
                  <a:pt x="5677" y="10915"/>
                  <a:pt x="5655" y="11013"/>
                </a:cubicBezTo>
              </a:path>
              <a:path w="12725" h="1365">
                <a:moveTo>
                  <a:pt x="5829" y="10691"/>
                </a:moveTo>
                <a:cubicBezTo>
                  <a:pt x="5829" y="10809"/>
                  <a:pt x="5815" y="10830"/>
                  <a:pt x="5854" y="10889"/>
                </a:cubicBezTo>
                <a:cubicBezTo>
                  <a:pt x="5896" y="10871"/>
                  <a:pt x="6167" y="10630"/>
                  <a:pt x="5978" y="10592"/>
                </a:cubicBezTo>
                <a:cubicBezTo>
                  <a:pt x="5937" y="10600"/>
                  <a:pt x="5895" y="10608"/>
                  <a:pt x="5854" y="10616"/>
                </a:cubicBezTo>
              </a:path>
              <a:path w="12725" h="1365">
                <a:moveTo>
                  <a:pt x="7888" y="10319"/>
                </a:moveTo>
                <a:cubicBezTo>
                  <a:pt x="8047" y="10287"/>
                  <a:pt x="8123" y="10267"/>
                  <a:pt x="8235" y="10220"/>
                </a:cubicBezTo>
              </a:path>
              <a:path w="12725" h="1365">
                <a:moveTo>
                  <a:pt x="8235" y="10220"/>
                </a:moveTo>
                <a:lnTo>
                  <a:pt x="8235" y="10220"/>
                </a:lnTo>
              </a:path>
              <a:path w="12725" h="1365">
                <a:moveTo>
                  <a:pt x="11162" y="10344"/>
                </a:moveTo>
                <a:cubicBezTo>
                  <a:pt x="11278" y="10323"/>
                  <a:pt x="11307" y="10298"/>
                  <a:pt x="11385" y="10220"/>
                </a:cubicBezTo>
                <a:cubicBezTo>
                  <a:pt x="11272" y="10182"/>
                  <a:pt x="11207" y="10179"/>
                  <a:pt x="11112" y="10220"/>
                </a:cubicBezTo>
              </a:path>
              <a:path w="12725" h="1365">
                <a:moveTo>
                  <a:pt x="14957" y="9872"/>
                </a:moveTo>
                <a:cubicBezTo>
                  <a:pt x="14957" y="9924"/>
                  <a:pt x="14958" y="9939"/>
                  <a:pt x="14982" y="9872"/>
                </a:cubicBezTo>
              </a:path>
              <a:path w="12725" h="1365">
                <a:moveTo>
                  <a:pt x="17066" y="9823"/>
                </a:moveTo>
                <a:cubicBezTo>
                  <a:pt x="17199" y="9823"/>
                  <a:pt x="17249" y="9822"/>
                  <a:pt x="17338" y="97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90760" y="3375000"/>
            <a:ext cx="581040" cy="581040"/>
          </a:xfrm>
          <a:custGeom>
            <a:avLst/>
            <a:gdLst/>
            <a:ahLst/>
            <a:rect l="l" t="t" r="r" b="b"/>
            <a:pathLst>
              <a:path w="1614" h="1613">
                <a:moveTo>
                  <a:pt x="4887" y="9525"/>
                </a:moveTo>
                <a:cubicBezTo>
                  <a:pt x="4873" y="9468"/>
                  <a:pt x="4798" y="9394"/>
                  <a:pt x="4738" y="9376"/>
                </a:cubicBezTo>
                <a:cubicBezTo>
                  <a:pt x="4646" y="9348"/>
                  <a:pt x="4488" y="9424"/>
                  <a:pt x="4440" y="9500"/>
                </a:cubicBezTo>
                <a:cubicBezTo>
                  <a:pt x="4391" y="9621"/>
                  <a:pt x="4375" y="9659"/>
                  <a:pt x="4390" y="9748"/>
                </a:cubicBezTo>
                <a:cubicBezTo>
                  <a:pt x="4575" y="9782"/>
                  <a:pt x="4650" y="9691"/>
                  <a:pt x="4738" y="9525"/>
                </a:cubicBezTo>
                <a:cubicBezTo>
                  <a:pt x="4746" y="9500"/>
                  <a:pt x="4754" y="9476"/>
                  <a:pt x="4762" y="9451"/>
                </a:cubicBezTo>
                <a:cubicBezTo>
                  <a:pt x="4762" y="9626"/>
                  <a:pt x="4748" y="9797"/>
                  <a:pt x="4738" y="9971"/>
                </a:cubicBezTo>
                <a:cubicBezTo>
                  <a:pt x="4738" y="10046"/>
                  <a:pt x="4738" y="10054"/>
                  <a:pt x="4738" y="10096"/>
                </a:cubicBezTo>
              </a:path>
              <a:path w="1614" h="1613">
                <a:moveTo>
                  <a:pt x="4142" y="10269"/>
                </a:moveTo>
                <a:cubicBezTo>
                  <a:pt x="4498" y="10185"/>
                  <a:pt x="4843" y="10130"/>
                  <a:pt x="5209" y="10120"/>
                </a:cubicBezTo>
                <a:cubicBezTo>
                  <a:pt x="5217" y="10120"/>
                  <a:pt x="5226" y="10120"/>
                  <a:pt x="5234" y="10120"/>
                </a:cubicBezTo>
              </a:path>
              <a:path w="1614" h="1613">
                <a:moveTo>
                  <a:pt x="4415" y="10319"/>
                </a:moveTo>
                <a:cubicBezTo>
                  <a:pt x="4415" y="10532"/>
                  <a:pt x="4388" y="10728"/>
                  <a:pt x="4366" y="10939"/>
                </a:cubicBezTo>
                <a:cubicBezTo>
                  <a:pt x="4366" y="10955"/>
                  <a:pt x="4366" y="10972"/>
                  <a:pt x="4366" y="10988"/>
                </a:cubicBezTo>
              </a:path>
              <a:path w="1614" h="1613">
                <a:moveTo>
                  <a:pt x="5457" y="10244"/>
                </a:moveTo>
                <a:cubicBezTo>
                  <a:pt x="5568" y="10231"/>
                  <a:pt x="5653" y="10199"/>
                  <a:pt x="5755" y="10220"/>
                </a:cubicBezTo>
              </a:path>
              <a:path w="1614" h="1613">
                <a:moveTo>
                  <a:pt x="5383" y="9649"/>
                </a:moveTo>
                <a:cubicBezTo>
                  <a:pt x="5362" y="9659"/>
                  <a:pt x="5437" y="9808"/>
                  <a:pt x="5457" y="9872"/>
                </a:cubicBezTo>
              </a:path>
              <a:path w="1614" h="1613">
                <a:moveTo>
                  <a:pt x="5432" y="10716"/>
                </a:moveTo>
                <a:cubicBezTo>
                  <a:pt x="5461" y="10781"/>
                  <a:pt x="5457" y="10872"/>
                  <a:pt x="5531" y="108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00200" y="3633840"/>
            <a:ext cx="473040" cy="322200"/>
          </a:xfrm>
          <a:custGeom>
            <a:avLst/>
            <a:gdLst/>
            <a:ahLst/>
            <a:rect l="l" t="t" r="r" b="b"/>
            <a:pathLst>
              <a:path w="1316" h="893">
                <a:moveTo>
                  <a:pt x="7045" y="10542"/>
                </a:moveTo>
                <a:cubicBezTo>
                  <a:pt x="6958" y="10758"/>
                  <a:pt x="6943" y="10777"/>
                  <a:pt x="7020" y="10988"/>
                </a:cubicBezTo>
                <a:cubicBezTo>
                  <a:pt x="7110" y="10967"/>
                  <a:pt x="7561" y="10741"/>
                  <a:pt x="7293" y="10592"/>
                </a:cubicBezTo>
                <a:cubicBezTo>
                  <a:pt x="7157" y="10592"/>
                  <a:pt x="7119" y="10586"/>
                  <a:pt x="7045" y="10641"/>
                </a:cubicBezTo>
              </a:path>
              <a:path w="1316" h="893">
                <a:moveTo>
                  <a:pt x="7665" y="10517"/>
                </a:moveTo>
                <a:cubicBezTo>
                  <a:pt x="7574" y="10719"/>
                  <a:pt x="7544" y="10771"/>
                  <a:pt x="7541" y="10914"/>
                </a:cubicBezTo>
                <a:cubicBezTo>
                  <a:pt x="7645" y="10909"/>
                  <a:pt x="8187" y="10708"/>
                  <a:pt x="7888" y="10517"/>
                </a:cubicBezTo>
                <a:cubicBezTo>
                  <a:pt x="7814" y="10509"/>
                  <a:pt x="7739" y="10500"/>
                  <a:pt x="7665" y="10492"/>
                </a:cubicBezTo>
              </a:path>
              <a:path w="1316" h="893">
                <a:moveTo>
                  <a:pt x="7863" y="10170"/>
                </a:moveTo>
                <a:cubicBezTo>
                  <a:pt x="8000" y="10137"/>
                  <a:pt x="8121" y="10109"/>
                  <a:pt x="8260" y="100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84720" y="3438360"/>
            <a:ext cx="615960" cy="392400"/>
          </a:xfrm>
          <a:custGeom>
            <a:avLst/>
            <a:gdLst/>
            <a:ahLst/>
            <a:rect l="l" t="t" r="r" b="b"/>
            <a:pathLst>
              <a:path w="1712" h="1092">
                <a:moveTo>
                  <a:pt x="9872" y="10046"/>
                </a:moveTo>
                <a:cubicBezTo>
                  <a:pt x="9783" y="9918"/>
                  <a:pt x="9655" y="9759"/>
                  <a:pt x="9500" y="9922"/>
                </a:cubicBezTo>
                <a:cubicBezTo>
                  <a:pt x="9410" y="10081"/>
                  <a:pt x="9377" y="10121"/>
                  <a:pt x="9401" y="10244"/>
                </a:cubicBezTo>
                <a:cubicBezTo>
                  <a:pt x="9651" y="10233"/>
                  <a:pt x="9707" y="10175"/>
                  <a:pt x="9847" y="9947"/>
                </a:cubicBezTo>
                <a:cubicBezTo>
                  <a:pt x="9796" y="10179"/>
                  <a:pt x="9778" y="10414"/>
                  <a:pt x="9699" y="10641"/>
                </a:cubicBezTo>
                <a:cubicBezTo>
                  <a:pt x="9699" y="10633"/>
                  <a:pt x="9699" y="10624"/>
                  <a:pt x="9699" y="10616"/>
                </a:cubicBezTo>
              </a:path>
              <a:path w="1712" h="1092">
                <a:moveTo>
                  <a:pt x="10269" y="9947"/>
                </a:moveTo>
                <a:cubicBezTo>
                  <a:pt x="10116" y="10175"/>
                  <a:pt x="10055" y="10253"/>
                  <a:pt x="10046" y="10517"/>
                </a:cubicBezTo>
                <a:cubicBezTo>
                  <a:pt x="10249" y="10473"/>
                  <a:pt x="10631" y="10300"/>
                  <a:pt x="10443" y="9996"/>
                </a:cubicBezTo>
                <a:cubicBezTo>
                  <a:pt x="10319" y="9795"/>
                  <a:pt x="10162" y="9967"/>
                  <a:pt x="10120" y="10046"/>
                </a:cubicBezTo>
              </a:path>
              <a:path w="1712" h="1092">
                <a:moveTo>
                  <a:pt x="10864" y="9550"/>
                </a:moveTo>
                <a:cubicBezTo>
                  <a:pt x="10768" y="9667"/>
                  <a:pt x="10737" y="9699"/>
                  <a:pt x="10716" y="9847"/>
                </a:cubicBezTo>
                <a:cubicBezTo>
                  <a:pt x="10858" y="9804"/>
                  <a:pt x="10818" y="9721"/>
                  <a:pt x="10790" y="9575"/>
                </a:cubicBezTo>
                <a:cubicBezTo>
                  <a:pt x="11007" y="9575"/>
                  <a:pt x="11135" y="9641"/>
                  <a:pt x="11112" y="9897"/>
                </a:cubicBezTo>
                <a:cubicBezTo>
                  <a:pt x="11090" y="10146"/>
                  <a:pt x="10950" y="10233"/>
                  <a:pt x="10790" y="103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33960" y="3313080"/>
            <a:ext cx="760320" cy="428760"/>
          </a:xfrm>
          <a:custGeom>
            <a:avLst/>
            <a:gdLst/>
            <a:ahLst/>
            <a:rect l="l" t="t" r="r" b="b"/>
            <a:pathLst>
              <a:path w="2109" h="1191">
                <a:moveTo>
                  <a:pt x="14461" y="9699"/>
                </a:moveTo>
                <a:cubicBezTo>
                  <a:pt x="14473" y="9605"/>
                  <a:pt x="14513" y="9544"/>
                  <a:pt x="14536" y="9451"/>
                </a:cubicBezTo>
                <a:cubicBezTo>
                  <a:pt x="14536" y="9434"/>
                  <a:pt x="14536" y="9418"/>
                  <a:pt x="14536" y="9401"/>
                </a:cubicBezTo>
                <a:cubicBezTo>
                  <a:pt x="14377" y="9548"/>
                  <a:pt x="14190" y="9776"/>
                  <a:pt x="14263" y="10021"/>
                </a:cubicBezTo>
                <a:cubicBezTo>
                  <a:pt x="14288" y="10038"/>
                  <a:pt x="14312" y="10054"/>
                  <a:pt x="14337" y="10071"/>
                </a:cubicBezTo>
                <a:cubicBezTo>
                  <a:pt x="14553" y="9967"/>
                  <a:pt x="14794" y="9819"/>
                  <a:pt x="14684" y="9525"/>
                </a:cubicBezTo>
                <a:cubicBezTo>
                  <a:pt x="14596" y="9290"/>
                  <a:pt x="14506" y="9476"/>
                  <a:pt x="14461" y="9550"/>
                </a:cubicBezTo>
              </a:path>
              <a:path w="2109" h="1191">
                <a:moveTo>
                  <a:pt x="15652" y="9475"/>
                </a:moveTo>
                <a:cubicBezTo>
                  <a:pt x="15585" y="9377"/>
                  <a:pt x="15572" y="9232"/>
                  <a:pt x="15429" y="9203"/>
                </a:cubicBezTo>
                <a:cubicBezTo>
                  <a:pt x="15261" y="9169"/>
                  <a:pt x="15217" y="9438"/>
                  <a:pt x="15180" y="9525"/>
                </a:cubicBezTo>
                <a:cubicBezTo>
                  <a:pt x="15349" y="9693"/>
                  <a:pt x="15430" y="9546"/>
                  <a:pt x="15553" y="9351"/>
                </a:cubicBezTo>
                <a:cubicBezTo>
                  <a:pt x="15561" y="9335"/>
                  <a:pt x="15569" y="9318"/>
                  <a:pt x="15577" y="9302"/>
                </a:cubicBezTo>
                <a:cubicBezTo>
                  <a:pt x="15567" y="9510"/>
                  <a:pt x="15550" y="9716"/>
                  <a:pt x="15528" y="9922"/>
                </a:cubicBezTo>
                <a:cubicBezTo>
                  <a:pt x="15528" y="9930"/>
                  <a:pt x="15528" y="9939"/>
                  <a:pt x="15528" y="9947"/>
                </a:cubicBezTo>
              </a:path>
              <a:path w="2109" h="1191">
                <a:moveTo>
                  <a:pt x="14932" y="10170"/>
                </a:moveTo>
                <a:cubicBezTo>
                  <a:pt x="14944" y="10219"/>
                  <a:pt x="14944" y="10220"/>
                  <a:pt x="14957" y="10269"/>
                </a:cubicBezTo>
                <a:cubicBezTo>
                  <a:pt x="14995" y="10414"/>
                  <a:pt x="15100" y="10409"/>
                  <a:pt x="15255" y="10393"/>
                </a:cubicBezTo>
                <a:cubicBezTo>
                  <a:pt x="15329" y="10386"/>
                  <a:pt x="15490" y="10365"/>
                  <a:pt x="15553" y="10319"/>
                </a:cubicBezTo>
                <a:cubicBezTo>
                  <a:pt x="15583" y="10297"/>
                  <a:pt x="15616" y="10255"/>
                  <a:pt x="15652" y="10220"/>
                </a:cubicBezTo>
                <a:cubicBezTo>
                  <a:pt x="15652" y="10195"/>
                  <a:pt x="15652" y="10187"/>
                  <a:pt x="15677" y="10195"/>
                </a:cubicBezTo>
                <a:cubicBezTo>
                  <a:pt x="15703" y="10267"/>
                  <a:pt x="15710" y="10339"/>
                  <a:pt x="15801" y="10368"/>
                </a:cubicBezTo>
                <a:cubicBezTo>
                  <a:pt x="15902" y="10400"/>
                  <a:pt x="16046" y="10347"/>
                  <a:pt x="16148" y="10344"/>
                </a:cubicBezTo>
                <a:cubicBezTo>
                  <a:pt x="16299" y="10339"/>
                  <a:pt x="16295" y="10281"/>
                  <a:pt x="16346" y="10170"/>
                </a:cubicBezTo>
                <a:cubicBezTo>
                  <a:pt x="16355" y="10151"/>
                  <a:pt x="16367" y="10144"/>
                  <a:pt x="16371" y="10096"/>
                </a:cubicBezTo>
                <a:cubicBezTo>
                  <a:pt x="16371" y="10088"/>
                  <a:pt x="16371" y="10079"/>
                  <a:pt x="16371" y="100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43760" y="3286080"/>
            <a:ext cx="812520" cy="339840"/>
          </a:xfrm>
          <a:custGeom>
            <a:avLst/>
            <a:gdLst/>
            <a:ahLst/>
            <a:rect l="l" t="t" r="r" b="b"/>
            <a:pathLst>
              <a:path w="2258" h="944">
                <a:moveTo>
                  <a:pt x="17066" y="9575"/>
                </a:moveTo>
                <a:cubicBezTo>
                  <a:pt x="17144" y="9551"/>
                  <a:pt x="17242" y="9528"/>
                  <a:pt x="17289" y="9575"/>
                </a:cubicBezTo>
              </a:path>
              <a:path w="2258" h="944">
                <a:moveTo>
                  <a:pt x="17959" y="9599"/>
                </a:moveTo>
                <a:cubicBezTo>
                  <a:pt x="18057" y="9515"/>
                  <a:pt x="18040" y="9373"/>
                  <a:pt x="17884" y="9327"/>
                </a:cubicBezTo>
                <a:cubicBezTo>
                  <a:pt x="17745" y="9286"/>
                  <a:pt x="17397" y="9541"/>
                  <a:pt x="17562" y="9649"/>
                </a:cubicBezTo>
                <a:cubicBezTo>
                  <a:pt x="17730" y="9759"/>
                  <a:pt x="17811" y="9550"/>
                  <a:pt x="17884" y="9451"/>
                </a:cubicBezTo>
                <a:cubicBezTo>
                  <a:pt x="17959" y="9550"/>
                  <a:pt x="17897" y="9826"/>
                  <a:pt x="17884" y="9971"/>
                </a:cubicBezTo>
                <a:cubicBezTo>
                  <a:pt x="17858" y="10103"/>
                  <a:pt x="17928" y="9921"/>
                  <a:pt x="17983" y="9798"/>
                </a:cubicBezTo>
              </a:path>
              <a:path w="2258" h="944">
                <a:moveTo>
                  <a:pt x="18231" y="9327"/>
                </a:moveTo>
                <a:cubicBezTo>
                  <a:pt x="18152" y="9572"/>
                  <a:pt x="18038" y="9790"/>
                  <a:pt x="18182" y="9996"/>
                </a:cubicBezTo>
                <a:cubicBezTo>
                  <a:pt x="18342" y="9870"/>
                  <a:pt x="18534" y="9703"/>
                  <a:pt x="18380" y="9475"/>
                </a:cubicBezTo>
                <a:cubicBezTo>
                  <a:pt x="18294" y="9411"/>
                  <a:pt x="18278" y="9386"/>
                  <a:pt x="18207" y="9401"/>
                </a:cubicBezTo>
              </a:path>
              <a:path w="2258" h="944">
                <a:moveTo>
                  <a:pt x="18752" y="9203"/>
                </a:moveTo>
                <a:cubicBezTo>
                  <a:pt x="18648" y="9255"/>
                  <a:pt x="18609" y="9340"/>
                  <a:pt x="18579" y="9451"/>
                </a:cubicBezTo>
                <a:cubicBezTo>
                  <a:pt x="18727" y="9414"/>
                  <a:pt x="18762" y="9355"/>
                  <a:pt x="18752" y="9203"/>
                </a:cubicBezTo>
                <a:cubicBezTo>
                  <a:pt x="18747" y="9125"/>
                  <a:pt x="18862" y="9093"/>
                  <a:pt x="18926" y="9128"/>
                </a:cubicBezTo>
                <a:cubicBezTo>
                  <a:pt x="19172" y="9261"/>
                  <a:pt x="18902" y="9724"/>
                  <a:pt x="18827" y="9897"/>
                </a:cubicBezTo>
                <a:cubicBezTo>
                  <a:pt x="18790" y="9970"/>
                  <a:pt x="18773" y="9975"/>
                  <a:pt x="18777" y="10021"/>
                </a:cubicBezTo>
              </a:path>
              <a:path w="2258" h="944">
                <a:moveTo>
                  <a:pt x="19199" y="9798"/>
                </a:moveTo>
                <a:cubicBezTo>
                  <a:pt x="19151" y="9857"/>
                  <a:pt x="19122" y="9894"/>
                  <a:pt x="19100" y="9971"/>
                </a:cubicBezTo>
                <a:cubicBezTo>
                  <a:pt x="19138" y="9964"/>
                  <a:pt x="19417" y="9841"/>
                  <a:pt x="19298" y="9823"/>
                </a:cubicBezTo>
                <a:cubicBezTo>
                  <a:pt x="19257" y="9823"/>
                  <a:pt x="19215" y="9823"/>
                  <a:pt x="19174" y="98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035920" y="3375000"/>
            <a:ext cx="125280" cy="142920"/>
          </a:xfrm>
          <a:custGeom>
            <a:avLst/>
            <a:gdLst/>
            <a:ahLst/>
            <a:rect l="l" t="t" r="r" b="b"/>
            <a:pathLst>
              <a:path w="348" h="398">
                <a:moveTo>
                  <a:pt x="22473" y="9401"/>
                </a:moveTo>
                <a:cubicBezTo>
                  <a:pt x="22373" y="9401"/>
                  <a:pt x="22379" y="9465"/>
                  <a:pt x="22349" y="9550"/>
                </a:cubicBezTo>
                <a:cubicBezTo>
                  <a:pt x="22334" y="9594"/>
                  <a:pt x="22285" y="9754"/>
                  <a:pt x="22374" y="9773"/>
                </a:cubicBezTo>
                <a:cubicBezTo>
                  <a:pt x="22519" y="9803"/>
                  <a:pt x="22598" y="9720"/>
                  <a:pt x="22647" y="9599"/>
                </a:cubicBezTo>
                <a:cubicBezTo>
                  <a:pt x="22687" y="9500"/>
                  <a:pt x="22659" y="9464"/>
                  <a:pt x="22572" y="9401"/>
                </a:cubicBezTo>
                <a:cubicBezTo>
                  <a:pt x="22524" y="9377"/>
                  <a:pt x="22510" y="9368"/>
                  <a:pt x="22473" y="93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5760" y="2428920"/>
            <a:ext cx="6062400" cy="1446120"/>
          </a:xfrm>
          <a:custGeom>
            <a:avLst/>
            <a:gdLst/>
            <a:ahLst/>
            <a:rect l="l" t="t" r="r" b="b"/>
            <a:pathLst>
              <a:path w="16843" h="4019">
                <a:moveTo>
                  <a:pt x="17959" y="6772"/>
                </a:moveTo>
                <a:cubicBezTo>
                  <a:pt x="18019" y="6767"/>
                  <a:pt x="18052" y="6758"/>
                  <a:pt x="18107" y="6747"/>
                </a:cubicBezTo>
              </a:path>
              <a:path w="16843" h="4019">
                <a:moveTo>
                  <a:pt x="5457" y="9624"/>
                </a:moveTo>
                <a:cubicBezTo>
                  <a:pt x="5413" y="9729"/>
                  <a:pt x="5360" y="9838"/>
                  <a:pt x="5333" y="9947"/>
                </a:cubicBezTo>
              </a:path>
              <a:path w="16843" h="4019">
                <a:moveTo>
                  <a:pt x="5680" y="9575"/>
                </a:moveTo>
                <a:cubicBezTo>
                  <a:pt x="5661" y="9690"/>
                  <a:pt x="5652" y="9706"/>
                  <a:pt x="5655" y="9773"/>
                </a:cubicBezTo>
              </a:path>
              <a:path w="16843" h="4019">
                <a:moveTo>
                  <a:pt x="5829" y="9475"/>
                </a:moveTo>
                <a:cubicBezTo>
                  <a:pt x="5829" y="9508"/>
                  <a:pt x="5829" y="9542"/>
                  <a:pt x="5829" y="9575"/>
                </a:cubicBezTo>
                <a:cubicBezTo>
                  <a:pt x="5955" y="9511"/>
                  <a:pt x="5981" y="9452"/>
                  <a:pt x="5879" y="9401"/>
                </a:cubicBezTo>
              </a:path>
              <a:path w="16843" h="4019">
                <a:moveTo>
                  <a:pt x="1265" y="10740"/>
                </a:moveTo>
                <a:cubicBezTo>
                  <a:pt x="1295" y="10831"/>
                  <a:pt x="1322" y="10659"/>
                  <a:pt x="1339" y="106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939080" y="3517920"/>
            <a:ext cx="581040" cy="339840"/>
          </a:xfrm>
          <a:custGeom>
            <a:avLst/>
            <a:gdLst/>
            <a:ahLst/>
            <a:rect l="l" t="t" r="r" b="b"/>
            <a:pathLst>
              <a:path w="1614" h="944">
                <a:moveTo>
                  <a:pt x="22051" y="9971"/>
                </a:moveTo>
                <a:cubicBezTo>
                  <a:pt x="22136" y="9957"/>
                  <a:pt x="22184" y="9927"/>
                  <a:pt x="22250" y="9872"/>
                </a:cubicBezTo>
                <a:cubicBezTo>
                  <a:pt x="22250" y="9967"/>
                  <a:pt x="22241" y="9980"/>
                  <a:pt x="22175" y="10046"/>
                </a:cubicBezTo>
                <a:cubicBezTo>
                  <a:pt x="22228" y="10046"/>
                  <a:pt x="22286" y="10027"/>
                  <a:pt x="22324" y="10071"/>
                </a:cubicBezTo>
                <a:cubicBezTo>
                  <a:pt x="22391" y="10149"/>
                  <a:pt x="22256" y="10270"/>
                  <a:pt x="22175" y="10244"/>
                </a:cubicBezTo>
                <a:cubicBezTo>
                  <a:pt x="22175" y="10236"/>
                  <a:pt x="22175" y="10228"/>
                  <a:pt x="22175" y="10220"/>
                </a:cubicBezTo>
              </a:path>
              <a:path w="1614" h="944">
                <a:moveTo>
                  <a:pt x="22523" y="9847"/>
                </a:moveTo>
                <a:cubicBezTo>
                  <a:pt x="22515" y="9847"/>
                  <a:pt x="22506" y="9847"/>
                  <a:pt x="22498" y="9847"/>
                </a:cubicBezTo>
                <a:cubicBezTo>
                  <a:pt x="22519" y="9933"/>
                  <a:pt x="22596" y="9879"/>
                  <a:pt x="22671" y="9922"/>
                </a:cubicBezTo>
                <a:cubicBezTo>
                  <a:pt x="22735" y="9959"/>
                  <a:pt x="22628" y="10058"/>
                  <a:pt x="22597" y="10071"/>
                </a:cubicBezTo>
                <a:cubicBezTo>
                  <a:pt x="22589" y="10071"/>
                  <a:pt x="22580" y="10071"/>
                  <a:pt x="22572" y="10071"/>
                </a:cubicBezTo>
              </a:path>
              <a:path w="1614" h="944">
                <a:moveTo>
                  <a:pt x="22523" y="9847"/>
                </a:moveTo>
                <a:cubicBezTo>
                  <a:pt x="22627" y="9791"/>
                  <a:pt x="22619" y="9783"/>
                  <a:pt x="22721" y="9773"/>
                </a:cubicBezTo>
              </a:path>
              <a:path w="1614" h="944">
                <a:moveTo>
                  <a:pt x="22126" y="10418"/>
                </a:moveTo>
                <a:cubicBezTo>
                  <a:pt x="22339" y="10370"/>
                  <a:pt x="22547" y="10286"/>
                  <a:pt x="22746" y="10195"/>
                </a:cubicBezTo>
                <a:cubicBezTo>
                  <a:pt x="22853" y="10141"/>
                  <a:pt x="22855" y="10116"/>
                  <a:pt x="22920" y="10120"/>
                </a:cubicBezTo>
              </a:path>
              <a:path w="1614" h="944">
                <a:moveTo>
                  <a:pt x="22746" y="10344"/>
                </a:moveTo>
                <a:cubicBezTo>
                  <a:pt x="22746" y="10378"/>
                  <a:pt x="22721" y="10503"/>
                  <a:pt x="22771" y="10517"/>
                </a:cubicBezTo>
                <a:cubicBezTo>
                  <a:pt x="22830" y="10533"/>
                  <a:pt x="22960" y="10477"/>
                  <a:pt x="22969" y="10567"/>
                </a:cubicBezTo>
                <a:cubicBezTo>
                  <a:pt x="22972" y="10600"/>
                  <a:pt x="22888" y="10757"/>
                  <a:pt x="22870" y="10716"/>
                </a:cubicBezTo>
                <a:cubicBezTo>
                  <a:pt x="22870" y="10699"/>
                  <a:pt x="22870" y="10683"/>
                  <a:pt x="22870" y="10666"/>
                </a:cubicBezTo>
              </a:path>
              <a:path w="1614" h="944">
                <a:moveTo>
                  <a:pt x="22746" y="10344"/>
                </a:moveTo>
                <a:cubicBezTo>
                  <a:pt x="22823" y="10344"/>
                  <a:pt x="22893" y="10324"/>
                  <a:pt x="22969" y="10319"/>
                </a:cubicBezTo>
                <a:cubicBezTo>
                  <a:pt x="22977" y="10319"/>
                  <a:pt x="22986" y="10319"/>
                  <a:pt x="22994" y="10319"/>
                </a:cubicBezTo>
              </a:path>
              <a:path w="1614" h="944">
                <a:moveTo>
                  <a:pt x="23391" y="10170"/>
                </a:moveTo>
                <a:cubicBezTo>
                  <a:pt x="23350" y="10170"/>
                  <a:pt x="23320" y="10159"/>
                  <a:pt x="23292" y="10195"/>
                </a:cubicBezTo>
                <a:cubicBezTo>
                  <a:pt x="23252" y="10246"/>
                  <a:pt x="23206" y="10353"/>
                  <a:pt x="23242" y="10418"/>
                </a:cubicBezTo>
                <a:cubicBezTo>
                  <a:pt x="23286" y="10497"/>
                  <a:pt x="23453" y="10476"/>
                  <a:pt x="23515" y="10443"/>
                </a:cubicBezTo>
                <a:cubicBezTo>
                  <a:pt x="23531" y="10434"/>
                  <a:pt x="23654" y="10363"/>
                  <a:pt x="23664" y="10344"/>
                </a:cubicBezTo>
                <a:cubicBezTo>
                  <a:pt x="23697" y="10278"/>
                  <a:pt x="23604" y="10216"/>
                  <a:pt x="23564" y="10195"/>
                </a:cubicBezTo>
                <a:cubicBezTo>
                  <a:pt x="23537" y="10181"/>
                  <a:pt x="23473" y="10195"/>
                  <a:pt x="23440" y="101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95360" y="3446640"/>
            <a:ext cx="401760" cy="241200"/>
          </a:xfrm>
          <a:custGeom>
            <a:avLst/>
            <a:gdLst/>
            <a:ahLst/>
            <a:rect l="l" t="t" r="r" b="b"/>
            <a:pathLst>
              <a:path w="1117" h="670">
                <a:moveTo>
                  <a:pt x="6871" y="9699"/>
                </a:moveTo>
                <a:cubicBezTo>
                  <a:pt x="6762" y="9535"/>
                  <a:pt x="6631" y="9524"/>
                  <a:pt x="6474" y="9674"/>
                </a:cubicBezTo>
                <a:cubicBezTo>
                  <a:pt x="6389" y="9802"/>
                  <a:pt x="6350" y="9827"/>
                  <a:pt x="6400" y="9922"/>
                </a:cubicBezTo>
                <a:cubicBezTo>
                  <a:pt x="6607" y="9887"/>
                  <a:pt x="6690" y="9816"/>
                  <a:pt x="6821" y="9649"/>
                </a:cubicBezTo>
                <a:cubicBezTo>
                  <a:pt x="6821" y="9817"/>
                  <a:pt x="6821" y="9978"/>
                  <a:pt x="6796" y="10145"/>
                </a:cubicBezTo>
                <a:cubicBezTo>
                  <a:pt x="6774" y="10236"/>
                  <a:pt x="6763" y="10277"/>
                  <a:pt x="6796" y="10170"/>
                </a:cubicBezTo>
              </a:path>
              <a:path w="1117" h="670">
                <a:moveTo>
                  <a:pt x="7119" y="9624"/>
                </a:moveTo>
                <a:cubicBezTo>
                  <a:pt x="7075" y="9841"/>
                  <a:pt x="7048" y="9893"/>
                  <a:pt x="7119" y="10021"/>
                </a:cubicBezTo>
                <a:cubicBezTo>
                  <a:pt x="7259" y="10028"/>
                  <a:pt x="7705" y="9848"/>
                  <a:pt x="7466" y="9599"/>
                </a:cubicBezTo>
                <a:cubicBezTo>
                  <a:pt x="7319" y="9599"/>
                  <a:pt x="7259" y="9614"/>
                  <a:pt x="7193" y="97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74920" y="4633920"/>
            <a:ext cx="2216160" cy="716040"/>
          </a:xfrm>
          <a:custGeom>
            <a:avLst/>
            <a:gdLst/>
            <a:ahLst/>
            <a:rect l="l" t="t" r="r" b="b"/>
            <a:pathLst>
              <a:path w="6153" h="1985">
                <a:moveTo>
                  <a:pt x="6623" y="12898"/>
                </a:moveTo>
                <a:cubicBezTo>
                  <a:pt x="6623" y="12890"/>
                  <a:pt x="6623" y="12882"/>
                  <a:pt x="6623" y="12874"/>
                </a:cubicBezTo>
              </a:path>
              <a:path w="6153" h="1985">
                <a:moveTo>
                  <a:pt x="6598" y="12898"/>
                </a:moveTo>
                <a:lnTo>
                  <a:pt x="6598" y="12898"/>
                </a:lnTo>
              </a:path>
              <a:path w="6153" h="1985">
                <a:moveTo>
                  <a:pt x="9252" y="13891"/>
                </a:moveTo>
                <a:cubicBezTo>
                  <a:pt x="9396" y="13891"/>
                  <a:pt x="9441" y="13893"/>
                  <a:pt x="9525" y="13841"/>
                </a:cubicBezTo>
              </a:path>
              <a:path w="6153" h="1985">
                <a:moveTo>
                  <a:pt x="7987" y="14288"/>
                </a:moveTo>
                <a:cubicBezTo>
                  <a:pt x="7987" y="14296"/>
                  <a:pt x="7987" y="14304"/>
                  <a:pt x="7987" y="14312"/>
                </a:cubicBezTo>
              </a:path>
              <a:path w="6153" h="1985">
                <a:moveTo>
                  <a:pt x="7987" y="14312"/>
                </a:moveTo>
                <a:lnTo>
                  <a:pt x="7987" y="14312"/>
                </a:lnTo>
              </a:path>
              <a:path w="6153" h="1985">
                <a:moveTo>
                  <a:pt x="7913" y="14858"/>
                </a:moveTo>
                <a:cubicBezTo>
                  <a:pt x="7938" y="14850"/>
                  <a:pt x="7962" y="14841"/>
                  <a:pt x="7987" y="14833"/>
                </a:cubicBezTo>
              </a:path>
              <a:path w="6153" h="1985">
                <a:moveTo>
                  <a:pt x="11237" y="12948"/>
                </a:moveTo>
                <a:cubicBezTo>
                  <a:pt x="11237" y="12956"/>
                  <a:pt x="11237" y="12965"/>
                  <a:pt x="11237" y="12973"/>
                </a:cubicBezTo>
              </a:path>
              <a:path w="6153" h="1985">
                <a:moveTo>
                  <a:pt x="11311" y="13444"/>
                </a:moveTo>
                <a:lnTo>
                  <a:pt x="11311" y="13444"/>
                </a:lnTo>
                <a:lnTo>
                  <a:pt x="11311" y="13444"/>
                </a:lnTo>
              </a:path>
              <a:path w="6153" h="1985">
                <a:moveTo>
                  <a:pt x="11311" y="14337"/>
                </a:moveTo>
                <a:cubicBezTo>
                  <a:pt x="11311" y="14354"/>
                  <a:pt x="11311" y="14370"/>
                  <a:pt x="11311" y="14387"/>
                </a:cubicBezTo>
              </a:path>
              <a:path w="6153" h="1985">
                <a:moveTo>
                  <a:pt x="11187" y="14833"/>
                </a:moveTo>
                <a:lnTo>
                  <a:pt x="11187" y="14833"/>
                </a:lnTo>
              </a:path>
              <a:path w="6153" h="1985">
                <a:moveTo>
                  <a:pt x="12477" y="14139"/>
                </a:moveTo>
                <a:cubicBezTo>
                  <a:pt x="12609" y="14112"/>
                  <a:pt x="12658" y="14103"/>
                  <a:pt x="12750" y="140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43080" y="4527720"/>
            <a:ext cx="3322800" cy="1063440"/>
          </a:xfrm>
          <a:custGeom>
            <a:avLst/>
            <a:gdLst/>
            <a:ahLst/>
            <a:rect l="l" t="t" r="r" b="b"/>
            <a:pathLst>
              <a:path w="9228" h="2953">
                <a:moveTo>
                  <a:pt x="6573" y="12973"/>
                </a:moveTo>
                <a:cubicBezTo>
                  <a:pt x="6547" y="13154"/>
                  <a:pt x="6509" y="13337"/>
                  <a:pt x="6499" y="13519"/>
                </a:cubicBezTo>
                <a:cubicBezTo>
                  <a:pt x="6499" y="13543"/>
                  <a:pt x="6499" y="13551"/>
                  <a:pt x="6499" y="13519"/>
                </a:cubicBezTo>
              </a:path>
              <a:path w="9228" h="2953">
                <a:moveTo>
                  <a:pt x="6921" y="12898"/>
                </a:moveTo>
                <a:cubicBezTo>
                  <a:pt x="6995" y="12849"/>
                  <a:pt x="7020" y="12832"/>
                  <a:pt x="7069" y="12799"/>
                </a:cubicBezTo>
                <a:cubicBezTo>
                  <a:pt x="7221" y="12951"/>
                  <a:pt x="7057" y="13077"/>
                  <a:pt x="6945" y="13221"/>
                </a:cubicBezTo>
                <a:cubicBezTo>
                  <a:pt x="6899" y="13281"/>
                  <a:pt x="6838" y="13329"/>
                  <a:pt x="6821" y="13395"/>
                </a:cubicBezTo>
                <a:cubicBezTo>
                  <a:pt x="6978" y="13395"/>
                  <a:pt x="7136" y="13395"/>
                  <a:pt x="7293" y="13395"/>
                </a:cubicBezTo>
              </a:path>
              <a:path w="9228" h="2953">
                <a:moveTo>
                  <a:pt x="5953" y="13717"/>
                </a:moveTo>
                <a:cubicBezTo>
                  <a:pt x="6408" y="13683"/>
                  <a:pt x="6839" y="13697"/>
                  <a:pt x="7293" y="13742"/>
                </a:cubicBezTo>
                <a:cubicBezTo>
                  <a:pt x="7511" y="13764"/>
                  <a:pt x="7503" y="13771"/>
                  <a:pt x="7665" y="13816"/>
                </a:cubicBezTo>
              </a:path>
              <a:path w="9228" h="2953">
                <a:moveTo>
                  <a:pt x="6127" y="14089"/>
                </a:moveTo>
                <a:cubicBezTo>
                  <a:pt x="6098" y="14291"/>
                  <a:pt x="6058" y="14512"/>
                  <a:pt x="6003" y="14709"/>
                </a:cubicBezTo>
                <a:cubicBezTo>
                  <a:pt x="5963" y="14852"/>
                  <a:pt x="5897" y="14862"/>
                  <a:pt x="6028" y="14833"/>
                </a:cubicBezTo>
              </a:path>
              <a:path w="9228" h="2953">
                <a:moveTo>
                  <a:pt x="6573" y="14238"/>
                </a:moveTo>
                <a:cubicBezTo>
                  <a:pt x="6487" y="14307"/>
                  <a:pt x="6388" y="14505"/>
                  <a:pt x="6400" y="14635"/>
                </a:cubicBezTo>
                <a:cubicBezTo>
                  <a:pt x="6416" y="14668"/>
                  <a:pt x="6433" y="14701"/>
                  <a:pt x="6449" y="14734"/>
                </a:cubicBezTo>
                <a:cubicBezTo>
                  <a:pt x="6657" y="14690"/>
                  <a:pt x="6772" y="14573"/>
                  <a:pt x="6697" y="14337"/>
                </a:cubicBezTo>
                <a:cubicBezTo>
                  <a:pt x="6637" y="14256"/>
                  <a:pt x="6632" y="14233"/>
                  <a:pt x="6573" y="14213"/>
                </a:cubicBezTo>
              </a:path>
              <a:path w="9228" h="2953">
                <a:moveTo>
                  <a:pt x="7169" y="14163"/>
                </a:moveTo>
                <a:cubicBezTo>
                  <a:pt x="7047" y="14245"/>
                  <a:pt x="6973" y="14428"/>
                  <a:pt x="6970" y="14585"/>
                </a:cubicBezTo>
                <a:cubicBezTo>
                  <a:pt x="6978" y="14626"/>
                  <a:pt x="6987" y="14668"/>
                  <a:pt x="6995" y="14709"/>
                </a:cubicBezTo>
                <a:cubicBezTo>
                  <a:pt x="7173" y="14684"/>
                  <a:pt x="7314" y="14606"/>
                  <a:pt x="7293" y="14387"/>
                </a:cubicBezTo>
                <a:cubicBezTo>
                  <a:pt x="7248" y="14298"/>
                  <a:pt x="7242" y="14268"/>
                  <a:pt x="7169" y="14263"/>
                </a:cubicBezTo>
              </a:path>
              <a:path w="9228" h="2953">
                <a:moveTo>
                  <a:pt x="7789" y="13097"/>
                </a:moveTo>
                <a:cubicBezTo>
                  <a:pt x="7834" y="13063"/>
                  <a:pt x="7976" y="13052"/>
                  <a:pt x="8062" y="13047"/>
                </a:cubicBezTo>
                <a:cubicBezTo>
                  <a:pt x="8086" y="13047"/>
                  <a:pt x="8094" y="13047"/>
                  <a:pt x="8086" y="13022"/>
                </a:cubicBezTo>
              </a:path>
              <a:path w="9228" h="2953">
                <a:moveTo>
                  <a:pt x="8384" y="12923"/>
                </a:moveTo>
                <a:cubicBezTo>
                  <a:pt x="8449" y="12901"/>
                  <a:pt x="8464" y="12893"/>
                  <a:pt x="8508" y="12898"/>
                </a:cubicBezTo>
                <a:cubicBezTo>
                  <a:pt x="8574" y="13051"/>
                  <a:pt x="8464" y="13076"/>
                  <a:pt x="8384" y="13196"/>
                </a:cubicBezTo>
                <a:cubicBezTo>
                  <a:pt x="8384" y="13204"/>
                  <a:pt x="8384" y="13213"/>
                  <a:pt x="8384" y="13221"/>
                </a:cubicBezTo>
                <a:cubicBezTo>
                  <a:pt x="8467" y="13221"/>
                  <a:pt x="8549" y="13221"/>
                  <a:pt x="8632" y="13221"/>
                </a:cubicBezTo>
              </a:path>
              <a:path w="9228" h="2953">
                <a:moveTo>
                  <a:pt x="9054" y="13816"/>
                </a:moveTo>
                <a:cubicBezTo>
                  <a:pt x="9165" y="13776"/>
                  <a:pt x="9258" y="13767"/>
                  <a:pt x="9376" y="13767"/>
                </a:cubicBezTo>
              </a:path>
              <a:path w="9228" h="2953">
                <a:moveTo>
                  <a:pt x="10294" y="13047"/>
                </a:moveTo>
                <a:cubicBezTo>
                  <a:pt x="10226" y="13160"/>
                  <a:pt x="10026" y="13457"/>
                  <a:pt x="10120" y="13593"/>
                </a:cubicBezTo>
                <a:cubicBezTo>
                  <a:pt x="10255" y="13787"/>
                  <a:pt x="10524" y="13542"/>
                  <a:pt x="10592" y="13444"/>
                </a:cubicBezTo>
                <a:cubicBezTo>
                  <a:pt x="10456" y="13538"/>
                  <a:pt x="10418" y="13592"/>
                  <a:pt x="10344" y="13742"/>
                </a:cubicBezTo>
              </a:path>
              <a:path w="9228" h="2953">
                <a:moveTo>
                  <a:pt x="7739" y="14560"/>
                </a:moveTo>
                <a:cubicBezTo>
                  <a:pt x="7841" y="14618"/>
                  <a:pt x="7944" y="14628"/>
                  <a:pt x="8062" y="14635"/>
                </a:cubicBezTo>
              </a:path>
              <a:path w="9228" h="2953">
                <a:moveTo>
                  <a:pt x="8533" y="14436"/>
                </a:moveTo>
                <a:cubicBezTo>
                  <a:pt x="8566" y="14388"/>
                  <a:pt x="8630" y="14418"/>
                  <a:pt x="8682" y="14461"/>
                </a:cubicBezTo>
                <a:cubicBezTo>
                  <a:pt x="8690" y="14469"/>
                  <a:pt x="8698" y="14478"/>
                  <a:pt x="8706" y="14486"/>
                </a:cubicBezTo>
                <a:cubicBezTo>
                  <a:pt x="8638" y="14617"/>
                  <a:pt x="8601" y="14669"/>
                  <a:pt x="8483" y="14759"/>
                </a:cubicBezTo>
                <a:cubicBezTo>
                  <a:pt x="8603" y="14752"/>
                  <a:pt x="8711" y="14733"/>
                  <a:pt x="8830" y="14709"/>
                </a:cubicBezTo>
              </a:path>
              <a:path w="9228" h="2953">
                <a:moveTo>
                  <a:pt x="9748" y="14114"/>
                </a:moveTo>
                <a:cubicBezTo>
                  <a:pt x="10060" y="14078"/>
                  <a:pt x="10375" y="14089"/>
                  <a:pt x="10691" y="14089"/>
                </a:cubicBezTo>
                <a:cubicBezTo>
                  <a:pt x="10769" y="14089"/>
                  <a:pt x="10817" y="14074"/>
                  <a:pt x="10765" y="14114"/>
                </a:cubicBezTo>
              </a:path>
              <a:path w="9228" h="2953">
                <a:moveTo>
                  <a:pt x="9798" y="14536"/>
                </a:moveTo>
                <a:cubicBezTo>
                  <a:pt x="9757" y="14592"/>
                  <a:pt x="9723" y="14638"/>
                  <a:pt x="9723" y="14709"/>
                </a:cubicBezTo>
                <a:cubicBezTo>
                  <a:pt x="9814" y="14735"/>
                  <a:pt x="9905" y="14758"/>
                  <a:pt x="9996" y="14784"/>
                </a:cubicBezTo>
                <a:cubicBezTo>
                  <a:pt x="9903" y="14950"/>
                  <a:pt x="9798" y="14937"/>
                  <a:pt x="9649" y="14858"/>
                </a:cubicBezTo>
              </a:path>
              <a:path w="9228" h="2953">
                <a:moveTo>
                  <a:pt x="9872" y="14536"/>
                </a:moveTo>
                <a:cubicBezTo>
                  <a:pt x="10015" y="14516"/>
                  <a:pt x="10149" y="14511"/>
                  <a:pt x="10294" y="14511"/>
                </a:cubicBezTo>
              </a:path>
              <a:path w="9228" h="2953">
                <a:moveTo>
                  <a:pt x="10542" y="14560"/>
                </a:moveTo>
                <a:cubicBezTo>
                  <a:pt x="10415" y="14633"/>
                  <a:pt x="10370" y="14724"/>
                  <a:pt x="10319" y="14858"/>
                </a:cubicBezTo>
                <a:cubicBezTo>
                  <a:pt x="10518" y="14930"/>
                  <a:pt x="10591" y="14850"/>
                  <a:pt x="10716" y="14684"/>
                </a:cubicBezTo>
                <a:cubicBezTo>
                  <a:pt x="10619" y="14588"/>
                  <a:pt x="10591" y="14556"/>
                  <a:pt x="10492" y="14560"/>
                </a:cubicBezTo>
              </a:path>
              <a:path w="9228" h="2953">
                <a:moveTo>
                  <a:pt x="11112" y="13246"/>
                </a:moveTo>
                <a:cubicBezTo>
                  <a:pt x="11196" y="13246"/>
                  <a:pt x="11277" y="13226"/>
                  <a:pt x="11361" y="13221"/>
                </a:cubicBezTo>
                <a:cubicBezTo>
                  <a:pt x="11369" y="13221"/>
                  <a:pt x="11377" y="13221"/>
                  <a:pt x="11385" y="13221"/>
                </a:cubicBezTo>
              </a:path>
              <a:path w="9228" h="2953">
                <a:moveTo>
                  <a:pt x="11658" y="12998"/>
                </a:moveTo>
                <a:cubicBezTo>
                  <a:pt x="11786" y="12982"/>
                  <a:pt x="11802" y="12974"/>
                  <a:pt x="11906" y="13047"/>
                </a:cubicBezTo>
                <a:cubicBezTo>
                  <a:pt x="11841" y="13171"/>
                  <a:pt x="11782" y="13271"/>
                  <a:pt x="11683" y="13370"/>
                </a:cubicBezTo>
                <a:cubicBezTo>
                  <a:pt x="11790" y="13370"/>
                  <a:pt x="11898" y="13370"/>
                  <a:pt x="12005" y="13370"/>
                </a:cubicBezTo>
              </a:path>
              <a:path w="9228" h="2953">
                <a:moveTo>
                  <a:pt x="11088" y="14585"/>
                </a:moveTo>
                <a:cubicBezTo>
                  <a:pt x="11165" y="14594"/>
                  <a:pt x="11298" y="14666"/>
                  <a:pt x="11336" y="14610"/>
                </a:cubicBezTo>
              </a:path>
              <a:path w="9228" h="2953">
                <a:moveTo>
                  <a:pt x="11187" y="14833"/>
                </a:moveTo>
                <a:cubicBezTo>
                  <a:pt x="11187" y="14858"/>
                  <a:pt x="11187" y="14866"/>
                  <a:pt x="11187" y="14833"/>
                </a:cubicBezTo>
              </a:path>
              <a:path w="9228" h="2953">
                <a:moveTo>
                  <a:pt x="11633" y="14486"/>
                </a:moveTo>
                <a:cubicBezTo>
                  <a:pt x="11735" y="14494"/>
                  <a:pt x="11775" y="14503"/>
                  <a:pt x="11857" y="14560"/>
                </a:cubicBezTo>
                <a:cubicBezTo>
                  <a:pt x="11789" y="14669"/>
                  <a:pt x="11737" y="14729"/>
                  <a:pt x="11633" y="14808"/>
                </a:cubicBezTo>
                <a:cubicBezTo>
                  <a:pt x="11789" y="14829"/>
                  <a:pt x="11892" y="14809"/>
                  <a:pt x="12030" y="14734"/>
                </a:cubicBezTo>
              </a:path>
              <a:path w="9228" h="2953">
                <a:moveTo>
                  <a:pt x="12576" y="13940"/>
                </a:moveTo>
                <a:cubicBezTo>
                  <a:pt x="12649" y="13940"/>
                  <a:pt x="12713" y="13938"/>
                  <a:pt x="12774" y="13965"/>
                </a:cubicBezTo>
              </a:path>
              <a:path w="9228" h="2953">
                <a:moveTo>
                  <a:pt x="13717" y="13395"/>
                </a:moveTo>
                <a:cubicBezTo>
                  <a:pt x="13782" y="13377"/>
                  <a:pt x="14103" y="13268"/>
                  <a:pt x="14039" y="13444"/>
                </a:cubicBezTo>
                <a:cubicBezTo>
                  <a:pt x="14003" y="13544"/>
                  <a:pt x="13916" y="13564"/>
                  <a:pt x="13841" y="13618"/>
                </a:cubicBezTo>
                <a:cubicBezTo>
                  <a:pt x="13955" y="13597"/>
                  <a:pt x="14003" y="13622"/>
                  <a:pt x="14114" y="13667"/>
                </a:cubicBezTo>
                <a:cubicBezTo>
                  <a:pt x="14048" y="13866"/>
                  <a:pt x="13894" y="13835"/>
                  <a:pt x="13692" y="13841"/>
                </a:cubicBezTo>
                <a:cubicBezTo>
                  <a:pt x="13676" y="13841"/>
                  <a:pt x="13659" y="13841"/>
                  <a:pt x="13643" y="13841"/>
                </a:cubicBezTo>
              </a:path>
              <a:path w="9228" h="2953">
                <a:moveTo>
                  <a:pt x="13494" y="14039"/>
                </a:moveTo>
                <a:cubicBezTo>
                  <a:pt x="13780" y="14039"/>
                  <a:pt x="14058" y="14023"/>
                  <a:pt x="14337" y="14089"/>
                </a:cubicBezTo>
              </a:path>
              <a:path w="9228" h="2953">
                <a:moveTo>
                  <a:pt x="13519" y="14511"/>
                </a:moveTo>
                <a:cubicBezTo>
                  <a:pt x="13687" y="14493"/>
                  <a:pt x="14046" y="14537"/>
                  <a:pt x="13841" y="14808"/>
                </a:cubicBezTo>
                <a:cubicBezTo>
                  <a:pt x="13708" y="14984"/>
                  <a:pt x="13582" y="14952"/>
                  <a:pt x="13419" y="14908"/>
                </a:cubicBezTo>
                <a:cubicBezTo>
                  <a:pt x="13483" y="14780"/>
                  <a:pt x="13609" y="14778"/>
                  <a:pt x="13742" y="14858"/>
                </a:cubicBezTo>
                <a:cubicBezTo>
                  <a:pt x="13786" y="14903"/>
                  <a:pt x="13796" y="14920"/>
                  <a:pt x="13841" y="14908"/>
                </a:cubicBezTo>
              </a:path>
              <a:path w="9228" h="2953">
                <a:moveTo>
                  <a:pt x="14486" y="14461"/>
                </a:moveTo>
                <a:cubicBezTo>
                  <a:pt x="14307" y="14492"/>
                  <a:pt x="14196" y="14463"/>
                  <a:pt x="14163" y="14660"/>
                </a:cubicBezTo>
                <a:cubicBezTo>
                  <a:pt x="14163" y="14676"/>
                  <a:pt x="14163" y="14693"/>
                  <a:pt x="14163" y="14709"/>
                </a:cubicBezTo>
                <a:cubicBezTo>
                  <a:pt x="14275" y="14709"/>
                  <a:pt x="14350" y="14686"/>
                  <a:pt x="14436" y="14784"/>
                </a:cubicBezTo>
                <a:cubicBezTo>
                  <a:pt x="14656" y="15035"/>
                  <a:pt x="14059" y="14937"/>
                  <a:pt x="14039" y="14932"/>
                </a:cubicBezTo>
              </a:path>
              <a:path w="9228" h="2953">
                <a:moveTo>
                  <a:pt x="13271" y="13047"/>
                </a:moveTo>
                <a:cubicBezTo>
                  <a:pt x="13209" y="13450"/>
                  <a:pt x="13196" y="13856"/>
                  <a:pt x="13171" y="14263"/>
                </a:cubicBezTo>
                <a:cubicBezTo>
                  <a:pt x="13150" y="14602"/>
                  <a:pt x="13109" y="14941"/>
                  <a:pt x="13097" y="15280"/>
                </a:cubicBezTo>
                <a:cubicBezTo>
                  <a:pt x="13097" y="15288"/>
                  <a:pt x="13097" y="15296"/>
                  <a:pt x="13097" y="15304"/>
                </a:cubicBezTo>
                <a:cubicBezTo>
                  <a:pt x="13284" y="15314"/>
                  <a:pt x="13457" y="15359"/>
                  <a:pt x="13643" y="15379"/>
                </a:cubicBezTo>
                <a:cubicBezTo>
                  <a:pt x="14130" y="15433"/>
                  <a:pt x="14619" y="15481"/>
                  <a:pt x="15106" y="15528"/>
                </a:cubicBezTo>
                <a:cubicBezTo>
                  <a:pt x="15113" y="15253"/>
                  <a:pt x="15137" y="14984"/>
                  <a:pt x="15156" y="14709"/>
                </a:cubicBezTo>
                <a:cubicBezTo>
                  <a:pt x="15184" y="14311"/>
                  <a:pt x="15156" y="13918"/>
                  <a:pt x="15156" y="13519"/>
                </a:cubicBezTo>
                <a:cubicBezTo>
                  <a:pt x="15156" y="13363"/>
                  <a:pt x="15120" y="13218"/>
                  <a:pt x="15106" y="13072"/>
                </a:cubicBezTo>
                <a:cubicBezTo>
                  <a:pt x="15098" y="12992"/>
                  <a:pt x="15136" y="12927"/>
                  <a:pt x="15131" y="12849"/>
                </a:cubicBezTo>
                <a:cubicBezTo>
                  <a:pt x="15126" y="12768"/>
                  <a:pt x="15120" y="12688"/>
                  <a:pt x="15056" y="12650"/>
                </a:cubicBezTo>
                <a:cubicBezTo>
                  <a:pt x="14925" y="12572"/>
                  <a:pt x="14697" y="12582"/>
                  <a:pt x="14536" y="12576"/>
                </a:cubicBezTo>
                <a:cubicBezTo>
                  <a:pt x="14336" y="12568"/>
                  <a:pt x="14112" y="12564"/>
                  <a:pt x="13915" y="12601"/>
                </a:cubicBezTo>
                <a:cubicBezTo>
                  <a:pt x="13724" y="12637"/>
                  <a:pt x="13541" y="12701"/>
                  <a:pt x="13345" y="12725"/>
                </a:cubicBezTo>
                <a:cubicBezTo>
                  <a:pt x="13328" y="12725"/>
                  <a:pt x="13312" y="12725"/>
                  <a:pt x="13295" y="12725"/>
                </a:cubicBezTo>
                <a:cubicBezTo>
                  <a:pt x="13326" y="12942"/>
                  <a:pt x="13330" y="13128"/>
                  <a:pt x="13320" y="133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1920" y="3411360"/>
            <a:ext cx="457200" cy="679680"/>
          </a:xfrm>
          <a:custGeom>
            <a:avLst/>
            <a:gdLst/>
            <a:ahLst/>
            <a:rect l="l" t="t" r="r" b="b"/>
            <a:pathLst>
              <a:path w="1266" h="1887">
                <a:moveTo>
                  <a:pt x="521" y="9748"/>
                </a:moveTo>
                <a:cubicBezTo>
                  <a:pt x="562" y="9929"/>
                  <a:pt x="590" y="10117"/>
                  <a:pt x="645" y="10294"/>
                </a:cubicBezTo>
                <a:cubicBezTo>
                  <a:pt x="653" y="10311"/>
                  <a:pt x="662" y="10327"/>
                  <a:pt x="670" y="10344"/>
                </a:cubicBezTo>
              </a:path>
              <a:path w="1266" h="1887">
                <a:moveTo>
                  <a:pt x="769" y="9649"/>
                </a:moveTo>
                <a:cubicBezTo>
                  <a:pt x="753" y="9795"/>
                  <a:pt x="730" y="10047"/>
                  <a:pt x="843" y="10170"/>
                </a:cubicBezTo>
                <a:cubicBezTo>
                  <a:pt x="868" y="10178"/>
                  <a:pt x="893" y="10187"/>
                  <a:pt x="918" y="10195"/>
                </a:cubicBezTo>
                <a:cubicBezTo>
                  <a:pt x="1011" y="10069"/>
                  <a:pt x="1204" y="9754"/>
                  <a:pt x="918" y="9674"/>
                </a:cubicBezTo>
                <a:cubicBezTo>
                  <a:pt x="817" y="9694"/>
                  <a:pt x="797" y="9692"/>
                  <a:pt x="744" y="9723"/>
                </a:cubicBezTo>
              </a:path>
              <a:path w="1266" h="1887">
                <a:moveTo>
                  <a:pt x="1265" y="9525"/>
                </a:moveTo>
                <a:cubicBezTo>
                  <a:pt x="1231" y="9714"/>
                  <a:pt x="1143" y="9888"/>
                  <a:pt x="1364" y="9922"/>
                </a:cubicBezTo>
                <a:cubicBezTo>
                  <a:pt x="1447" y="9693"/>
                  <a:pt x="1501" y="9603"/>
                  <a:pt x="1265" y="9475"/>
                </a:cubicBezTo>
                <a:cubicBezTo>
                  <a:pt x="1157" y="9584"/>
                  <a:pt x="1120" y="9630"/>
                  <a:pt x="1116" y="9748"/>
                </a:cubicBezTo>
              </a:path>
              <a:path w="1266" h="1887">
                <a:moveTo>
                  <a:pt x="174" y="10988"/>
                </a:moveTo>
                <a:cubicBezTo>
                  <a:pt x="246" y="11004"/>
                  <a:pt x="545" y="11218"/>
                  <a:pt x="571" y="11212"/>
                </a:cubicBezTo>
                <a:cubicBezTo>
                  <a:pt x="571" y="11187"/>
                  <a:pt x="571" y="11162"/>
                  <a:pt x="571" y="11137"/>
                </a:cubicBezTo>
              </a:path>
              <a:path w="1266" h="1887">
                <a:moveTo>
                  <a:pt x="372" y="10790"/>
                </a:moveTo>
                <a:cubicBezTo>
                  <a:pt x="376" y="10833"/>
                  <a:pt x="388" y="11350"/>
                  <a:pt x="422" y="11361"/>
                </a:cubicBezTo>
                <a:cubicBezTo>
                  <a:pt x="430" y="11344"/>
                  <a:pt x="438" y="11328"/>
                  <a:pt x="446" y="11311"/>
                </a:cubicBezTo>
              </a:path>
              <a:path w="1266" h="1887">
                <a:moveTo>
                  <a:pt x="893" y="10666"/>
                </a:moveTo>
                <a:cubicBezTo>
                  <a:pt x="820" y="10690"/>
                  <a:pt x="837" y="10946"/>
                  <a:pt x="843" y="11013"/>
                </a:cubicBezTo>
                <a:cubicBezTo>
                  <a:pt x="868" y="11088"/>
                  <a:pt x="876" y="11113"/>
                  <a:pt x="943" y="11112"/>
                </a:cubicBezTo>
                <a:cubicBezTo>
                  <a:pt x="1083" y="10984"/>
                  <a:pt x="1158" y="10823"/>
                  <a:pt x="1017" y="10641"/>
                </a:cubicBezTo>
                <a:cubicBezTo>
                  <a:pt x="990" y="10606"/>
                  <a:pt x="924" y="10657"/>
                  <a:pt x="918" y="106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2840" y="3660840"/>
            <a:ext cx="455400" cy="563400"/>
          </a:xfrm>
          <a:custGeom>
            <a:avLst/>
            <a:gdLst/>
            <a:ahLst/>
            <a:rect l="l" t="t" r="r" b="b"/>
            <a:pathLst>
              <a:path w="1266" h="1564">
                <a:moveTo>
                  <a:pt x="1513" y="10195"/>
                </a:moveTo>
                <a:cubicBezTo>
                  <a:pt x="1456" y="10160"/>
                  <a:pt x="1349" y="10166"/>
                  <a:pt x="1339" y="10269"/>
                </a:cubicBezTo>
                <a:cubicBezTo>
                  <a:pt x="1359" y="10346"/>
                  <a:pt x="1351" y="10364"/>
                  <a:pt x="1389" y="10393"/>
                </a:cubicBezTo>
                <a:cubicBezTo>
                  <a:pt x="1496" y="10306"/>
                  <a:pt x="1495" y="10306"/>
                  <a:pt x="1513" y="10170"/>
                </a:cubicBezTo>
                <a:cubicBezTo>
                  <a:pt x="1594" y="10298"/>
                  <a:pt x="1730" y="10428"/>
                  <a:pt x="1736" y="10592"/>
                </a:cubicBezTo>
                <a:cubicBezTo>
                  <a:pt x="1708" y="10648"/>
                  <a:pt x="1693" y="10667"/>
                  <a:pt x="1637" y="10666"/>
                </a:cubicBezTo>
              </a:path>
              <a:path w="1266" h="1564">
                <a:moveTo>
                  <a:pt x="868" y="11385"/>
                </a:moveTo>
                <a:cubicBezTo>
                  <a:pt x="1206" y="11132"/>
                  <a:pt x="1504" y="10812"/>
                  <a:pt x="1811" y="10517"/>
                </a:cubicBezTo>
                <a:cubicBezTo>
                  <a:pt x="1876" y="10455"/>
                  <a:pt x="1910" y="10418"/>
                  <a:pt x="1984" y="10368"/>
                </a:cubicBezTo>
              </a:path>
              <a:path w="1266" h="1564">
                <a:moveTo>
                  <a:pt x="2034" y="10592"/>
                </a:moveTo>
                <a:cubicBezTo>
                  <a:pt x="1953" y="10656"/>
                  <a:pt x="1945" y="10754"/>
                  <a:pt x="1935" y="10864"/>
                </a:cubicBezTo>
                <a:cubicBezTo>
                  <a:pt x="2086" y="10798"/>
                  <a:pt x="2094" y="10796"/>
                  <a:pt x="2133" y="10641"/>
                </a:cubicBezTo>
                <a:cubicBezTo>
                  <a:pt x="1955" y="10673"/>
                  <a:pt x="1948" y="10695"/>
                  <a:pt x="1836" y="10840"/>
                </a:cubicBezTo>
              </a:path>
              <a:path w="1266" h="1564">
                <a:moveTo>
                  <a:pt x="1662" y="10939"/>
                </a:moveTo>
                <a:cubicBezTo>
                  <a:pt x="1577" y="11041"/>
                  <a:pt x="1565" y="11090"/>
                  <a:pt x="1637" y="11187"/>
                </a:cubicBezTo>
                <a:cubicBezTo>
                  <a:pt x="1782" y="11119"/>
                  <a:pt x="1781" y="11122"/>
                  <a:pt x="1811" y="10964"/>
                </a:cubicBezTo>
                <a:cubicBezTo>
                  <a:pt x="1657" y="10904"/>
                  <a:pt x="1684" y="10917"/>
                  <a:pt x="1563" y="11038"/>
                </a:cubicBezTo>
              </a:path>
              <a:path w="1266" h="1564">
                <a:moveTo>
                  <a:pt x="1290" y="11460"/>
                </a:moveTo>
                <a:cubicBezTo>
                  <a:pt x="1290" y="11357"/>
                  <a:pt x="1307" y="11387"/>
                  <a:pt x="1215" y="11336"/>
                </a:cubicBezTo>
                <a:cubicBezTo>
                  <a:pt x="1117" y="11403"/>
                  <a:pt x="1147" y="11600"/>
                  <a:pt x="1265" y="11609"/>
                </a:cubicBezTo>
                <a:cubicBezTo>
                  <a:pt x="1315" y="11613"/>
                  <a:pt x="1314" y="11383"/>
                  <a:pt x="1315" y="11361"/>
                </a:cubicBezTo>
                <a:cubicBezTo>
                  <a:pt x="1323" y="11361"/>
                  <a:pt x="1331" y="11361"/>
                  <a:pt x="1339" y="11361"/>
                </a:cubicBezTo>
                <a:cubicBezTo>
                  <a:pt x="1380" y="11483"/>
                  <a:pt x="1418" y="11619"/>
                  <a:pt x="1463" y="11733"/>
                </a:cubicBezTo>
                <a:cubicBezTo>
                  <a:pt x="1463" y="11705"/>
                  <a:pt x="1465" y="11694"/>
                  <a:pt x="1488" y="116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io Homework Workshe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ctober 10, 20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:  Students will find equivalent rat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5018040" y="4911840"/>
            <a:ext cx="1054080" cy="71280"/>
          </a:xfrm>
          <a:custGeom>
            <a:avLst/>
            <a:gdLst/>
            <a:ahLst/>
            <a:rect l="l" t="t" r="r" b="b"/>
            <a:pathLst>
              <a:path w="2928" h="199">
                <a:moveTo>
                  <a:pt x="13940" y="13742"/>
                </a:moveTo>
                <a:cubicBezTo>
                  <a:pt x="14078" y="13807"/>
                  <a:pt x="14148" y="13850"/>
                  <a:pt x="14312" y="13816"/>
                </a:cubicBezTo>
                <a:cubicBezTo>
                  <a:pt x="14464" y="13785"/>
                  <a:pt x="14500" y="13754"/>
                  <a:pt x="14560" y="13643"/>
                </a:cubicBezTo>
                <a:cubicBezTo>
                  <a:pt x="14608" y="13739"/>
                  <a:pt x="14658" y="13769"/>
                  <a:pt x="14808" y="13742"/>
                </a:cubicBezTo>
                <a:cubicBezTo>
                  <a:pt x="14905" y="13724"/>
                  <a:pt x="14999" y="13588"/>
                  <a:pt x="15081" y="13643"/>
                </a:cubicBezTo>
                <a:cubicBezTo>
                  <a:pt x="15219" y="13735"/>
                  <a:pt x="15186" y="13823"/>
                  <a:pt x="15404" y="13816"/>
                </a:cubicBezTo>
                <a:cubicBezTo>
                  <a:pt x="15577" y="13810"/>
                  <a:pt x="15779" y="13754"/>
                  <a:pt x="15900" y="13791"/>
                </a:cubicBezTo>
                <a:cubicBezTo>
                  <a:pt x="16030" y="13831"/>
                  <a:pt x="16103" y="13776"/>
                  <a:pt x="16222" y="13717"/>
                </a:cubicBezTo>
                <a:cubicBezTo>
                  <a:pt x="16292" y="13682"/>
                  <a:pt x="16448" y="13816"/>
                  <a:pt x="16570" y="13816"/>
                </a:cubicBezTo>
                <a:cubicBezTo>
                  <a:pt x="16667" y="13816"/>
                  <a:pt x="16810" y="13775"/>
                  <a:pt x="16867" y="137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ive: Students will find equivalent rati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cabulary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io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arison of two numb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Ratio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ratios that have the same valu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atio is treated just like a frac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7296120" y="1768320"/>
            <a:ext cx="330120" cy="776520"/>
          </a:xfrm>
          <a:custGeom>
            <a:avLst/>
            <a:gdLst/>
            <a:ahLst/>
            <a:rect l="l" t="t" r="r" b="b"/>
            <a:pathLst>
              <a:path w="919" h="2159">
                <a:moveTo>
                  <a:pt x="20513" y="5060"/>
                </a:moveTo>
                <a:cubicBezTo>
                  <a:pt x="20633" y="5064"/>
                  <a:pt x="20653" y="4962"/>
                  <a:pt x="20762" y="4911"/>
                </a:cubicBezTo>
                <a:cubicBezTo>
                  <a:pt x="20873" y="5023"/>
                  <a:pt x="20826" y="5141"/>
                  <a:pt x="20712" y="5259"/>
                </a:cubicBezTo>
                <a:cubicBezTo>
                  <a:pt x="20627" y="5322"/>
                  <a:pt x="20607" y="5335"/>
                  <a:pt x="20563" y="5383"/>
                </a:cubicBezTo>
                <a:cubicBezTo>
                  <a:pt x="20626" y="5336"/>
                  <a:pt x="20729" y="5376"/>
                  <a:pt x="20762" y="5457"/>
                </a:cubicBezTo>
                <a:cubicBezTo>
                  <a:pt x="20850" y="5674"/>
                  <a:pt x="20448" y="5815"/>
                  <a:pt x="20315" y="5854"/>
                </a:cubicBezTo>
                <a:cubicBezTo>
                  <a:pt x="20273" y="5854"/>
                  <a:pt x="20257" y="5862"/>
                  <a:pt x="20265" y="5829"/>
                </a:cubicBezTo>
              </a:path>
              <a:path w="919" h="2159">
                <a:moveTo>
                  <a:pt x="20414" y="6474"/>
                </a:moveTo>
                <a:cubicBezTo>
                  <a:pt x="20414" y="6530"/>
                  <a:pt x="20417" y="6569"/>
                  <a:pt x="20389" y="6623"/>
                </a:cubicBezTo>
                <a:cubicBezTo>
                  <a:pt x="20363" y="6673"/>
                  <a:pt x="20343" y="6750"/>
                  <a:pt x="20315" y="6796"/>
                </a:cubicBezTo>
                <a:cubicBezTo>
                  <a:pt x="20307" y="6809"/>
                  <a:pt x="20263" y="6910"/>
                  <a:pt x="20265" y="6921"/>
                </a:cubicBezTo>
                <a:cubicBezTo>
                  <a:pt x="20277" y="6973"/>
                  <a:pt x="20315" y="6982"/>
                  <a:pt x="20340" y="7020"/>
                </a:cubicBezTo>
                <a:cubicBezTo>
                  <a:pt x="20367" y="7060"/>
                  <a:pt x="20383" y="7069"/>
                  <a:pt x="20439" y="7069"/>
                </a:cubicBezTo>
                <a:cubicBezTo>
                  <a:pt x="20529" y="7069"/>
                  <a:pt x="20602" y="7064"/>
                  <a:pt x="20687" y="7045"/>
                </a:cubicBezTo>
                <a:cubicBezTo>
                  <a:pt x="20732" y="7035"/>
                  <a:pt x="20752" y="7004"/>
                  <a:pt x="20786" y="6970"/>
                </a:cubicBezTo>
                <a:cubicBezTo>
                  <a:pt x="20819" y="6937"/>
                  <a:pt x="20811" y="6916"/>
                  <a:pt x="20811" y="6871"/>
                </a:cubicBezTo>
                <a:cubicBezTo>
                  <a:pt x="20811" y="6843"/>
                  <a:pt x="20747" y="6808"/>
                  <a:pt x="20712" y="6796"/>
                </a:cubicBezTo>
                <a:cubicBezTo>
                  <a:pt x="20668" y="6781"/>
                  <a:pt x="20630" y="6868"/>
                  <a:pt x="20613" y="6896"/>
                </a:cubicBezTo>
                <a:cubicBezTo>
                  <a:pt x="20572" y="6964"/>
                  <a:pt x="20594" y="6984"/>
                  <a:pt x="20613" y="7045"/>
                </a:cubicBezTo>
                <a:cubicBezTo>
                  <a:pt x="20613" y="7069"/>
                  <a:pt x="20613" y="7077"/>
                  <a:pt x="20613" y="7045"/>
                </a:cubicBezTo>
              </a:path>
              <a:path w="919" h="2159">
                <a:moveTo>
                  <a:pt x="21183" y="6846"/>
                </a:moveTo>
                <a:cubicBezTo>
                  <a:pt x="21183" y="6879"/>
                  <a:pt x="21183" y="6896"/>
                  <a:pt x="21183" y="6921"/>
                </a:cubicBezTo>
              </a:path>
              <a:path w="919" h="2159">
                <a:moveTo>
                  <a:pt x="20340" y="5978"/>
                </a:moveTo>
                <a:cubicBezTo>
                  <a:pt x="20434" y="5978"/>
                  <a:pt x="20402" y="6055"/>
                  <a:pt x="20439" y="6102"/>
                </a:cubicBezTo>
                <a:cubicBezTo>
                  <a:pt x="20447" y="6102"/>
                  <a:pt x="20456" y="6102"/>
                  <a:pt x="20464" y="6102"/>
                </a:cubicBezTo>
              </a:path>
              <a:path w="919" h="2159">
                <a:moveTo>
                  <a:pt x="20662" y="5928"/>
                </a:moveTo>
                <a:cubicBezTo>
                  <a:pt x="20687" y="5912"/>
                  <a:pt x="20712" y="5895"/>
                  <a:pt x="20737" y="5879"/>
                </a:cubicBezTo>
                <a:cubicBezTo>
                  <a:pt x="20759" y="6009"/>
                  <a:pt x="20662" y="6061"/>
                  <a:pt x="20662" y="6176"/>
                </a:cubicBezTo>
                <a:cubicBezTo>
                  <a:pt x="20662" y="6180"/>
                  <a:pt x="20838" y="6154"/>
                  <a:pt x="20861" y="61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19120" y="1830240"/>
            <a:ext cx="6448680" cy="4778640"/>
          </a:xfrm>
          <a:custGeom>
            <a:avLst/>
            <a:gdLst/>
            <a:ahLst/>
            <a:rect l="l" t="t" r="r" b="b"/>
            <a:pathLst>
              <a:path w="17910" h="13271">
                <a:moveTo>
                  <a:pt x="21158" y="5110"/>
                </a:moveTo>
                <a:cubicBezTo>
                  <a:pt x="21158" y="5067"/>
                  <a:pt x="21153" y="5076"/>
                  <a:pt x="21134" y="5159"/>
                </a:cubicBezTo>
              </a:path>
              <a:path w="17910" h="13271">
                <a:moveTo>
                  <a:pt x="3944" y="18331"/>
                </a:moveTo>
                <a:cubicBezTo>
                  <a:pt x="3944" y="18339"/>
                  <a:pt x="3944" y="18347"/>
                  <a:pt x="3944" y="18355"/>
                </a:cubicBezTo>
              </a:path>
              <a:path w="17910" h="13271">
                <a:moveTo>
                  <a:pt x="21183" y="6548"/>
                </a:moveTo>
                <a:cubicBezTo>
                  <a:pt x="21231" y="6548"/>
                  <a:pt x="21208" y="6565"/>
                  <a:pt x="21183" y="6573"/>
                </a:cubicBezTo>
              </a:path>
              <a:path w="17910" h="13271">
                <a:moveTo>
                  <a:pt x="20513" y="5978"/>
                </a:moveTo>
                <a:cubicBezTo>
                  <a:pt x="20473" y="6053"/>
                  <a:pt x="20446" y="6122"/>
                  <a:pt x="20414" y="6201"/>
                </a:cubicBezTo>
              </a:path>
              <a:path w="17910" h="13271">
                <a:moveTo>
                  <a:pt x="21704" y="5928"/>
                </a:moveTo>
                <a:cubicBezTo>
                  <a:pt x="21759" y="5965"/>
                  <a:pt x="21787" y="5979"/>
                  <a:pt x="21828" y="6028"/>
                </a:cubicBezTo>
              </a:path>
              <a:path w="17910" h="13271">
                <a:moveTo>
                  <a:pt x="21853" y="5829"/>
                </a:moveTo>
                <a:cubicBezTo>
                  <a:pt x="21832" y="5904"/>
                  <a:pt x="21792" y="5973"/>
                  <a:pt x="21779" y="60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89880" y="1751040"/>
            <a:ext cx="287280" cy="330120"/>
          </a:xfrm>
          <a:custGeom>
            <a:avLst/>
            <a:gdLst/>
            <a:ahLst/>
            <a:rect l="l" t="t" r="r" b="b"/>
            <a:pathLst>
              <a:path w="795" h="918">
                <a:moveTo>
                  <a:pt x="21134" y="5507"/>
                </a:moveTo>
                <a:cubicBezTo>
                  <a:pt x="21126" y="5507"/>
                  <a:pt x="21117" y="5507"/>
                  <a:pt x="21109" y="5507"/>
                </a:cubicBezTo>
                <a:cubicBezTo>
                  <a:pt x="21109" y="5519"/>
                  <a:pt x="21119" y="5618"/>
                  <a:pt x="21084" y="5606"/>
                </a:cubicBezTo>
                <a:cubicBezTo>
                  <a:pt x="21084" y="5598"/>
                  <a:pt x="21084" y="5589"/>
                  <a:pt x="21084" y="5581"/>
                </a:cubicBezTo>
              </a:path>
              <a:path w="795" h="918">
                <a:moveTo>
                  <a:pt x="21506" y="5011"/>
                </a:moveTo>
                <a:cubicBezTo>
                  <a:pt x="21539" y="5125"/>
                  <a:pt x="21526" y="5197"/>
                  <a:pt x="21481" y="5308"/>
                </a:cubicBezTo>
                <a:cubicBezTo>
                  <a:pt x="21618" y="5308"/>
                  <a:pt x="21747" y="5319"/>
                  <a:pt x="21878" y="5283"/>
                </a:cubicBezTo>
              </a:path>
              <a:path w="795" h="918">
                <a:moveTo>
                  <a:pt x="21828" y="4862"/>
                </a:moveTo>
                <a:cubicBezTo>
                  <a:pt x="21828" y="5017"/>
                  <a:pt x="21817" y="5179"/>
                  <a:pt x="21803" y="5333"/>
                </a:cubicBezTo>
                <a:cubicBezTo>
                  <a:pt x="21789" y="5484"/>
                  <a:pt x="21754" y="5632"/>
                  <a:pt x="21729" y="57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920000" y="2081160"/>
            <a:ext cx="63360" cy="115920"/>
          </a:xfrm>
          <a:custGeom>
            <a:avLst/>
            <a:gdLst/>
            <a:ahLst/>
            <a:rect l="l" t="t" r="r" b="b"/>
            <a:pathLst>
              <a:path w="174" h="324">
                <a:moveTo>
                  <a:pt x="22002" y="5779"/>
                </a:moveTo>
                <a:cubicBezTo>
                  <a:pt x="22069" y="5779"/>
                  <a:pt x="22088" y="5760"/>
                  <a:pt x="22101" y="5854"/>
                </a:cubicBezTo>
                <a:cubicBezTo>
                  <a:pt x="22117" y="5967"/>
                  <a:pt x="22048" y="5990"/>
                  <a:pt x="22027" y="6077"/>
                </a:cubicBezTo>
                <a:cubicBezTo>
                  <a:pt x="22083" y="6077"/>
                  <a:pt x="22160" y="6056"/>
                  <a:pt x="22175" y="61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786800" y="2347920"/>
            <a:ext cx="115920" cy="179280"/>
          </a:xfrm>
          <a:custGeom>
            <a:avLst/>
            <a:gdLst/>
            <a:ahLst/>
            <a:rect l="l" t="t" r="r" b="b"/>
            <a:pathLst>
              <a:path w="323" h="497">
                <a:moveTo>
                  <a:pt x="21952" y="6524"/>
                </a:moveTo>
                <a:cubicBezTo>
                  <a:pt x="21839" y="6524"/>
                  <a:pt x="21774" y="6530"/>
                  <a:pt x="21679" y="6598"/>
                </a:cubicBezTo>
                <a:cubicBezTo>
                  <a:pt x="21654" y="6623"/>
                  <a:pt x="21646" y="6631"/>
                  <a:pt x="21630" y="6648"/>
                </a:cubicBezTo>
                <a:cubicBezTo>
                  <a:pt x="21693" y="6774"/>
                  <a:pt x="21801" y="6721"/>
                  <a:pt x="21878" y="6821"/>
                </a:cubicBezTo>
                <a:cubicBezTo>
                  <a:pt x="21958" y="6925"/>
                  <a:pt x="21876" y="6999"/>
                  <a:pt x="21779" y="7020"/>
                </a:cubicBezTo>
                <a:cubicBezTo>
                  <a:pt x="21727" y="7020"/>
                  <a:pt x="21709" y="7019"/>
                  <a:pt x="21679" y="6995"/>
                </a:cubicBezTo>
                <a:cubicBezTo>
                  <a:pt x="21692" y="6831"/>
                  <a:pt x="21720" y="6773"/>
                  <a:pt x="21853" y="6672"/>
                </a:cubicBezTo>
                <a:cubicBezTo>
                  <a:pt x="21922" y="6619"/>
                  <a:pt x="21936" y="6626"/>
                  <a:pt x="21952" y="65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Students will find equivalent ratio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re are 3 ways to write ratio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to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: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33520" y="3581280"/>
                <a:ext cx="5126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938160" y="2017800"/>
            <a:ext cx="196920" cy="81000"/>
          </a:xfrm>
          <a:custGeom>
            <a:avLst/>
            <a:gdLst/>
            <a:ahLst/>
            <a:rect l="l" t="t" r="r" b="b"/>
            <a:pathLst>
              <a:path w="547" h="224">
                <a:moveTo>
                  <a:pt x="2629" y="5755"/>
                </a:moveTo>
                <a:cubicBezTo>
                  <a:pt x="2528" y="5721"/>
                  <a:pt x="2751" y="5659"/>
                  <a:pt x="2853" y="5631"/>
                </a:cubicBezTo>
                <a:cubicBezTo>
                  <a:pt x="2955" y="5603"/>
                  <a:pt x="3046" y="5606"/>
                  <a:pt x="3150" y="5606"/>
                </a:cubicBezTo>
                <a:cubicBezTo>
                  <a:pt x="3046" y="5632"/>
                  <a:pt x="2921" y="5669"/>
                  <a:pt x="2803" y="5680"/>
                </a:cubicBezTo>
                <a:cubicBezTo>
                  <a:pt x="2730" y="5687"/>
                  <a:pt x="2675" y="5693"/>
                  <a:pt x="2604" y="5705"/>
                </a:cubicBezTo>
                <a:cubicBezTo>
                  <a:pt x="2740" y="5705"/>
                  <a:pt x="2867" y="5721"/>
                  <a:pt x="3001" y="5730"/>
                </a:cubicBezTo>
                <a:cubicBezTo>
                  <a:pt x="3094" y="5737"/>
                  <a:pt x="3107" y="5705"/>
                  <a:pt x="3125" y="5779"/>
                </a:cubicBezTo>
                <a:cubicBezTo>
                  <a:pt x="2955" y="5801"/>
                  <a:pt x="2820" y="5805"/>
                  <a:pt x="2654" y="5779"/>
                </a:cubicBezTo>
                <a:cubicBezTo>
                  <a:pt x="2596" y="5770"/>
                  <a:pt x="2724" y="5822"/>
                  <a:pt x="2753" y="58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8000" y="3106800"/>
            <a:ext cx="2776320" cy="1465200"/>
          </a:xfrm>
          <a:custGeom>
            <a:avLst/>
            <a:gdLst/>
            <a:ahLst/>
            <a:rect l="l" t="t" r="r" b="b"/>
            <a:pathLst>
              <a:path w="7715" h="4069">
                <a:moveTo>
                  <a:pt x="2257" y="8657"/>
                </a:moveTo>
                <a:cubicBezTo>
                  <a:pt x="2316" y="8657"/>
                  <a:pt x="2541" y="8657"/>
                  <a:pt x="2505" y="8657"/>
                </a:cubicBezTo>
                <a:cubicBezTo>
                  <a:pt x="2416" y="8657"/>
                  <a:pt x="2342" y="8640"/>
                  <a:pt x="2257" y="8632"/>
                </a:cubicBezTo>
                <a:cubicBezTo>
                  <a:pt x="2222" y="8632"/>
                  <a:pt x="2223" y="8637"/>
                  <a:pt x="2282" y="8657"/>
                </a:cubicBezTo>
                <a:cubicBezTo>
                  <a:pt x="2327" y="8657"/>
                  <a:pt x="2471" y="8639"/>
                  <a:pt x="2431" y="8657"/>
                </a:cubicBezTo>
                <a:cubicBezTo>
                  <a:pt x="2357" y="8690"/>
                  <a:pt x="2288" y="8682"/>
                  <a:pt x="2208" y="8682"/>
                </a:cubicBezTo>
                <a:cubicBezTo>
                  <a:pt x="2231" y="8685"/>
                  <a:pt x="2468" y="8738"/>
                  <a:pt x="2381" y="8756"/>
                </a:cubicBezTo>
                <a:cubicBezTo>
                  <a:pt x="2377" y="8757"/>
                  <a:pt x="2141" y="8763"/>
                  <a:pt x="2282" y="8781"/>
                </a:cubicBezTo>
                <a:cubicBezTo>
                  <a:pt x="2340" y="8788"/>
                  <a:pt x="2464" y="8781"/>
                  <a:pt x="2406" y="8781"/>
                </a:cubicBezTo>
                <a:cubicBezTo>
                  <a:pt x="2377" y="8781"/>
                  <a:pt x="2246" y="8781"/>
                  <a:pt x="2307" y="8781"/>
                </a:cubicBezTo>
                <a:cubicBezTo>
                  <a:pt x="2365" y="8781"/>
                  <a:pt x="2408" y="8797"/>
                  <a:pt x="2431" y="8781"/>
                </a:cubicBezTo>
              </a:path>
              <a:path w="7715" h="4069">
                <a:moveTo>
                  <a:pt x="1662" y="11286"/>
                </a:moveTo>
                <a:cubicBezTo>
                  <a:pt x="1640" y="11286"/>
                  <a:pt x="1504" y="11286"/>
                  <a:pt x="1563" y="11286"/>
                </a:cubicBezTo>
                <a:cubicBezTo>
                  <a:pt x="1626" y="11286"/>
                  <a:pt x="1653" y="11265"/>
                  <a:pt x="1712" y="11261"/>
                </a:cubicBezTo>
                <a:cubicBezTo>
                  <a:pt x="1778" y="11257"/>
                  <a:pt x="1822" y="11251"/>
                  <a:pt x="1885" y="11237"/>
                </a:cubicBezTo>
                <a:cubicBezTo>
                  <a:pt x="1947" y="11223"/>
                  <a:pt x="1992" y="11212"/>
                  <a:pt x="2059" y="11212"/>
                </a:cubicBezTo>
                <a:cubicBezTo>
                  <a:pt x="2113" y="11212"/>
                  <a:pt x="2141" y="11196"/>
                  <a:pt x="2183" y="11187"/>
                </a:cubicBezTo>
                <a:cubicBezTo>
                  <a:pt x="2314" y="11159"/>
                  <a:pt x="2480" y="11191"/>
                  <a:pt x="2604" y="11212"/>
                </a:cubicBezTo>
                <a:cubicBezTo>
                  <a:pt x="2658" y="11221"/>
                  <a:pt x="2723" y="11212"/>
                  <a:pt x="2778" y="11212"/>
                </a:cubicBezTo>
                <a:cubicBezTo>
                  <a:pt x="2731" y="11228"/>
                  <a:pt x="2683" y="11237"/>
                  <a:pt x="2604" y="11237"/>
                </a:cubicBezTo>
                <a:cubicBezTo>
                  <a:pt x="2509" y="11237"/>
                  <a:pt x="2424" y="11257"/>
                  <a:pt x="2332" y="11261"/>
                </a:cubicBezTo>
                <a:cubicBezTo>
                  <a:pt x="2235" y="11265"/>
                  <a:pt x="2153" y="11273"/>
                  <a:pt x="2059" y="11286"/>
                </a:cubicBezTo>
                <a:cubicBezTo>
                  <a:pt x="1924" y="11305"/>
                  <a:pt x="1775" y="11286"/>
                  <a:pt x="1637" y="11286"/>
                </a:cubicBezTo>
              </a:path>
              <a:path w="7715" h="4069">
                <a:moveTo>
                  <a:pt x="5854" y="10269"/>
                </a:moveTo>
                <a:cubicBezTo>
                  <a:pt x="5840" y="10455"/>
                  <a:pt x="5889" y="10714"/>
                  <a:pt x="5928" y="10914"/>
                </a:cubicBezTo>
                <a:cubicBezTo>
                  <a:pt x="5965" y="11102"/>
                  <a:pt x="5953" y="10907"/>
                  <a:pt x="5953" y="10889"/>
                </a:cubicBezTo>
              </a:path>
              <a:path w="7715" h="4069">
                <a:moveTo>
                  <a:pt x="6573" y="9674"/>
                </a:moveTo>
                <a:cubicBezTo>
                  <a:pt x="6509" y="10160"/>
                  <a:pt x="6423" y="10632"/>
                  <a:pt x="6325" y="11112"/>
                </a:cubicBezTo>
                <a:cubicBezTo>
                  <a:pt x="6295" y="11260"/>
                  <a:pt x="6276" y="11358"/>
                  <a:pt x="6276" y="11509"/>
                </a:cubicBezTo>
              </a:path>
              <a:path w="7715" h="4069">
                <a:moveTo>
                  <a:pt x="6697" y="10344"/>
                </a:moveTo>
                <a:cubicBezTo>
                  <a:pt x="6748" y="10336"/>
                  <a:pt x="6795" y="10325"/>
                  <a:pt x="6846" y="10319"/>
                </a:cubicBezTo>
                <a:cubicBezTo>
                  <a:pt x="6895" y="10497"/>
                  <a:pt x="6822" y="10516"/>
                  <a:pt x="6747" y="10666"/>
                </a:cubicBezTo>
                <a:cubicBezTo>
                  <a:pt x="6747" y="10694"/>
                  <a:pt x="6745" y="10700"/>
                  <a:pt x="6722" y="10666"/>
                </a:cubicBezTo>
                <a:cubicBezTo>
                  <a:pt x="6776" y="10594"/>
                  <a:pt x="6923" y="10405"/>
                  <a:pt x="6970" y="10616"/>
                </a:cubicBezTo>
                <a:cubicBezTo>
                  <a:pt x="7019" y="10836"/>
                  <a:pt x="6884" y="10826"/>
                  <a:pt x="6772" y="10914"/>
                </a:cubicBezTo>
                <a:cubicBezTo>
                  <a:pt x="6772" y="10922"/>
                  <a:pt x="6772" y="10931"/>
                  <a:pt x="6772" y="10939"/>
                </a:cubicBezTo>
              </a:path>
              <a:path w="7715" h="4069">
                <a:moveTo>
                  <a:pt x="6152" y="9376"/>
                </a:moveTo>
                <a:cubicBezTo>
                  <a:pt x="6039" y="9395"/>
                  <a:pt x="5940" y="9426"/>
                  <a:pt x="5829" y="9451"/>
                </a:cubicBezTo>
                <a:cubicBezTo>
                  <a:pt x="5579" y="9508"/>
                  <a:pt x="5335" y="9589"/>
                  <a:pt x="5085" y="9649"/>
                </a:cubicBezTo>
                <a:cubicBezTo>
                  <a:pt x="4682" y="9747"/>
                  <a:pt x="4278" y="9870"/>
                  <a:pt x="3870" y="9947"/>
                </a:cubicBezTo>
                <a:cubicBezTo>
                  <a:pt x="3474" y="10022"/>
                  <a:pt x="3053" y="10055"/>
                  <a:pt x="2654" y="9996"/>
                </a:cubicBezTo>
                <a:cubicBezTo>
                  <a:pt x="2505" y="9974"/>
                  <a:pt x="2357" y="9944"/>
                  <a:pt x="2208" y="9922"/>
                </a:cubicBezTo>
                <a:cubicBezTo>
                  <a:pt x="1941" y="9882"/>
                  <a:pt x="1650" y="9786"/>
                  <a:pt x="1389" y="9897"/>
                </a:cubicBezTo>
                <a:cubicBezTo>
                  <a:pt x="1221" y="9968"/>
                  <a:pt x="1061" y="10159"/>
                  <a:pt x="992" y="10319"/>
                </a:cubicBezTo>
                <a:cubicBezTo>
                  <a:pt x="923" y="10479"/>
                  <a:pt x="918" y="10663"/>
                  <a:pt x="918" y="10840"/>
                </a:cubicBezTo>
                <a:cubicBezTo>
                  <a:pt x="918" y="11073"/>
                  <a:pt x="937" y="11308"/>
                  <a:pt x="992" y="11534"/>
                </a:cubicBezTo>
                <a:cubicBezTo>
                  <a:pt x="1042" y="11739"/>
                  <a:pt x="1074" y="11954"/>
                  <a:pt x="1141" y="12154"/>
                </a:cubicBezTo>
                <a:cubicBezTo>
                  <a:pt x="1214" y="12375"/>
                  <a:pt x="1259" y="12470"/>
                  <a:pt x="1488" y="12576"/>
                </a:cubicBezTo>
                <a:cubicBezTo>
                  <a:pt x="1760" y="12701"/>
                  <a:pt x="1990" y="12707"/>
                  <a:pt x="2282" y="12650"/>
                </a:cubicBezTo>
                <a:cubicBezTo>
                  <a:pt x="2592" y="12589"/>
                  <a:pt x="2907" y="12496"/>
                  <a:pt x="3200" y="12378"/>
                </a:cubicBezTo>
                <a:cubicBezTo>
                  <a:pt x="3592" y="12220"/>
                  <a:pt x="3921" y="12102"/>
                  <a:pt x="4341" y="12030"/>
                </a:cubicBezTo>
                <a:cubicBezTo>
                  <a:pt x="4728" y="11964"/>
                  <a:pt x="5115" y="11936"/>
                  <a:pt x="5507" y="11931"/>
                </a:cubicBezTo>
                <a:cubicBezTo>
                  <a:pt x="5798" y="11927"/>
                  <a:pt x="6059" y="11943"/>
                  <a:pt x="6350" y="11906"/>
                </a:cubicBezTo>
                <a:cubicBezTo>
                  <a:pt x="6590" y="11876"/>
                  <a:pt x="6830" y="11865"/>
                  <a:pt x="7069" y="11832"/>
                </a:cubicBezTo>
                <a:cubicBezTo>
                  <a:pt x="7257" y="11806"/>
                  <a:pt x="7489" y="11770"/>
                  <a:pt x="7665" y="11708"/>
                </a:cubicBezTo>
                <a:cubicBezTo>
                  <a:pt x="7841" y="11646"/>
                  <a:pt x="7907" y="11579"/>
                  <a:pt x="7962" y="11410"/>
                </a:cubicBezTo>
                <a:cubicBezTo>
                  <a:pt x="8025" y="11215"/>
                  <a:pt x="8028" y="10967"/>
                  <a:pt x="8012" y="10765"/>
                </a:cubicBezTo>
                <a:cubicBezTo>
                  <a:pt x="7998" y="10589"/>
                  <a:pt x="7932" y="10415"/>
                  <a:pt x="7888" y="10244"/>
                </a:cubicBezTo>
                <a:cubicBezTo>
                  <a:pt x="7844" y="10074"/>
                  <a:pt x="7789" y="9971"/>
                  <a:pt x="7665" y="9847"/>
                </a:cubicBezTo>
                <a:cubicBezTo>
                  <a:pt x="7595" y="9777"/>
                  <a:pt x="7498" y="9731"/>
                  <a:pt x="7417" y="9674"/>
                </a:cubicBezTo>
                <a:cubicBezTo>
                  <a:pt x="7350" y="9627"/>
                  <a:pt x="7269" y="9575"/>
                  <a:pt x="7193" y="9550"/>
                </a:cubicBezTo>
                <a:cubicBezTo>
                  <a:pt x="7107" y="9521"/>
                  <a:pt x="6976" y="9520"/>
                  <a:pt x="6896" y="9500"/>
                </a:cubicBezTo>
                <a:cubicBezTo>
                  <a:pt x="6822" y="9481"/>
                  <a:pt x="6772" y="9460"/>
                  <a:pt x="6697" y="9451"/>
                </a:cubicBezTo>
                <a:cubicBezTo>
                  <a:pt x="6538" y="9433"/>
                  <a:pt x="6413" y="9464"/>
                  <a:pt x="6251" y="9500"/>
                </a:cubicBezTo>
                <a:cubicBezTo>
                  <a:pt x="6134" y="9526"/>
                  <a:pt x="6019" y="9533"/>
                  <a:pt x="5904" y="9550"/>
                </a:cubicBezTo>
                <a:cubicBezTo>
                  <a:pt x="5810" y="9564"/>
                  <a:pt x="5727" y="9577"/>
                  <a:pt x="5631" y="9599"/>
                </a:cubicBezTo>
                <a:cubicBezTo>
                  <a:pt x="5544" y="9619"/>
                  <a:pt x="5441" y="9626"/>
                  <a:pt x="5358" y="9649"/>
                </a:cubicBezTo>
                <a:cubicBezTo>
                  <a:pt x="5316" y="9661"/>
                  <a:pt x="5276" y="9687"/>
                  <a:pt x="5234" y="9699"/>
                </a:cubicBezTo>
              </a:path>
              <a:path w="7715" h="4069">
                <a:moveTo>
                  <a:pt x="422" y="11311"/>
                </a:moveTo>
                <a:cubicBezTo>
                  <a:pt x="414" y="11311"/>
                  <a:pt x="405" y="11311"/>
                  <a:pt x="397" y="11311"/>
                </a:cubicBezTo>
                <a:cubicBezTo>
                  <a:pt x="477" y="11311"/>
                  <a:pt x="566" y="11257"/>
                  <a:pt x="645" y="11286"/>
                </a:cubicBezTo>
                <a:cubicBezTo>
                  <a:pt x="751" y="11325"/>
                  <a:pt x="433" y="11304"/>
                  <a:pt x="322" y="11286"/>
                </a:cubicBezTo>
                <a:cubicBezTo>
                  <a:pt x="223" y="11270"/>
                  <a:pt x="472" y="11297"/>
                  <a:pt x="571" y="11311"/>
                </a:cubicBezTo>
                <a:cubicBezTo>
                  <a:pt x="845" y="11350"/>
                  <a:pt x="411" y="11273"/>
                  <a:pt x="372" y="11261"/>
                </a:cubicBezTo>
                <a:cubicBezTo>
                  <a:pt x="151" y="11261"/>
                  <a:pt x="569" y="11311"/>
                  <a:pt x="571" y="11311"/>
                </a:cubicBezTo>
                <a:cubicBezTo>
                  <a:pt x="735" y="11327"/>
                  <a:pt x="697" y="11330"/>
                  <a:pt x="571" y="11311"/>
                </a:cubicBezTo>
                <a:cubicBezTo>
                  <a:pt x="372" y="11281"/>
                  <a:pt x="478" y="11307"/>
                  <a:pt x="595" y="11336"/>
                </a:cubicBezTo>
                <a:cubicBezTo>
                  <a:pt x="637" y="11336"/>
                  <a:pt x="645" y="11336"/>
                  <a:pt x="670" y="11336"/>
                </a:cubicBezTo>
              </a:path>
              <a:path w="7715" h="4069">
                <a:moveTo>
                  <a:pt x="322" y="11088"/>
                </a:moveTo>
                <a:cubicBezTo>
                  <a:pt x="445" y="11132"/>
                  <a:pt x="546" y="11176"/>
                  <a:pt x="645" y="11237"/>
                </a:cubicBezTo>
                <a:cubicBezTo>
                  <a:pt x="698" y="11270"/>
                  <a:pt x="477" y="11140"/>
                  <a:pt x="471" y="11137"/>
                </a:cubicBezTo>
                <a:cubicBezTo>
                  <a:pt x="446" y="11129"/>
                  <a:pt x="422" y="11120"/>
                  <a:pt x="397" y="11112"/>
                </a:cubicBezTo>
                <a:cubicBezTo>
                  <a:pt x="484" y="11113"/>
                  <a:pt x="699" y="11212"/>
                  <a:pt x="794" y="11286"/>
                </a:cubicBezTo>
                <a:cubicBezTo>
                  <a:pt x="812" y="11300"/>
                  <a:pt x="637" y="11452"/>
                  <a:pt x="620" y="11485"/>
                </a:cubicBezTo>
                <a:cubicBezTo>
                  <a:pt x="487" y="11743"/>
                  <a:pt x="743" y="11412"/>
                  <a:pt x="744" y="11410"/>
                </a:cubicBezTo>
                <a:cubicBezTo>
                  <a:pt x="761" y="11385"/>
                  <a:pt x="777" y="11361"/>
                  <a:pt x="794" y="11336"/>
                </a:cubicBezTo>
                <a:cubicBezTo>
                  <a:pt x="768" y="11378"/>
                  <a:pt x="578" y="11744"/>
                  <a:pt x="546" y="11733"/>
                </a:cubicBezTo>
                <a:cubicBezTo>
                  <a:pt x="546" y="11653"/>
                  <a:pt x="567" y="11615"/>
                  <a:pt x="645" y="115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95200" y="6126120"/>
            <a:ext cx="7920" cy="9720"/>
          </a:xfrm>
          <a:custGeom>
            <a:avLst/>
            <a:gdLst/>
            <a:ahLst/>
            <a:rect l="l" t="t" r="r" b="b"/>
            <a:pathLst>
              <a:path w="25" h="26">
                <a:moveTo>
                  <a:pt x="843" y="17016"/>
                </a:moveTo>
                <a:cubicBezTo>
                  <a:pt x="835" y="17024"/>
                  <a:pt x="827" y="17033"/>
                  <a:pt x="819" y="170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Students will find equivalent ratio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tios in Simplest 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 1.) 15 to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 2.) 8: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 3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600200" y="3733920"/>
                <a:ext cx="4716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3652920" y="1857240"/>
            <a:ext cx="463320" cy="1044720"/>
          </a:xfrm>
          <a:custGeom>
            <a:avLst/>
            <a:gdLst/>
            <a:ahLst/>
            <a:rect l="l" t="t" r="r" b="b"/>
            <a:pathLst>
              <a:path w="1291" h="2904">
                <a:moveTo>
                  <a:pt x="11311" y="5159"/>
                </a:moveTo>
                <a:lnTo>
                  <a:pt x="11311" y="5159"/>
                </a:lnTo>
                <a:lnTo>
                  <a:pt x="11311" y="5159"/>
                </a:lnTo>
              </a:path>
              <a:path w="1291" h="2904">
                <a:moveTo>
                  <a:pt x="11385" y="5755"/>
                </a:moveTo>
                <a:cubicBezTo>
                  <a:pt x="11377" y="5755"/>
                  <a:pt x="11369" y="5755"/>
                  <a:pt x="11361" y="5755"/>
                </a:cubicBezTo>
              </a:path>
              <a:path w="1291" h="2904">
                <a:moveTo>
                  <a:pt x="11435" y="6300"/>
                </a:moveTo>
                <a:lnTo>
                  <a:pt x="11435" y="6300"/>
                </a:lnTo>
                <a:lnTo>
                  <a:pt x="11435" y="6300"/>
                </a:lnTo>
              </a:path>
              <a:path w="1291" h="2904">
                <a:moveTo>
                  <a:pt x="10145" y="7565"/>
                </a:moveTo>
                <a:lnTo>
                  <a:pt x="10145" y="7565"/>
                </a:lnTo>
              </a:path>
              <a:path w="1291" h="2904">
                <a:moveTo>
                  <a:pt x="10170" y="8062"/>
                </a:moveTo>
                <a:lnTo>
                  <a:pt x="10170" y="806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25920" y="1625760"/>
            <a:ext cx="473040" cy="642600"/>
          </a:xfrm>
          <a:custGeom>
            <a:avLst/>
            <a:gdLst/>
            <a:ahLst/>
            <a:rect l="l" t="t" r="r" b="b"/>
            <a:pathLst>
              <a:path w="1315" h="1787">
                <a:moveTo>
                  <a:pt x="10368" y="4614"/>
                </a:moveTo>
                <a:cubicBezTo>
                  <a:pt x="10355" y="4574"/>
                  <a:pt x="10357" y="4604"/>
                  <a:pt x="10344" y="4564"/>
                </a:cubicBezTo>
                <a:cubicBezTo>
                  <a:pt x="10344" y="4779"/>
                  <a:pt x="10344" y="4994"/>
                  <a:pt x="10344" y="5209"/>
                </a:cubicBezTo>
              </a:path>
              <a:path w="1315" h="1787">
                <a:moveTo>
                  <a:pt x="10840" y="4514"/>
                </a:moveTo>
                <a:cubicBezTo>
                  <a:pt x="10758" y="4526"/>
                  <a:pt x="10660" y="4534"/>
                  <a:pt x="10592" y="4564"/>
                </a:cubicBezTo>
                <a:cubicBezTo>
                  <a:pt x="10609" y="4654"/>
                  <a:pt x="10616" y="4740"/>
                  <a:pt x="10616" y="4837"/>
                </a:cubicBezTo>
                <a:cubicBezTo>
                  <a:pt x="10695" y="4837"/>
                  <a:pt x="10752" y="4733"/>
                  <a:pt x="10815" y="4738"/>
                </a:cubicBezTo>
                <a:cubicBezTo>
                  <a:pt x="11000" y="4751"/>
                  <a:pt x="10901" y="5093"/>
                  <a:pt x="10815" y="5159"/>
                </a:cubicBezTo>
                <a:cubicBezTo>
                  <a:pt x="10733" y="5180"/>
                  <a:pt x="10717" y="5188"/>
                  <a:pt x="10666" y="5184"/>
                </a:cubicBezTo>
              </a:path>
              <a:path w="1315" h="1787">
                <a:moveTo>
                  <a:pt x="10071" y="5407"/>
                </a:moveTo>
                <a:cubicBezTo>
                  <a:pt x="10306" y="5407"/>
                  <a:pt x="10531" y="5371"/>
                  <a:pt x="10765" y="5358"/>
                </a:cubicBezTo>
                <a:cubicBezTo>
                  <a:pt x="10880" y="5352"/>
                  <a:pt x="10997" y="5358"/>
                  <a:pt x="11112" y="5358"/>
                </a:cubicBezTo>
              </a:path>
              <a:path w="1315" h="1787">
                <a:moveTo>
                  <a:pt x="10542" y="5655"/>
                </a:moveTo>
                <a:cubicBezTo>
                  <a:pt x="10484" y="5674"/>
                  <a:pt x="10517" y="5908"/>
                  <a:pt x="10517" y="5953"/>
                </a:cubicBezTo>
                <a:cubicBezTo>
                  <a:pt x="10517" y="6085"/>
                  <a:pt x="10517" y="6383"/>
                  <a:pt x="10517" y="6251"/>
                </a:cubicBezTo>
              </a:path>
              <a:path w="1315" h="1787">
                <a:moveTo>
                  <a:pt x="10964" y="5606"/>
                </a:moveTo>
                <a:cubicBezTo>
                  <a:pt x="10857" y="5624"/>
                  <a:pt x="10815" y="5680"/>
                  <a:pt x="10740" y="5755"/>
                </a:cubicBezTo>
                <a:cubicBezTo>
                  <a:pt x="10740" y="5911"/>
                  <a:pt x="10882" y="5873"/>
                  <a:pt x="10964" y="5978"/>
                </a:cubicBezTo>
                <a:cubicBezTo>
                  <a:pt x="11078" y="6124"/>
                  <a:pt x="10988" y="6220"/>
                  <a:pt x="10864" y="6276"/>
                </a:cubicBezTo>
                <a:cubicBezTo>
                  <a:pt x="10746" y="6242"/>
                  <a:pt x="10790" y="6139"/>
                  <a:pt x="10815" y="6028"/>
                </a:cubicBezTo>
                <a:cubicBezTo>
                  <a:pt x="10845" y="5895"/>
                  <a:pt x="10931" y="5883"/>
                  <a:pt x="10988" y="5779"/>
                </a:cubicBezTo>
                <a:cubicBezTo>
                  <a:pt x="11002" y="5753"/>
                  <a:pt x="11083" y="5591"/>
                  <a:pt x="10988" y="5606"/>
                </a:cubicBezTo>
                <a:cubicBezTo>
                  <a:pt x="10928" y="5626"/>
                  <a:pt x="10914" y="5625"/>
                  <a:pt x="10889" y="5655"/>
                </a:cubicBezTo>
              </a:path>
              <a:path w="1315" h="1787">
                <a:moveTo>
                  <a:pt x="11137" y="4911"/>
                </a:moveTo>
                <a:cubicBezTo>
                  <a:pt x="11221" y="4911"/>
                  <a:pt x="11284" y="4919"/>
                  <a:pt x="11361" y="4936"/>
                </a:cubicBezTo>
                <a:cubicBezTo>
                  <a:pt x="11369" y="4936"/>
                  <a:pt x="11377" y="4936"/>
                  <a:pt x="11385" y="4936"/>
                </a:cubicBezTo>
              </a:path>
              <a:path w="1315" h="1787">
                <a:moveTo>
                  <a:pt x="11286" y="4713"/>
                </a:moveTo>
                <a:cubicBezTo>
                  <a:pt x="11237" y="4729"/>
                  <a:pt x="11261" y="4758"/>
                  <a:pt x="11261" y="48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86080" y="2643120"/>
            <a:ext cx="411120" cy="652680"/>
          </a:xfrm>
          <a:custGeom>
            <a:avLst/>
            <a:gdLst/>
            <a:ahLst/>
            <a:rect l="l" t="t" r="r" b="b"/>
            <a:pathLst>
              <a:path w="1142" h="1812">
                <a:moveTo>
                  <a:pt x="9798" y="7417"/>
                </a:moveTo>
                <a:cubicBezTo>
                  <a:pt x="9733" y="7308"/>
                  <a:pt x="9610" y="7324"/>
                  <a:pt x="9500" y="7392"/>
                </a:cubicBezTo>
                <a:cubicBezTo>
                  <a:pt x="9427" y="7465"/>
                  <a:pt x="9402" y="7489"/>
                  <a:pt x="9401" y="7565"/>
                </a:cubicBezTo>
                <a:cubicBezTo>
                  <a:pt x="9499" y="7677"/>
                  <a:pt x="9712" y="7690"/>
                  <a:pt x="9748" y="7863"/>
                </a:cubicBezTo>
                <a:cubicBezTo>
                  <a:pt x="9780" y="8016"/>
                  <a:pt x="9675" y="8077"/>
                  <a:pt x="9575" y="8136"/>
                </a:cubicBezTo>
                <a:cubicBezTo>
                  <a:pt x="9452" y="7973"/>
                  <a:pt x="9525" y="7833"/>
                  <a:pt x="9624" y="7640"/>
                </a:cubicBezTo>
                <a:cubicBezTo>
                  <a:pt x="9662" y="7583"/>
                  <a:pt x="9678" y="7580"/>
                  <a:pt x="9674" y="7541"/>
                </a:cubicBezTo>
              </a:path>
              <a:path w="1142" h="1812">
                <a:moveTo>
                  <a:pt x="9128" y="8384"/>
                </a:moveTo>
                <a:cubicBezTo>
                  <a:pt x="9319" y="8384"/>
                  <a:pt x="9509" y="8353"/>
                  <a:pt x="9699" y="8334"/>
                </a:cubicBezTo>
                <a:cubicBezTo>
                  <a:pt x="9734" y="8331"/>
                  <a:pt x="10040" y="8266"/>
                  <a:pt x="10071" y="8359"/>
                </a:cubicBezTo>
              </a:path>
              <a:path w="1142" h="1812">
                <a:moveTo>
                  <a:pt x="9302" y="8558"/>
                </a:moveTo>
                <a:cubicBezTo>
                  <a:pt x="9335" y="8734"/>
                  <a:pt x="9346" y="8921"/>
                  <a:pt x="9351" y="9103"/>
                </a:cubicBezTo>
                <a:cubicBezTo>
                  <a:pt x="9351" y="9145"/>
                  <a:pt x="9351" y="9170"/>
                  <a:pt x="9351" y="9128"/>
                </a:cubicBezTo>
              </a:path>
              <a:path w="1142" h="1812">
                <a:moveTo>
                  <a:pt x="9748" y="8582"/>
                </a:moveTo>
                <a:cubicBezTo>
                  <a:pt x="9675" y="8670"/>
                  <a:pt x="9545" y="8772"/>
                  <a:pt x="9649" y="8880"/>
                </a:cubicBezTo>
                <a:cubicBezTo>
                  <a:pt x="9756" y="8991"/>
                  <a:pt x="9875" y="9052"/>
                  <a:pt x="9723" y="9153"/>
                </a:cubicBezTo>
                <a:cubicBezTo>
                  <a:pt x="9610" y="9019"/>
                  <a:pt x="9730" y="8933"/>
                  <a:pt x="9773" y="8781"/>
                </a:cubicBezTo>
                <a:cubicBezTo>
                  <a:pt x="9773" y="8714"/>
                  <a:pt x="9781" y="8689"/>
                  <a:pt x="9723" y="8706"/>
                </a:cubicBezTo>
              </a:path>
              <a:path w="1142" h="1812">
                <a:moveTo>
                  <a:pt x="9996" y="7789"/>
                </a:moveTo>
                <a:cubicBezTo>
                  <a:pt x="10076" y="7789"/>
                  <a:pt x="10179" y="7843"/>
                  <a:pt x="10244" y="7838"/>
                </a:cubicBezTo>
                <a:cubicBezTo>
                  <a:pt x="10252" y="7830"/>
                  <a:pt x="10261" y="7821"/>
                  <a:pt x="10269" y="78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06840" y="1500120"/>
            <a:ext cx="1457280" cy="1928880"/>
          </a:xfrm>
          <a:custGeom>
            <a:avLst/>
            <a:gdLst/>
            <a:ahLst/>
            <a:rect l="l" t="t" r="r" b="b"/>
            <a:pathLst>
              <a:path w="4044" h="5359">
                <a:moveTo>
                  <a:pt x="11286" y="5953"/>
                </a:moveTo>
                <a:cubicBezTo>
                  <a:pt x="11355" y="5983"/>
                  <a:pt x="11427" y="5978"/>
                  <a:pt x="11509" y="5978"/>
                </a:cubicBezTo>
              </a:path>
              <a:path w="4044" h="5359">
                <a:moveTo>
                  <a:pt x="11733" y="4713"/>
                </a:moveTo>
                <a:cubicBezTo>
                  <a:pt x="11785" y="4695"/>
                  <a:pt x="11812" y="4625"/>
                  <a:pt x="11906" y="4638"/>
                </a:cubicBezTo>
                <a:cubicBezTo>
                  <a:pt x="12052" y="4658"/>
                  <a:pt x="11938" y="4823"/>
                  <a:pt x="11906" y="4887"/>
                </a:cubicBezTo>
                <a:cubicBezTo>
                  <a:pt x="11986" y="4887"/>
                  <a:pt x="12070" y="4820"/>
                  <a:pt x="12129" y="4911"/>
                </a:cubicBezTo>
                <a:cubicBezTo>
                  <a:pt x="12203" y="5025"/>
                  <a:pt x="11978" y="5202"/>
                  <a:pt x="11881" y="5209"/>
                </a:cubicBezTo>
                <a:cubicBezTo>
                  <a:pt x="11881" y="5201"/>
                  <a:pt x="11881" y="5192"/>
                  <a:pt x="11881" y="5184"/>
                </a:cubicBezTo>
              </a:path>
              <a:path w="4044" h="5359">
                <a:moveTo>
                  <a:pt x="11807" y="5680"/>
                </a:moveTo>
                <a:cubicBezTo>
                  <a:pt x="11848" y="5673"/>
                  <a:pt x="11982" y="5611"/>
                  <a:pt x="12005" y="5680"/>
                </a:cubicBezTo>
                <a:cubicBezTo>
                  <a:pt x="12028" y="5751"/>
                  <a:pt x="11975" y="5796"/>
                  <a:pt x="11956" y="5854"/>
                </a:cubicBezTo>
                <a:cubicBezTo>
                  <a:pt x="12058" y="5854"/>
                  <a:pt x="12122" y="5851"/>
                  <a:pt x="12129" y="5978"/>
                </a:cubicBezTo>
                <a:cubicBezTo>
                  <a:pt x="12137" y="6122"/>
                  <a:pt x="11990" y="6313"/>
                  <a:pt x="11832" y="6276"/>
                </a:cubicBezTo>
                <a:cubicBezTo>
                  <a:pt x="11832" y="6225"/>
                  <a:pt x="11838" y="6192"/>
                  <a:pt x="11857" y="6152"/>
                </a:cubicBezTo>
              </a:path>
              <a:path w="4044" h="5359">
                <a:moveTo>
                  <a:pt x="12551" y="5234"/>
                </a:moveTo>
                <a:cubicBezTo>
                  <a:pt x="12620" y="5234"/>
                  <a:pt x="12721" y="5215"/>
                  <a:pt x="12750" y="5259"/>
                </a:cubicBezTo>
              </a:path>
              <a:path w="4044" h="5359">
                <a:moveTo>
                  <a:pt x="12576" y="5407"/>
                </a:moveTo>
                <a:cubicBezTo>
                  <a:pt x="12642" y="5407"/>
                  <a:pt x="12698" y="5420"/>
                  <a:pt x="12750" y="5383"/>
                </a:cubicBezTo>
              </a:path>
              <a:path w="4044" h="5359">
                <a:moveTo>
                  <a:pt x="13568" y="4514"/>
                </a:moveTo>
                <a:cubicBezTo>
                  <a:pt x="13481" y="4522"/>
                  <a:pt x="13401" y="4548"/>
                  <a:pt x="13320" y="4564"/>
                </a:cubicBezTo>
                <a:cubicBezTo>
                  <a:pt x="13331" y="4655"/>
                  <a:pt x="13362" y="4746"/>
                  <a:pt x="13370" y="4837"/>
                </a:cubicBezTo>
                <a:cubicBezTo>
                  <a:pt x="13370" y="4845"/>
                  <a:pt x="13370" y="4854"/>
                  <a:pt x="13370" y="4862"/>
                </a:cubicBezTo>
                <a:cubicBezTo>
                  <a:pt x="13435" y="4840"/>
                  <a:pt x="13498" y="4810"/>
                  <a:pt x="13568" y="4787"/>
                </a:cubicBezTo>
                <a:cubicBezTo>
                  <a:pt x="13648" y="4921"/>
                  <a:pt x="13608" y="5058"/>
                  <a:pt x="13444" y="5135"/>
                </a:cubicBezTo>
                <a:cubicBezTo>
                  <a:pt x="13403" y="5143"/>
                  <a:pt x="13361" y="5151"/>
                  <a:pt x="13320" y="5159"/>
                </a:cubicBezTo>
              </a:path>
              <a:path w="4044" h="5359">
                <a:moveTo>
                  <a:pt x="13122" y="5457"/>
                </a:moveTo>
                <a:cubicBezTo>
                  <a:pt x="13023" y="5457"/>
                  <a:pt x="13271" y="5465"/>
                  <a:pt x="13370" y="5457"/>
                </a:cubicBezTo>
                <a:cubicBezTo>
                  <a:pt x="13463" y="5450"/>
                  <a:pt x="13740" y="5397"/>
                  <a:pt x="13791" y="5432"/>
                </a:cubicBezTo>
              </a:path>
              <a:path w="4044" h="5359">
                <a:moveTo>
                  <a:pt x="13295" y="5730"/>
                </a:moveTo>
                <a:cubicBezTo>
                  <a:pt x="13270" y="5849"/>
                  <a:pt x="13230" y="6003"/>
                  <a:pt x="13246" y="6127"/>
                </a:cubicBezTo>
                <a:cubicBezTo>
                  <a:pt x="13259" y="6227"/>
                  <a:pt x="13265" y="6263"/>
                  <a:pt x="13370" y="6276"/>
                </a:cubicBezTo>
                <a:cubicBezTo>
                  <a:pt x="13414" y="6281"/>
                  <a:pt x="13547" y="6264"/>
                  <a:pt x="13568" y="6226"/>
                </a:cubicBezTo>
                <a:cubicBezTo>
                  <a:pt x="13586" y="6194"/>
                  <a:pt x="13634" y="6096"/>
                  <a:pt x="13618" y="6052"/>
                </a:cubicBezTo>
                <a:cubicBezTo>
                  <a:pt x="13600" y="6002"/>
                  <a:pt x="13571" y="5943"/>
                  <a:pt x="13519" y="5953"/>
                </a:cubicBezTo>
                <a:cubicBezTo>
                  <a:pt x="13502" y="5961"/>
                  <a:pt x="13486" y="5970"/>
                  <a:pt x="13469" y="5978"/>
                </a:cubicBezTo>
                <a:cubicBezTo>
                  <a:pt x="13435" y="6058"/>
                  <a:pt x="13433" y="6140"/>
                  <a:pt x="13469" y="6226"/>
                </a:cubicBezTo>
                <a:cubicBezTo>
                  <a:pt x="13489" y="6266"/>
                  <a:pt x="13498" y="6273"/>
                  <a:pt x="13494" y="6300"/>
                </a:cubicBezTo>
              </a:path>
              <a:path w="4044" h="5359">
                <a:moveTo>
                  <a:pt x="12923" y="4564"/>
                </a:moveTo>
                <a:cubicBezTo>
                  <a:pt x="12923" y="4717"/>
                  <a:pt x="12930" y="4866"/>
                  <a:pt x="12948" y="5011"/>
                </a:cubicBezTo>
                <a:cubicBezTo>
                  <a:pt x="12957" y="5085"/>
                  <a:pt x="12977" y="5218"/>
                  <a:pt x="12973" y="5283"/>
                </a:cubicBezTo>
                <a:cubicBezTo>
                  <a:pt x="12970" y="5335"/>
                  <a:pt x="12951" y="5381"/>
                  <a:pt x="12948" y="5432"/>
                </a:cubicBezTo>
                <a:cubicBezTo>
                  <a:pt x="12944" y="5504"/>
                  <a:pt x="12919" y="5615"/>
                  <a:pt x="12923" y="5680"/>
                </a:cubicBezTo>
                <a:cubicBezTo>
                  <a:pt x="12929" y="5764"/>
                  <a:pt x="12937" y="5867"/>
                  <a:pt x="12948" y="5953"/>
                </a:cubicBezTo>
                <a:cubicBezTo>
                  <a:pt x="12959" y="6035"/>
                  <a:pt x="12953" y="6070"/>
                  <a:pt x="12948" y="6152"/>
                </a:cubicBezTo>
                <a:cubicBezTo>
                  <a:pt x="12943" y="6243"/>
                  <a:pt x="12927" y="6424"/>
                  <a:pt x="12973" y="6474"/>
                </a:cubicBezTo>
                <a:cubicBezTo>
                  <a:pt x="12999" y="6502"/>
                  <a:pt x="12993" y="6495"/>
                  <a:pt x="13047" y="6499"/>
                </a:cubicBezTo>
                <a:cubicBezTo>
                  <a:pt x="13156" y="6508"/>
                  <a:pt x="13266" y="6511"/>
                  <a:pt x="13370" y="6524"/>
                </a:cubicBezTo>
                <a:cubicBezTo>
                  <a:pt x="13465" y="6535"/>
                  <a:pt x="13563" y="6507"/>
                  <a:pt x="13643" y="6499"/>
                </a:cubicBezTo>
                <a:cubicBezTo>
                  <a:pt x="13703" y="6493"/>
                  <a:pt x="13761" y="6481"/>
                  <a:pt x="13816" y="6474"/>
                </a:cubicBezTo>
                <a:cubicBezTo>
                  <a:pt x="13863" y="6468"/>
                  <a:pt x="13871" y="6459"/>
                  <a:pt x="13891" y="6449"/>
                </a:cubicBezTo>
                <a:cubicBezTo>
                  <a:pt x="13963" y="6415"/>
                  <a:pt x="13941" y="6372"/>
                  <a:pt x="13965" y="6300"/>
                </a:cubicBezTo>
                <a:cubicBezTo>
                  <a:pt x="13982" y="6248"/>
                  <a:pt x="13980" y="6205"/>
                  <a:pt x="13990" y="6152"/>
                </a:cubicBezTo>
                <a:cubicBezTo>
                  <a:pt x="14003" y="6086"/>
                  <a:pt x="14029" y="6019"/>
                  <a:pt x="14039" y="5953"/>
                </a:cubicBezTo>
                <a:cubicBezTo>
                  <a:pt x="14074" y="5729"/>
                  <a:pt x="14036" y="5480"/>
                  <a:pt x="14064" y="5259"/>
                </a:cubicBezTo>
                <a:cubicBezTo>
                  <a:pt x="14091" y="5048"/>
                  <a:pt x="14059" y="4817"/>
                  <a:pt x="14039" y="4614"/>
                </a:cubicBezTo>
                <a:cubicBezTo>
                  <a:pt x="14032" y="4545"/>
                  <a:pt x="14036" y="4482"/>
                  <a:pt x="14015" y="4415"/>
                </a:cubicBezTo>
                <a:cubicBezTo>
                  <a:pt x="14002" y="4374"/>
                  <a:pt x="14003" y="4335"/>
                  <a:pt x="13990" y="4291"/>
                </a:cubicBezTo>
                <a:cubicBezTo>
                  <a:pt x="13989" y="4288"/>
                  <a:pt x="13969" y="4220"/>
                  <a:pt x="13965" y="4217"/>
                </a:cubicBezTo>
                <a:cubicBezTo>
                  <a:pt x="13933" y="4190"/>
                  <a:pt x="13860" y="4165"/>
                  <a:pt x="13816" y="4167"/>
                </a:cubicBezTo>
                <a:cubicBezTo>
                  <a:pt x="13763" y="4169"/>
                  <a:pt x="13744" y="4187"/>
                  <a:pt x="13692" y="4192"/>
                </a:cubicBezTo>
                <a:cubicBezTo>
                  <a:pt x="13601" y="4201"/>
                  <a:pt x="13505" y="4208"/>
                  <a:pt x="13419" y="4217"/>
                </a:cubicBezTo>
                <a:cubicBezTo>
                  <a:pt x="13355" y="4224"/>
                  <a:pt x="13306" y="4222"/>
                  <a:pt x="13246" y="4242"/>
                </a:cubicBezTo>
                <a:cubicBezTo>
                  <a:pt x="13173" y="4267"/>
                  <a:pt x="13126" y="4266"/>
                  <a:pt x="13047" y="4266"/>
                </a:cubicBezTo>
                <a:cubicBezTo>
                  <a:pt x="12964" y="4266"/>
                  <a:pt x="12882" y="4266"/>
                  <a:pt x="12799" y="4266"/>
                </a:cubicBezTo>
                <a:cubicBezTo>
                  <a:pt x="12822" y="4356"/>
                  <a:pt x="12842" y="4446"/>
                  <a:pt x="12849" y="4539"/>
                </a:cubicBezTo>
                <a:cubicBezTo>
                  <a:pt x="12855" y="4613"/>
                  <a:pt x="12868" y="4702"/>
                  <a:pt x="12874" y="4762"/>
                </a:cubicBezTo>
                <a:cubicBezTo>
                  <a:pt x="12878" y="4803"/>
                  <a:pt x="12871" y="4846"/>
                  <a:pt x="12874" y="4887"/>
                </a:cubicBezTo>
              </a:path>
              <a:path w="4044" h="5359">
                <a:moveTo>
                  <a:pt x="10468" y="7590"/>
                </a:moveTo>
                <a:cubicBezTo>
                  <a:pt x="10524" y="7516"/>
                  <a:pt x="10651" y="7419"/>
                  <a:pt x="10641" y="7590"/>
                </a:cubicBezTo>
                <a:cubicBezTo>
                  <a:pt x="10634" y="7708"/>
                  <a:pt x="10564" y="7804"/>
                  <a:pt x="10542" y="7913"/>
                </a:cubicBezTo>
                <a:cubicBezTo>
                  <a:pt x="10613" y="7913"/>
                  <a:pt x="10686" y="7896"/>
                  <a:pt x="10740" y="7938"/>
                </a:cubicBezTo>
              </a:path>
              <a:path w="4044" h="5359">
                <a:moveTo>
                  <a:pt x="10021" y="8855"/>
                </a:moveTo>
                <a:cubicBezTo>
                  <a:pt x="10095" y="8855"/>
                  <a:pt x="10170" y="8855"/>
                  <a:pt x="10244" y="8855"/>
                </a:cubicBezTo>
              </a:path>
              <a:path w="4044" h="5359">
                <a:moveTo>
                  <a:pt x="10517" y="8731"/>
                </a:moveTo>
                <a:cubicBezTo>
                  <a:pt x="10581" y="8689"/>
                  <a:pt x="10592" y="8673"/>
                  <a:pt x="10641" y="8682"/>
                </a:cubicBezTo>
                <a:cubicBezTo>
                  <a:pt x="10712" y="8776"/>
                  <a:pt x="10614" y="8905"/>
                  <a:pt x="10542" y="9004"/>
                </a:cubicBezTo>
                <a:cubicBezTo>
                  <a:pt x="10517" y="9029"/>
                  <a:pt x="10509" y="9037"/>
                  <a:pt x="10492" y="9054"/>
                </a:cubicBezTo>
                <a:cubicBezTo>
                  <a:pt x="10587" y="9054"/>
                  <a:pt x="10701" y="9097"/>
                  <a:pt x="10716" y="9004"/>
                </a:cubicBezTo>
              </a:path>
              <a:path w="4044" h="5359">
                <a:moveTo>
                  <a:pt x="11212" y="8285"/>
                </a:moveTo>
                <a:cubicBezTo>
                  <a:pt x="11270" y="8285"/>
                  <a:pt x="11327" y="8285"/>
                  <a:pt x="11385" y="8285"/>
                </a:cubicBezTo>
              </a:path>
              <a:path w="4044" h="5359">
                <a:moveTo>
                  <a:pt x="11187" y="8508"/>
                </a:moveTo>
                <a:cubicBezTo>
                  <a:pt x="11253" y="8508"/>
                  <a:pt x="11319" y="8508"/>
                  <a:pt x="11385" y="8508"/>
                </a:cubicBezTo>
              </a:path>
              <a:path w="4044" h="5359">
                <a:moveTo>
                  <a:pt x="11931" y="7516"/>
                </a:moveTo>
                <a:cubicBezTo>
                  <a:pt x="11931" y="7650"/>
                  <a:pt x="11936" y="7725"/>
                  <a:pt x="11857" y="7838"/>
                </a:cubicBezTo>
                <a:cubicBezTo>
                  <a:pt x="11981" y="7854"/>
                  <a:pt x="12075" y="7836"/>
                  <a:pt x="12204" y="7813"/>
                </a:cubicBezTo>
                <a:cubicBezTo>
                  <a:pt x="12212" y="7813"/>
                  <a:pt x="12221" y="7813"/>
                  <a:pt x="12229" y="7813"/>
                </a:cubicBezTo>
              </a:path>
              <a:path w="4044" h="5359">
                <a:moveTo>
                  <a:pt x="12278" y="7293"/>
                </a:moveTo>
                <a:cubicBezTo>
                  <a:pt x="12278" y="7535"/>
                  <a:pt x="12275" y="7772"/>
                  <a:pt x="12254" y="8012"/>
                </a:cubicBezTo>
                <a:cubicBezTo>
                  <a:pt x="12251" y="8044"/>
                  <a:pt x="12254" y="8079"/>
                  <a:pt x="12254" y="8111"/>
                </a:cubicBezTo>
              </a:path>
              <a:path w="4044" h="5359">
                <a:moveTo>
                  <a:pt x="11683" y="8235"/>
                </a:moveTo>
                <a:cubicBezTo>
                  <a:pt x="11880" y="8307"/>
                  <a:pt x="12094" y="8288"/>
                  <a:pt x="12303" y="8310"/>
                </a:cubicBezTo>
                <a:cubicBezTo>
                  <a:pt x="12410" y="8321"/>
                  <a:pt x="12577" y="8334"/>
                  <a:pt x="12650" y="8359"/>
                </a:cubicBezTo>
              </a:path>
              <a:path w="4044" h="5359">
                <a:moveTo>
                  <a:pt x="12204" y="8657"/>
                </a:moveTo>
                <a:cubicBezTo>
                  <a:pt x="12192" y="8559"/>
                  <a:pt x="12124" y="8474"/>
                  <a:pt x="12005" y="8508"/>
                </a:cubicBezTo>
                <a:cubicBezTo>
                  <a:pt x="11831" y="8558"/>
                  <a:pt x="11840" y="8767"/>
                  <a:pt x="11832" y="8905"/>
                </a:cubicBezTo>
                <a:cubicBezTo>
                  <a:pt x="11956" y="8972"/>
                  <a:pt x="12099" y="8962"/>
                  <a:pt x="12204" y="8830"/>
                </a:cubicBezTo>
                <a:cubicBezTo>
                  <a:pt x="12212" y="8805"/>
                  <a:pt x="12221" y="8781"/>
                  <a:pt x="12229" y="8756"/>
                </a:cubicBezTo>
              </a:path>
              <a:path w="4044" h="5359">
                <a:moveTo>
                  <a:pt x="12229" y="8607"/>
                </a:moveTo>
                <a:cubicBezTo>
                  <a:pt x="12229" y="8766"/>
                  <a:pt x="12212" y="8921"/>
                  <a:pt x="12204" y="9079"/>
                </a:cubicBezTo>
                <a:cubicBezTo>
                  <a:pt x="12204" y="9178"/>
                  <a:pt x="12204" y="9194"/>
                  <a:pt x="12204" y="9252"/>
                </a:cubicBezTo>
              </a:path>
              <a:path w="4044" h="5359">
                <a:moveTo>
                  <a:pt x="11435" y="7342"/>
                </a:moveTo>
                <a:cubicBezTo>
                  <a:pt x="11425" y="7352"/>
                  <a:pt x="11398" y="7332"/>
                  <a:pt x="11385" y="7441"/>
                </a:cubicBezTo>
                <a:cubicBezTo>
                  <a:pt x="11367" y="7595"/>
                  <a:pt x="11396" y="7740"/>
                  <a:pt x="11410" y="7888"/>
                </a:cubicBezTo>
                <a:cubicBezTo>
                  <a:pt x="11416" y="7956"/>
                  <a:pt x="11414" y="8023"/>
                  <a:pt x="11435" y="8086"/>
                </a:cubicBezTo>
                <a:cubicBezTo>
                  <a:pt x="11466" y="8180"/>
                  <a:pt x="11488" y="8264"/>
                  <a:pt x="11509" y="8359"/>
                </a:cubicBezTo>
                <a:cubicBezTo>
                  <a:pt x="11530" y="8455"/>
                  <a:pt x="11534" y="8532"/>
                  <a:pt x="11534" y="8632"/>
                </a:cubicBezTo>
                <a:cubicBezTo>
                  <a:pt x="11534" y="8799"/>
                  <a:pt x="11569" y="8995"/>
                  <a:pt x="11559" y="9153"/>
                </a:cubicBezTo>
                <a:cubicBezTo>
                  <a:pt x="11555" y="9218"/>
                  <a:pt x="11544" y="9284"/>
                  <a:pt x="11534" y="9351"/>
                </a:cubicBezTo>
                <a:cubicBezTo>
                  <a:pt x="11525" y="9409"/>
                  <a:pt x="11518" y="9467"/>
                  <a:pt x="11509" y="9525"/>
                </a:cubicBezTo>
                <a:cubicBezTo>
                  <a:pt x="11559" y="9513"/>
                  <a:pt x="11609" y="9485"/>
                  <a:pt x="11658" y="9475"/>
                </a:cubicBezTo>
                <a:cubicBezTo>
                  <a:pt x="11709" y="9465"/>
                  <a:pt x="11853" y="9489"/>
                  <a:pt x="11906" y="9500"/>
                </a:cubicBezTo>
                <a:cubicBezTo>
                  <a:pt x="12009" y="9522"/>
                  <a:pt x="12097" y="9525"/>
                  <a:pt x="12204" y="9525"/>
                </a:cubicBezTo>
                <a:cubicBezTo>
                  <a:pt x="12333" y="9525"/>
                  <a:pt x="12452" y="9514"/>
                  <a:pt x="12576" y="9500"/>
                </a:cubicBezTo>
                <a:cubicBezTo>
                  <a:pt x="12631" y="9494"/>
                  <a:pt x="12694" y="9500"/>
                  <a:pt x="12750" y="9500"/>
                </a:cubicBezTo>
                <a:cubicBezTo>
                  <a:pt x="12727" y="9386"/>
                  <a:pt x="12703" y="9272"/>
                  <a:pt x="12700" y="9153"/>
                </a:cubicBezTo>
                <a:cubicBezTo>
                  <a:pt x="12696" y="8991"/>
                  <a:pt x="12708" y="8838"/>
                  <a:pt x="12725" y="8682"/>
                </a:cubicBezTo>
                <a:cubicBezTo>
                  <a:pt x="12735" y="8594"/>
                  <a:pt x="12742" y="8492"/>
                  <a:pt x="12750" y="8409"/>
                </a:cubicBezTo>
                <a:cubicBezTo>
                  <a:pt x="12759" y="8308"/>
                  <a:pt x="12758" y="8211"/>
                  <a:pt x="12774" y="8111"/>
                </a:cubicBezTo>
                <a:cubicBezTo>
                  <a:pt x="12788" y="8026"/>
                  <a:pt x="12796" y="7951"/>
                  <a:pt x="12799" y="7863"/>
                </a:cubicBezTo>
                <a:cubicBezTo>
                  <a:pt x="12803" y="7734"/>
                  <a:pt x="12785" y="7616"/>
                  <a:pt x="12774" y="7491"/>
                </a:cubicBezTo>
                <a:cubicBezTo>
                  <a:pt x="12768" y="7416"/>
                  <a:pt x="12758" y="7331"/>
                  <a:pt x="12750" y="7268"/>
                </a:cubicBezTo>
                <a:cubicBezTo>
                  <a:pt x="12744" y="7221"/>
                  <a:pt x="12761" y="7205"/>
                  <a:pt x="12725" y="7169"/>
                </a:cubicBezTo>
                <a:cubicBezTo>
                  <a:pt x="12694" y="7138"/>
                  <a:pt x="12655" y="7141"/>
                  <a:pt x="12601" y="7119"/>
                </a:cubicBezTo>
                <a:cubicBezTo>
                  <a:pt x="12549" y="7097"/>
                  <a:pt x="12542" y="7097"/>
                  <a:pt x="12477" y="7094"/>
                </a:cubicBezTo>
                <a:cubicBezTo>
                  <a:pt x="12397" y="7091"/>
                  <a:pt x="12332" y="7114"/>
                  <a:pt x="12254" y="7119"/>
                </a:cubicBezTo>
                <a:cubicBezTo>
                  <a:pt x="12174" y="7125"/>
                  <a:pt x="12106" y="7129"/>
                  <a:pt x="12030" y="7144"/>
                </a:cubicBezTo>
                <a:cubicBezTo>
                  <a:pt x="11939" y="7162"/>
                  <a:pt x="11852" y="7169"/>
                  <a:pt x="11757" y="7169"/>
                </a:cubicBezTo>
                <a:cubicBezTo>
                  <a:pt x="11683" y="7169"/>
                  <a:pt x="11644" y="7173"/>
                  <a:pt x="11584" y="7169"/>
                </a:cubicBezTo>
                <a:cubicBezTo>
                  <a:pt x="11515" y="7164"/>
                  <a:pt x="11418" y="7162"/>
                  <a:pt x="11385" y="7193"/>
                </a:cubicBezTo>
                <a:cubicBezTo>
                  <a:pt x="11339" y="7236"/>
                  <a:pt x="11363" y="7282"/>
                  <a:pt x="11361" y="7392"/>
                </a:cubicBezTo>
                <a:cubicBezTo>
                  <a:pt x="11360" y="7458"/>
                  <a:pt x="11361" y="7475"/>
                  <a:pt x="11361" y="75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081160" y="1589040"/>
            <a:ext cx="5089680" cy="2982960"/>
          </a:xfrm>
          <a:custGeom>
            <a:avLst/>
            <a:gdLst/>
            <a:ahLst/>
            <a:rect l="l" t="t" r="r" b="b"/>
            <a:pathLst>
              <a:path w="14140" h="8286">
                <a:moveTo>
                  <a:pt x="18554" y="4415"/>
                </a:moveTo>
                <a:lnTo>
                  <a:pt x="18554" y="4415"/>
                </a:lnTo>
              </a:path>
              <a:path w="14140" h="8286">
                <a:moveTo>
                  <a:pt x="18604" y="4887"/>
                </a:moveTo>
                <a:lnTo>
                  <a:pt x="18604" y="4887"/>
                </a:lnTo>
              </a:path>
              <a:path w="14140" h="8286">
                <a:moveTo>
                  <a:pt x="18752" y="5755"/>
                </a:moveTo>
                <a:cubicBezTo>
                  <a:pt x="18752" y="5763"/>
                  <a:pt x="18752" y="5771"/>
                  <a:pt x="18752" y="5779"/>
                </a:cubicBezTo>
              </a:path>
              <a:path w="14140" h="8286">
                <a:moveTo>
                  <a:pt x="18752" y="5779"/>
                </a:moveTo>
                <a:lnTo>
                  <a:pt x="18752" y="5779"/>
                </a:lnTo>
              </a:path>
              <a:path w="14140" h="8286">
                <a:moveTo>
                  <a:pt x="18777" y="6325"/>
                </a:moveTo>
                <a:cubicBezTo>
                  <a:pt x="18777" y="6317"/>
                  <a:pt x="18777" y="6308"/>
                  <a:pt x="18777" y="6300"/>
                </a:cubicBezTo>
              </a:path>
              <a:path w="14140" h="8286">
                <a:moveTo>
                  <a:pt x="19645" y="5085"/>
                </a:moveTo>
                <a:cubicBezTo>
                  <a:pt x="19730" y="5076"/>
                  <a:pt x="19809" y="5056"/>
                  <a:pt x="19893" y="5035"/>
                </a:cubicBezTo>
              </a:path>
              <a:path w="14140" h="8286">
                <a:moveTo>
                  <a:pt x="19695" y="5234"/>
                </a:moveTo>
                <a:cubicBezTo>
                  <a:pt x="19814" y="5210"/>
                  <a:pt x="19851" y="5204"/>
                  <a:pt x="19918" y="5159"/>
                </a:cubicBezTo>
              </a:path>
              <a:path w="14140" h="8286">
                <a:moveTo>
                  <a:pt x="5804" y="10765"/>
                </a:moveTo>
                <a:cubicBezTo>
                  <a:pt x="5796" y="10765"/>
                  <a:pt x="5787" y="10765"/>
                  <a:pt x="5779" y="10765"/>
                </a:cubicBezTo>
              </a:path>
              <a:path w="14140" h="8286">
                <a:moveTo>
                  <a:pt x="5804" y="11187"/>
                </a:moveTo>
                <a:cubicBezTo>
                  <a:pt x="5796" y="11195"/>
                  <a:pt x="5787" y="11204"/>
                  <a:pt x="5779" y="11212"/>
                </a:cubicBezTo>
              </a:path>
              <a:path w="14140" h="8286">
                <a:moveTo>
                  <a:pt x="5804" y="12254"/>
                </a:moveTo>
                <a:cubicBezTo>
                  <a:pt x="5887" y="12254"/>
                  <a:pt x="5969" y="12254"/>
                  <a:pt x="6052" y="12254"/>
                </a:cubicBezTo>
              </a:path>
              <a:path w="14140" h="8286">
                <a:moveTo>
                  <a:pt x="5879" y="12030"/>
                </a:moveTo>
                <a:cubicBezTo>
                  <a:pt x="5879" y="12038"/>
                  <a:pt x="5879" y="12047"/>
                  <a:pt x="5879" y="12055"/>
                </a:cubicBezTo>
              </a:path>
              <a:path w="14140" h="8286">
                <a:moveTo>
                  <a:pt x="5879" y="12477"/>
                </a:moveTo>
                <a:lnTo>
                  <a:pt x="5879" y="12477"/>
                </a:lnTo>
                <a:lnTo>
                  <a:pt x="5879" y="12477"/>
                </a:lnTo>
              </a:path>
              <a:path w="14140" h="8286">
                <a:moveTo>
                  <a:pt x="6152" y="10864"/>
                </a:moveTo>
                <a:cubicBezTo>
                  <a:pt x="6195" y="10839"/>
                  <a:pt x="6365" y="10713"/>
                  <a:pt x="6350" y="10840"/>
                </a:cubicBezTo>
                <a:cubicBezTo>
                  <a:pt x="6341" y="10913"/>
                  <a:pt x="6329" y="10961"/>
                  <a:pt x="6276" y="10988"/>
                </a:cubicBezTo>
                <a:cubicBezTo>
                  <a:pt x="6347" y="11000"/>
                  <a:pt x="6519" y="11051"/>
                  <a:pt x="6499" y="11162"/>
                </a:cubicBezTo>
                <a:cubicBezTo>
                  <a:pt x="6478" y="11281"/>
                  <a:pt x="6343" y="11357"/>
                  <a:pt x="6251" y="11311"/>
                </a:cubicBezTo>
              </a:path>
              <a:path w="14140" h="8286">
                <a:moveTo>
                  <a:pt x="6276" y="12080"/>
                </a:moveTo>
                <a:cubicBezTo>
                  <a:pt x="6314" y="12057"/>
                  <a:pt x="6466" y="12025"/>
                  <a:pt x="6474" y="12105"/>
                </a:cubicBezTo>
                <a:cubicBezTo>
                  <a:pt x="6482" y="12182"/>
                  <a:pt x="6398" y="12230"/>
                  <a:pt x="6350" y="12254"/>
                </a:cubicBezTo>
                <a:cubicBezTo>
                  <a:pt x="6465" y="12261"/>
                  <a:pt x="6480" y="12247"/>
                  <a:pt x="6548" y="12328"/>
                </a:cubicBezTo>
                <a:cubicBezTo>
                  <a:pt x="6482" y="12381"/>
                  <a:pt x="6283" y="12520"/>
                  <a:pt x="6201" y="12402"/>
                </a:cubicBezTo>
                <a:cubicBezTo>
                  <a:pt x="6209" y="12386"/>
                  <a:pt x="6218" y="12369"/>
                  <a:pt x="6226" y="12353"/>
                </a:cubicBezTo>
              </a:path>
              <a:path w="14140" h="8286">
                <a:moveTo>
                  <a:pt x="6921" y="11757"/>
                </a:moveTo>
                <a:cubicBezTo>
                  <a:pt x="6999" y="11739"/>
                  <a:pt x="7063" y="11733"/>
                  <a:pt x="7144" y="11733"/>
                </a:cubicBezTo>
              </a:path>
              <a:path w="14140" h="8286">
                <a:moveTo>
                  <a:pt x="6970" y="11906"/>
                </a:moveTo>
                <a:cubicBezTo>
                  <a:pt x="7053" y="11906"/>
                  <a:pt x="7069" y="11906"/>
                  <a:pt x="7119" y="11906"/>
                </a:cubicBezTo>
              </a:path>
              <a:path w="14140" h="8286">
                <a:moveTo>
                  <a:pt x="7838" y="10765"/>
                </a:moveTo>
                <a:cubicBezTo>
                  <a:pt x="7929" y="10743"/>
                  <a:pt x="7994" y="10727"/>
                  <a:pt x="8086" y="10716"/>
                </a:cubicBezTo>
                <a:cubicBezTo>
                  <a:pt x="8124" y="10922"/>
                  <a:pt x="8014" y="10969"/>
                  <a:pt x="7863" y="11088"/>
                </a:cubicBezTo>
                <a:cubicBezTo>
                  <a:pt x="7855" y="11096"/>
                  <a:pt x="7846" y="11104"/>
                  <a:pt x="7838" y="11112"/>
                </a:cubicBezTo>
                <a:cubicBezTo>
                  <a:pt x="7974" y="11112"/>
                  <a:pt x="8101" y="11099"/>
                  <a:pt x="8235" y="11088"/>
                </a:cubicBezTo>
                <a:cubicBezTo>
                  <a:pt x="8300" y="11083"/>
                  <a:pt x="8320" y="11071"/>
                  <a:pt x="8334" y="11112"/>
                </a:cubicBezTo>
              </a:path>
              <a:path w="14140" h="8286">
                <a:moveTo>
                  <a:pt x="7764" y="11385"/>
                </a:moveTo>
                <a:cubicBezTo>
                  <a:pt x="8007" y="11359"/>
                  <a:pt x="8242" y="11345"/>
                  <a:pt x="8483" y="11361"/>
                </a:cubicBezTo>
                <a:cubicBezTo>
                  <a:pt x="8508" y="11361"/>
                  <a:pt x="8516" y="11361"/>
                  <a:pt x="8533" y="11361"/>
                </a:cubicBezTo>
              </a:path>
              <a:path w="14140" h="8286">
                <a:moveTo>
                  <a:pt x="8037" y="11708"/>
                </a:moveTo>
                <a:cubicBezTo>
                  <a:pt x="8029" y="11700"/>
                  <a:pt x="8020" y="11691"/>
                  <a:pt x="8012" y="11683"/>
                </a:cubicBezTo>
              </a:path>
              <a:path w="14140" h="8286">
                <a:moveTo>
                  <a:pt x="8012" y="11683"/>
                </a:moveTo>
                <a:lnTo>
                  <a:pt x="8012" y="11683"/>
                </a:lnTo>
              </a:path>
              <a:path w="14140" h="8286">
                <a:moveTo>
                  <a:pt x="8037" y="11683"/>
                </a:moveTo>
                <a:lnTo>
                  <a:pt x="8037" y="11683"/>
                </a:lnTo>
              </a:path>
              <a:path w="14140" h="8286">
                <a:moveTo>
                  <a:pt x="8037" y="11683"/>
                </a:moveTo>
                <a:lnTo>
                  <a:pt x="8037" y="11683"/>
                </a:lnTo>
              </a:path>
              <a:path w="14140" h="8286">
                <a:moveTo>
                  <a:pt x="8037" y="11683"/>
                </a:moveTo>
                <a:cubicBezTo>
                  <a:pt x="8030" y="11736"/>
                  <a:pt x="8014" y="11791"/>
                  <a:pt x="7987" y="11832"/>
                </a:cubicBezTo>
                <a:cubicBezTo>
                  <a:pt x="7966" y="11863"/>
                  <a:pt x="7922" y="11921"/>
                  <a:pt x="7913" y="11956"/>
                </a:cubicBezTo>
                <a:cubicBezTo>
                  <a:pt x="7900" y="12003"/>
                  <a:pt x="7888" y="12055"/>
                  <a:pt x="7888" y="12105"/>
                </a:cubicBezTo>
                <a:cubicBezTo>
                  <a:pt x="7888" y="12168"/>
                  <a:pt x="7931" y="12230"/>
                  <a:pt x="7987" y="12254"/>
                </a:cubicBezTo>
                <a:cubicBezTo>
                  <a:pt x="8035" y="12274"/>
                  <a:pt x="8083" y="12278"/>
                  <a:pt x="8136" y="12278"/>
                </a:cubicBezTo>
                <a:cubicBezTo>
                  <a:pt x="8192" y="12278"/>
                  <a:pt x="8232" y="12259"/>
                  <a:pt x="8285" y="12254"/>
                </a:cubicBezTo>
                <a:cubicBezTo>
                  <a:pt x="8353" y="12247"/>
                  <a:pt x="8388" y="12201"/>
                  <a:pt x="8434" y="12154"/>
                </a:cubicBezTo>
                <a:cubicBezTo>
                  <a:pt x="8471" y="12117"/>
                  <a:pt x="8480" y="12105"/>
                  <a:pt x="8483" y="12055"/>
                </a:cubicBezTo>
                <a:cubicBezTo>
                  <a:pt x="8483" y="12014"/>
                  <a:pt x="8483" y="12006"/>
                  <a:pt x="8483" y="11981"/>
                </a:cubicBezTo>
                <a:cubicBezTo>
                  <a:pt x="8432" y="11974"/>
                  <a:pt x="8410" y="11956"/>
                  <a:pt x="8359" y="11956"/>
                </a:cubicBezTo>
                <a:cubicBezTo>
                  <a:pt x="8302" y="11956"/>
                  <a:pt x="8290" y="11981"/>
                  <a:pt x="8260" y="12030"/>
                </a:cubicBezTo>
                <a:cubicBezTo>
                  <a:pt x="8223" y="12091"/>
                  <a:pt x="8210" y="12134"/>
                  <a:pt x="8210" y="12204"/>
                </a:cubicBezTo>
                <a:cubicBezTo>
                  <a:pt x="8210" y="12249"/>
                  <a:pt x="8197" y="12266"/>
                  <a:pt x="8235" y="12278"/>
                </a:cubicBezTo>
              </a:path>
              <a:path w="14140" h="8286">
                <a:moveTo>
                  <a:pt x="8781" y="10815"/>
                </a:moveTo>
                <a:cubicBezTo>
                  <a:pt x="8746" y="10803"/>
                  <a:pt x="8756" y="10808"/>
                  <a:pt x="8756" y="10765"/>
                </a:cubicBezTo>
                <a:cubicBezTo>
                  <a:pt x="8834" y="10778"/>
                  <a:pt x="8897" y="10790"/>
                  <a:pt x="8979" y="10790"/>
                </a:cubicBezTo>
                <a:cubicBezTo>
                  <a:pt x="8987" y="10790"/>
                  <a:pt x="8996" y="10790"/>
                  <a:pt x="9004" y="10790"/>
                </a:cubicBezTo>
              </a:path>
              <a:path w="14140" h="8286">
                <a:moveTo>
                  <a:pt x="8756" y="11931"/>
                </a:moveTo>
                <a:cubicBezTo>
                  <a:pt x="8847" y="11931"/>
                  <a:pt x="8938" y="11931"/>
                  <a:pt x="9029" y="11931"/>
                </a:cubicBezTo>
              </a:path>
              <a:path w="14140" h="8286">
                <a:moveTo>
                  <a:pt x="8954" y="11782"/>
                </a:moveTo>
                <a:cubicBezTo>
                  <a:pt x="8954" y="11757"/>
                  <a:pt x="8954" y="11749"/>
                  <a:pt x="8954" y="11782"/>
                </a:cubicBezTo>
              </a:path>
              <a:path w="14140" h="8286">
                <a:moveTo>
                  <a:pt x="8954" y="12154"/>
                </a:moveTo>
                <a:lnTo>
                  <a:pt x="8954" y="12154"/>
                </a:lnTo>
                <a:lnTo>
                  <a:pt x="8954" y="12154"/>
                </a:lnTo>
              </a:path>
              <a:path w="14140" h="8286">
                <a:moveTo>
                  <a:pt x="9451" y="10641"/>
                </a:moveTo>
                <a:cubicBezTo>
                  <a:pt x="9410" y="10641"/>
                  <a:pt x="9516" y="10605"/>
                  <a:pt x="9550" y="10592"/>
                </a:cubicBezTo>
                <a:cubicBezTo>
                  <a:pt x="9558" y="10592"/>
                  <a:pt x="9567" y="10592"/>
                  <a:pt x="9575" y="10592"/>
                </a:cubicBezTo>
                <a:cubicBezTo>
                  <a:pt x="9567" y="10718"/>
                  <a:pt x="9563" y="10853"/>
                  <a:pt x="9451" y="10939"/>
                </a:cubicBezTo>
                <a:cubicBezTo>
                  <a:pt x="9443" y="10939"/>
                  <a:pt x="9434" y="10939"/>
                  <a:pt x="9426" y="10939"/>
                </a:cubicBezTo>
                <a:cubicBezTo>
                  <a:pt x="9520" y="10939"/>
                  <a:pt x="9606" y="10919"/>
                  <a:pt x="9699" y="10914"/>
                </a:cubicBezTo>
                <a:cubicBezTo>
                  <a:pt x="9707" y="10914"/>
                  <a:pt x="9715" y="10914"/>
                  <a:pt x="9723" y="10914"/>
                </a:cubicBezTo>
              </a:path>
              <a:path w="14140" h="8286">
                <a:moveTo>
                  <a:pt x="9426" y="11881"/>
                </a:moveTo>
                <a:cubicBezTo>
                  <a:pt x="9431" y="11868"/>
                  <a:pt x="9473" y="11815"/>
                  <a:pt x="9500" y="11807"/>
                </a:cubicBezTo>
                <a:cubicBezTo>
                  <a:pt x="9517" y="11807"/>
                  <a:pt x="9533" y="11807"/>
                  <a:pt x="9550" y="11807"/>
                </a:cubicBezTo>
                <a:cubicBezTo>
                  <a:pt x="9605" y="11945"/>
                  <a:pt x="9589" y="12004"/>
                  <a:pt x="9500" y="12129"/>
                </a:cubicBezTo>
                <a:cubicBezTo>
                  <a:pt x="9462" y="12168"/>
                  <a:pt x="9445" y="12170"/>
                  <a:pt x="9451" y="12204"/>
                </a:cubicBezTo>
                <a:cubicBezTo>
                  <a:pt x="9562" y="12204"/>
                  <a:pt x="9644" y="12180"/>
                  <a:pt x="9748" y="12154"/>
                </a:cubicBezTo>
                <a:cubicBezTo>
                  <a:pt x="9756" y="12154"/>
                  <a:pt x="9765" y="12154"/>
                  <a:pt x="9773" y="12154"/>
                </a:cubicBezTo>
              </a:path>
              <a:path w="14140" h="8286">
                <a:moveTo>
                  <a:pt x="9500" y="11385"/>
                </a:moveTo>
                <a:cubicBezTo>
                  <a:pt x="9608" y="11403"/>
                  <a:pt x="9711" y="11429"/>
                  <a:pt x="9823" y="11435"/>
                </a:cubicBezTo>
                <a:cubicBezTo>
                  <a:pt x="9847" y="11435"/>
                  <a:pt x="9855" y="11435"/>
                  <a:pt x="9847" y="11460"/>
                </a:cubicBezTo>
              </a:path>
              <a:path w="14140" h="8286">
                <a:moveTo>
                  <a:pt x="10393" y="11609"/>
                </a:moveTo>
                <a:cubicBezTo>
                  <a:pt x="10467" y="11609"/>
                  <a:pt x="10542" y="11609"/>
                  <a:pt x="10616" y="11609"/>
                </a:cubicBezTo>
              </a:path>
              <a:path w="14140" h="8286">
                <a:moveTo>
                  <a:pt x="10393" y="11782"/>
                </a:moveTo>
                <a:cubicBezTo>
                  <a:pt x="10517" y="11782"/>
                  <a:pt x="10582" y="11779"/>
                  <a:pt x="10691" y="11733"/>
                </a:cubicBezTo>
              </a:path>
              <a:path w="14140" h="8286">
                <a:moveTo>
                  <a:pt x="11311" y="10592"/>
                </a:moveTo>
                <a:cubicBezTo>
                  <a:pt x="11311" y="10509"/>
                  <a:pt x="11361" y="10928"/>
                  <a:pt x="11361" y="10939"/>
                </a:cubicBezTo>
                <a:cubicBezTo>
                  <a:pt x="11343" y="11030"/>
                  <a:pt x="11334" y="11037"/>
                  <a:pt x="11336" y="11088"/>
                </a:cubicBezTo>
              </a:path>
              <a:path w="14140" h="8286">
                <a:moveTo>
                  <a:pt x="11162" y="11410"/>
                </a:moveTo>
                <a:cubicBezTo>
                  <a:pt x="11334" y="11353"/>
                  <a:pt x="11505" y="11372"/>
                  <a:pt x="11683" y="11336"/>
                </a:cubicBezTo>
                <a:cubicBezTo>
                  <a:pt x="11740" y="11317"/>
                  <a:pt x="11765" y="11291"/>
                  <a:pt x="11757" y="11336"/>
                </a:cubicBezTo>
              </a:path>
              <a:path w="14140" h="8286">
                <a:moveTo>
                  <a:pt x="11286" y="11708"/>
                </a:moveTo>
                <a:cubicBezTo>
                  <a:pt x="11417" y="11664"/>
                  <a:pt x="11429" y="11662"/>
                  <a:pt x="11559" y="11733"/>
                </a:cubicBezTo>
                <a:cubicBezTo>
                  <a:pt x="11515" y="11841"/>
                  <a:pt x="11509" y="11865"/>
                  <a:pt x="11410" y="11931"/>
                </a:cubicBezTo>
                <a:cubicBezTo>
                  <a:pt x="11523" y="11897"/>
                  <a:pt x="11699" y="11902"/>
                  <a:pt x="11683" y="12080"/>
                </a:cubicBezTo>
                <a:cubicBezTo>
                  <a:pt x="11671" y="12218"/>
                  <a:pt x="11416" y="12311"/>
                  <a:pt x="11311" y="12229"/>
                </a:cubicBezTo>
                <a:cubicBezTo>
                  <a:pt x="11284" y="12148"/>
                  <a:pt x="11276" y="12116"/>
                  <a:pt x="11286" y="12055"/>
                </a:cubicBezTo>
              </a:path>
              <a:path w="14140" h="8286">
                <a:moveTo>
                  <a:pt x="11757" y="10344"/>
                </a:moveTo>
                <a:cubicBezTo>
                  <a:pt x="11609" y="10337"/>
                  <a:pt x="11457" y="10335"/>
                  <a:pt x="11311" y="10319"/>
                </a:cubicBezTo>
                <a:cubicBezTo>
                  <a:pt x="11201" y="10307"/>
                  <a:pt x="11030" y="10312"/>
                  <a:pt x="10964" y="10319"/>
                </a:cubicBezTo>
                <a:cubicBezTo>
                  <a:pt x="10935" y="10322"/>
                  <a:pt x="10876" y="10302"/>
                  <a:pt x="10864" y="10344"/>
                </a:cubicBezTo>
                <a:cubicBezTo>
                  <a:pt x="10818" y="10511"/>
                  <a:pt x="10886" y="10745"/>
                  <a:pt x="10889" y="10914"/>
                </a:cubicBezTo>
                <a:cubicBezTo>
                  <a:pt x="10893" y="11124"/>
                  <a:pt x="10877" y="11327"/>
                  <a:pt x="10864" y="11534"/>
                </a:cubicBezTo>
                <a:cubicBezTo>
                  <a:pt x="10850" y="11765"/>
                  <a:pt x="10852" y="11999"/>
                  <a:pt x="10840" y="12229"/>
                </a:cubicBezTo>
                <a:cubicBezTo>
                  <a:pt x="10832" y="12385"/>
                  <a:pt x="10840" y="12544"/>
                  <a:pt x="10840" y="12700"/>
                </a:cubicBezTo>
                <a:cubicBezTo>
                  <a:pt x="11016" y="12693"/>
                  <a:pt x="11185" y="12671"/>
                  <a:pt x="11361" y="12650"/>
                </a:cubicBezTo>
                <a:cubicBezTo>
                  <a:pt x="11569" y="12626"/>
                  <a:pt x="11830" y="12634"/>
                  <a:pt x="12030" y="12576"/>
                </a:cubicBezTo>
                <a:cubicBezTo>
                  <a:pt x="12038" y="12568"/>
                  <a:pt x="12047" y="12559"/>
                  <a:pt x="12055" y="12551"/>
                </a:cubicBezTo>
                <a:cubicBezTo>
                  <a:pt x="12055" y="12187"/>
                  <a:pt x="12042" y="11822"/>
                  <a:pt x="12080" y="11460"/>
                </a:cubicBezTo>
                <a:cubicBezTo>
                  <a:pt x="12102" y="11252"/>
                  <a:pt x="12120" y="11093"/>
                  <a:pt x="12105" y="10889"/>
                </a:cubicBezTo>
                <a:cubicBezTo>
                  <a:pt x="12095" y="10757"/>
                  <a:pt x="12065" y="10645"/>
                  <a:pt x="12030" y="10517"/>
                </a:cubicBezTo>
                <a:cubicBezTo>
                  <a:pt x="12010" y="10443"/>
                  <a:pt x="11977" y="10381"/>
                  <a:pt x="11956" y="10319"/>
                </a:cubicBezTo>
                <a:cubicBezTo>
                  <a:pt x="11956" y="10294"/>
                  <a:pt x="11956" y="10286"/>
                  <a:pt x="11956" y="10269"/>
                </a:cubicBezTo>
                <a:cubicBezTo>
                  <a:pt x="11813" y="10311"/>
                  <a:pt x="11655" y="10331"/>
                  <a:pt x="11509" y="10368"/>
                </a:cubicBezTo>
                <a:cubicBezTo>
                  <a:pt x="11493" y="10376"/>
                  <a:pt x="11476" y="10385"/>
                  <a:pt x="11460" y="103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15040" y="1527120"/>
            <a:ext cx="741240" cy="768240"/>
          </a:xfrm>
          <a:custGeom>
            <a:avLst/>
            <a:gdLst/>
            <a:ahLst/>
            <a:rect l="l" t="t" r="r" b="b"/>
            <a:pathLst>
              <a:path w="2060" h="2134">
                <a:moveTo>
                  <a:pt x="17512" y="4291"/>
                </a:moveTo>
                <a:cubicBezTo>
                  <a:pt x="17656" y="4291"/>
                  <a:pt x="17791" y="4290"/>
                  <a:pt x="17934" y="4266"/>
                </a:cubicBezTo>
                <a:cubicBezTo>
                  <a:pt x="17967" y="4258"/>
                  <a:pt x="18000" y="4250"/>
                  <a:pt x="18033" y="4242"/>
                </a:cubicBezTo>
                <a:cubicBezTo>
                  <a:pt x="18033" y="4455"/>
                  <a:pt x="17996" y="4683"/>
                  <a:pt x="17934" y="4887"/>
                </a:cubicBezTo>
                <a:cubicBezTo>
                  <a:pt x="17900" y="4999"/>
                  <a:pt x="17856" y="4966"/>
                  <a:pt x="17909" y="5035"/>
                </a:cubicBezTo>
              </a:path>
              <a:path w="2060" h="2134">
                <a:moveTo>
                  <a:pt x="17264" y="5283"/>
                </a:moveTo>
                <a:cubicBezTo>
                  <a:pt x="17590" y="5283"/>
                  <a:pt x="17907" y="5251"/>
                  <a:pt x="18231" y="5234"/>
                </a:cubicBezTo>
                <a:cubicBezTo>
                  <a:pt x="18355" y="5228"/>
                  <a:pt x="18459" y="5248"/>
                  <a:pt x="18579" y="5259"/>
                </a:cubicBezTo>
              </a:path>
              <a:path w="2060" h="2134">
                <a:moveTo>
                  <a:pt x="17587" y="5631"/>
                </a:moveTo>
                <a:cubicBezTo>
                  <a:pt x="17626" y="5827"/>
                  <a:pt x="17671" y="6024"/>
                  <a:pt x="17686" y="6226"/>
                </a:cubicBezTo>
                <a:cubicBezTo>
                  <a:pt x="17686" y="6317"/>
                  <a:pt x="17686" y="6325"/>
                  <a:pt x="17686" y="6375"/>
                </a:cubicBezTo>
              </a:path>
              <a:path w="2060" h="2134">
                <a:moveTo>
                  <a:pt x="18008" y="5779"/>
                </a:moveTo>
                <a:cubicBezTo>
                  <a:pt x="18008" y="5862"/>
                  <a:pt x="18008" y="5945"/>
                  <a:pt x="18008" y="6028"/>
                </a:cubicBezTo>
                <a:cubicBezTo>
                  <a:pt x="18161" y="6042"/>
                  <a:pt x="18277" y="6022"/>
                  <a:pt x="18430" y="6003"/>
                </a:cubicBezTo>
              </a:path>
              <a:path w="2060" h="2134">
                <a:moveTo>
                  <a:pt x="18306" y="5655"/>
                </a:moveTo>
                <a:cubicBezTo>
                  <a:pt x="18314" y="5880"/>
                  <a:pt x="18329" y="6103"/>
                  <a:pt x="18355" y="6325"/>
                </a:cubicBezTo>
                <a:cubicBezTo>
                  <a:pt x="18365" y="6414"/>
                  <a:pt x="18355" y="6333"/>
                  <a:pt x="18355" y="6276"/>
                </a:cubicBezTo>
              </a:path>
              <a:path w="2060" h="2134">
                <a:moveTo>
                  <a:pt x="18355" y="4614"/>
                </a:moveTo>
                <a:cubicBezTo>
                  <a:pt x="18446" y="4629"/>
                  <a:pt x="18536" y="4649"/>
                  <a:pt x="18628" y="4663"/>
                </a:cubicBezTo>
                <a:cubicBezTo>
                  <a:pt x="18653" y="4663"/>
                  <a:pt x="18661" y="4663"/>
                  <a:pt x="18678" y="4663"/>
                </a:cubicBezTo>
              </a:path>
              <a:path w="2060" h="2134">
                <a:moveTo>
                  <a:pt x="18901" y="4415"/>
                </a:moveTo>
                <a:cubicBezTo>
                  <a:pt x="18950" y="4379"/>
                  <a:pt x="19009" y="4371"/>
                  <a:pt x="19075" y="4366"/>
                </a:cubicBezTo>
                <a:cubicBezTo>
                  <a:pt x="19083" y="4366"/>
                  <a:pt x="19092" y="4366"/>
                  <a:pt x="19100" y="4366"/>
                </a:cubicBezTo>
                <a:cubicBezTo>
                  <a:pt x="19100" y="4548"/>
                  <a:pt x="19100" y="4729"/>
                  <a:pt x="19100" y="4911"/>
                </a:cubicBezTo>
              </a:path>
              <a:path w="2060" h="2134">
                <a:moveTo>
                  <a:pt x="18579" y="6077"/>
                </a:moveTo>
                <a:cubicBezTo>
                  <a:pt x="18689" y="6077"/>
                  <a:pt x="18792" y="6060"/>
                  <a:pt x="18901" y="6052"/>
                </a:cubicBezTo>
              </a:path>
              <a:path w="2060" h="2134">
                <a:moveTo>
                  <a:pt x="19075" y="5804"/>
                </a:moveTo>
                <a:cubicBezTo>
                  <a:pt x="19091" y="5795"/>
                  <a:pt x="19241" y="5707"/>
                  <a:pt x="19273" y="5755"/>
                </a:cubicBezTo>
                <a:cubicBezTo>
                  <a:pt x="19363" y="5888"/>
                  <a:pt x="19278" y="6151"/>
                  <a:pt x="19273" y="6300"/>
                </a:cubicBezTo>
                <a:cubicBezTo>
                  <a:pt x="19273" y="6354"/>
                  <a:pt x="19286" y="6336"/>
                  <a:pt x="19323" y="62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61120" y="1357200"/>
            <a:ext cx="519120" cy="928800"/>
          </a:xfrm>
          <a:custGeom>
            <a:avLst/>
            <a:gdLst/>
            <a:ahLst/>
            <a:rect l="l" t="t" r="r" b="b"/>
            <a:pathLst>
              <a:path w="1440" h="2581">
                <a:moveTo>
                  <a:pt x="20563" y="4217"/>
                </a:moveTo>
                <a:cubicBezTo>
                  <a:pt x="20563" y="4145"/>
                  <a:pt x="20635" y="4546"/>
                  <a:pt x="20638" y="4564"/>
                </a:cubicBezTo>
                <a:cubicBezTo>
                  <a:pt x="20638" y="4589"/>
                  <a:pt x="20638" y="4613"/>
                  <a:pt x="20638" y="4638"/>
                </a:cubicBezTo>
              </a:path>
              <a:path w="1440" h="2581">
                <a:moveTo>
                  <a:pt x="20315" y="4961"/>
                </a:moveTo>
                <a:cubicBezTo>
                  <a:pt x="20540" y="4961"/>
                  <a:pt x="20761" y="4947"/>
                  <a:pt x="20985" y="4936"/>
                </a:cubicBezTo>
                <a:cubicBezTo>
                  <a:pt x="21076" y="4936"/>
                  <a:pt x="21084" y="4936"/>
                  <a:pt x="21134" y="4936"/>
                </a:cubicBezTo>
              </a:path>
              <a:path w="1440" h="2581">
                <a:moveTo>
                  <a:pt x="20513" y="5407"/>
                </a:moveTo>
                <a:cubicBezTo>
                  <a:pt x="20537" y="5373"/>
                  <a:pt x="20720" y="5331"/>
                  <a:pt x="20786" y="5333"/>
                </a:cubicBezTo>
                <a:cubicBezTo>
                  <a:pt x="20803" y="5341"/>
                  <a:pt x="20819" y="5350"/>
                  <a:pt x="20836" y="5358"/>
                </a:cubicBezTo>
                <a:cubicBezTo>
                  <a:pt x="20852" y="5573"/>
                  <a:pt x="20711" y="5673"/>
                  <a:pt x="20563" y="5829"/>
                </a:cubicBezTo>
                <a:cubicBezTo>
                  <a:pt x="20654" y="5859"/>
                  <a:pt x="20801" y="5797"/>
                  <a:pt x="20910" y="5779"/>
                </a:cubicBezTo>
                <a:cubicBezTo>
                  <a:pt x="20935" y="5779"/>
                  <a:pt x="20943" y="5779"/>
                  <a:pt x="20960" y="5779"/>
                </a:cubicBezTo>
              </a:path>
              <a:path w="1440" h="2581">
                <a:moveTo>
                  <a:pt x="20117" y="4341"/>
                </a:moveTo>
                <a:cubicBezTo>
                  <a:pt x="20191" y="4731"/>
                  <a:pt x="20260" y="5109"/>
                  <a:pt x="20265" y="5507"/>
                </a:cubicBezTo>
                <a:cubicBezTo>
                  <a:pt x="20268" y="5695"/>
                  <a:pt x="20256" y="5874"/>
                  <a:pt x="20241" y="6052"/>
                </a:cubicBezTo>
                <a:cubicBezTo>
                  <a:pt x="20235" y="6122"/>
                  <a:pt x="20223" y="6243"/>
                  <a:pt x="20265" y="6276"/>
                </a:cubicBezTo>
                <a:cubicBezTo>
                  <a:pt x="20348" y="6340"/>
                  <a:pt x="20524" y="6317"/>
                  <a:pt x="20613" y="6325"/>
                </a:cubicBezTo>
                <a:cubicBezTo>
                  <a:pt x="20790" y="6341"/>
                  <a:pt x="20956" y="6350"/>
                  <a:pt x="21134" y="6350"/>
                </a:cubicBezTo>
                <a:cubicBezTo>
                  <a:pt x="21175" y="6350"/>
                  <a:pt x="21183" y="6350"/>
                  <a:pt x="21208" y="6350"/>
                </a:cubicBezTo>
                <a:cubicBezTo>
                  <a:pt x="21187" y="6172"/>
                  <a:pt x="21161" y="5984"/>
                  <a:pt x="21183" y="5804"/>
                </a:cubicBezTo>
                <a:cubicBezTo>
                  <a:pt x="21221" y="5491"/>
                  <a:pt x="21270" y="5177"/>
                  <a:pt x="21307" y="4862"/>
                </a:cubicBezTo>
                <a:cubicBezTo>
                  <a:pt x="21331" y="4661"/>
                  <a:pt x="21332" y="4468"/>
                  <a:pt x="21332" y="4266"/>
                </a:cubicBezTo>
                <a:cubicBezTo>
                  <a:pt x="21332" y="4123"/>
                  <a:pt x="21318" y="3979"/>
                  <a:pt x="21307" y="3845"/>
                </a:cubicBezTo>
                <a:cubicBezTo>
                  <a:pt x="21305" y="3820"/>
                  <a:pt x="21309" y="3795"/>
                  <a:pt x="21307" y="3770"/>
                </a:cubicBezTo>
                <a:cubicBezTo>
                  <a:pt x="21171" y="3812"/>
                  <a:pt x="21006" y="3876"/>
                  <a:pt x="20861" y="3894"/>
                </a:cubicBezTo>
                <a:cubicBezTo>
                  <a:pt x="20655" y="3920"/>
                  <a:pt x="20447" y="3914"/>
                  <a:pt x="20241" y="3944"/>
                </a:cubicBezTo>
                <a:cubicBezTo>
                  <a:pt x="20109" y="3963"/>
                  <a:pt x="20007" y="3970"/>
                  <a:pt x="19893" y="4018"/>
                </a:cubicBezTo>
                <a:cubicBezTo>
                  <a:pt x="19929" y="4183"/>
                  <a:pt x="19951" y="4379"/>
                  <a:pt x="20017" y="4539"/>
                </a:cubicBezTo>
                <a:cubicBezTo>
                  <a:pt x="20017" y="4564"/>
                  <a:pt x="20017" y="4572"/>
                  <a:pt x="20042" y="45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41280" y="2633760"/>
            <a:ext cx="2884680" cy="3805200"/>
          </a:xfrm>
          <a:custGeom>
            <a:avLst/>
            <a:gdLst/>
            <a:ahLst/>
            <a:rect l="l" t="t" r="r" b="b"/>
            <a:pathLst>
              <a:path w="8013" h="10568">
                <a:moveTo>
                  <a:pt x="5556" y="17884"/>
                </a:moveTo>
                <a:lnTo>
                  <a:pt x="5556" y="17884"/>
                </a:lnTo>
                <a:lnTo>
                  <a:pt x="5556" y="17884"/>
                </a:lnTo>
              </a:path>
              <a:path w="8013" h="10568">
                <a:moveTo>
                  <a:pt x="10120" y="8682"/>
                </a:moveTo>
                <a:cubicBezTo>
                  <a:pt x="10112" y="8682"/>
                  <a:pt x="10104" y="8682"/>
                  <a:pt x="10096" y="8682"/>
                </a:cubicBezTo>
              </a:path>
              <a:path w="8013" h="10568">
                <a:moveTo>
                  <a:pt x="10096" y="8682"/>
                </a:moveTo>
                <a:lnTo>
                  <a:pt x="10096" y="8682"/>
                </a:lnTo>
              </a:path>
              <a:path w="8013" h="10568">
                <a:moveTo>
                  <a:pt x="10145" y="9128"/>
                </a:moveTo>
                <a:lnTo>
                  <a:pt x="10145" y="9128"/>
                </a:lnTo>
              </a:path>
              <a:path w="8013" h="10568">
                <a:moveTo>
                  <a:pt x="11460" y="7342"/>
                </a:moveTo>
                <a:cubicBezTo>
                  <a:pt x="11435" y="7342"/>
                  <a:pt x="11427" y="7342"/>
                  <a:pt x="11435" y="7317"/>
                </a:cubicBezTo>
              </a:path>
              <a:path w="8013" h="10568">
                <a:moveTo>
                  <a:pt x="11410" y="7317"/>
                </a:moveTo>
                <a:lnTo>
                  <a:pt x="11410" y="7317"/>
                </a:lnTo>
              </a:path>
              <a:path w="8013" h="10568">
                <a:moveTo>
                  <a:pt x="11410" y="7317"/>
                </a:moveTo>
                <a:lnTo>
                  <a:pt x="11410" y="7317"/>
                </a:lnTo>
              </a:path>
              <a:path w="8013" h="10568">
                <a:moveTo>
                  <a:pt x="3473" y="17611"/>
                </a:moveTo>
                <a:cubicBezTo>
                  <a:pt x="3473" y="17646"/>
                  <a:pt x="3468" y="17664"/>
                  <a:pt x="3448" y="17686"/>
                </a:cubicBezTo>
              </a:path>
              <a:path w="8013" h="10568">
                <a:moveTo>
                  <a:pt x="8905" y="10592"/>
                </a:moveTo>
                <a:lnTo>
                  <a:pt x="8905" y="10592"/>
                </a:lnTo>
              </a:path>
              <a:path w="8013" h="10568">
                <a:moveTo>
                  <a:pt x="8880" y="10988"/>
                </a:moveTo>
                <a:cubicBezTo>
                  <a:pt x="8880" y="10996"/>
                  <a:pt x="8880" y="11005"/>
                  <a:pt x="8880" y="110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00160" y="3946680"/>
            <a:ext cx="115920" cy="18720"/>
          </a:xfrm>
          <a:custGeom>
            <a:avLst/>
            <a:gdLst/>
            <a:ahLst/>
            <a:rect l="l" t="t" r="r" b="b"/>
            <a:pathLst>
              <a:path w="324" h="50">
                <a:moveTo>
                  <a:pt x="5556" y="11013"/>
                </a:moveTo>
                <a:cubicBezTo>
                  <a:pt x="5647" y="10983"/>
                  <a:pt x="5720" y="10938"/>
                  <a:pt x="5829" y="10964"/>
                </a:cubicBezTo>
                <a:cubicBezTo>
                  <a:pt x="5852" y="10986"/>
                  <a:pt x="5857" y="10994"/>
                  <a:pt x="5879" y="109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03880" y="3848040"/>
            <a:ext cx="617400" cy="376200"/>
          </a:xfrm>
          <a:custGeom>
            <a:avLst/>
            <a:gdLst/>
            <a:ahLst/>
            <a:rect l="l" t="t" r="r" b="b"/>
            <a:pathLst>
              <a:path w="1713" h="1043">
                <a:moveTo>
                  <a:pt x="15205" y="10740"/>
                </a:moveTo>
                <a:cubicBezTo>
                  <a:pt x="15136" y="10740"/>
                  <a:pt x="15285" y="10688"/>
                  <a:pt x="15354" y="10691"/>
                </a:cubicBezTo>
                <a:cubicBezTo>
                  <a:pt x="15560" y="10700"/>
                  <a:pt x="15309" y="10937"/>
                  <a:pt x="15280" y="10964"/>
                </a:cubicBezTo>
                <a:cubicBezTo>
                  <a:pt x="15242" y="11000"/>
                  <a:pt x="15352" y="10940"/>
                  <a:pt x="15429" y="10988"/>
                </a:cubicBezTo>
                <a:cubicBezTo>
                  <a:pt x="15631" y="11114"/>
                  <a:pt x="15398" y="11338"/>
                  <a:pt x="15255" y="11385"/>
                </a:cubicBezTo>
                <a:cubicBezTo>
                  <a:pt x="15126" y="11385"/>
                  <a:pt x="15087" y="11401"/>
                  <a:pt x="15056" y="11311"/>
                </a:cubicBezTo>
              </a:path>
              <a:path w="1713" h="1043">
                <a:moveTo>
                  <a:pt x="15701" y="10691"/>
                </a:moveTo>
                <a:cubicBezTo>
                  <a:pt x="15701" y="10831"/>
                  <a:pt x="15643" y="11089"/>
                  <a:pt x="15751" y="11187"/>
                </a:cubicBezTo>
                <a:cubicBezTo>
                  <a:pt x="15860" y="11287"/>
                  <a:pt x="16025" y="11231"/>
                  <a:pt x="16123" y="11137"/>
                </a:cubicBezTo>
                <a:cubicBezTo>
                  <a:pt x="16183" y="11079"/>
                  <a:pt x="16173" y="11056"/>
                  <a:pt x="16173" y="10988"/>
                </a:cubicBezTo>
                <a:cubicBezTo>
                  <a:pt x="16066" y="10954"/>
                  <a:pt x="15946" y="10962"/>
                  <a:pt x="15925" y="11112"/>
                </a:cubicBezTo>
                <a:cubicBezTo>
                  <a:pt x="15917" y="11169"/>
                  <a:pt x="15959" y="11266"/>
                  <a:pt x="15999" y="11286"/>
                </a:cubicBezTo>
              </a:path>
              <a:path w="1713" h="1043">
                <a:moveTo>
                  <a:pt x="14734" y="11733"/>
                </a:moveTo>
                <a:cubicBezTo>
                  <a:pt x="15039" y="11718"/>
                  <a:pt x="15346" y="11681"/>
                  <a:pt x="15652" y="11658"/>
                </a:cubicBezTo>
                <a:cubicBezTo>
                  <a:pt x="15917" y="11638"/>
                  <a:pt x="16182" y="11604"/>
                  <a:pt x="16446" y="115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84880" y="3938760"/>
            <a:ext cx="3232080" cy="571320"/>
          </a:xfrm>
          <a:custGeom>
            <a:avLst/>
            <a:gdLst/>
            <a:ahLst/>
            <a:rect l="l" t="t" r="r" b="b"/>
            <a:pathLst>
              <a:path w="8981" h="1588">
                <a:moveTo>
                  <a:pt x="14957" y="12030"/>
                </a:moveTo>
                <a:cubicBezTo>
                  <a:pt x="14974" y="12196"/>
                  <a:pt x="14978" y="12362"/>
                  <a:pt x="15007" y="12526"/>
                </a:cubicBezTo>
                <a:cubicBezTo>
                  <a:pt x="15007" y="12518"/>
                  <a:pt x="15007" y="12510"/>
                  <a:pt x="15007" y="12502"/>
                </a:cubicBezTo>
              </a:path>
              <a:path w="8981" h="1588">
                <a:moveTo>
                  <a:pt x="18852" y="11981"/>
                </a:moveTo>
                <a:cubicBezTo>
                  <a:pt x="18871" y="12038"/>
                  <a:pt x="18879" y="12081"/>
                  <a:pt x="18876" y="12030"/>
                </a:cubicBezTo>
              </a:path>
              <a:path w="8981" h="1588">
                <a:moveTo>
                  <a:pt x="18876" y="12030"/>
                </a:moveTo>
                <a:lnTo>
                  <a:pt x="18876" y="12030"/>
                </a:lnTo>
              </a:path>
              <a:path w="8981" h="1588">
                <a:moveTo>
                  <a:pt x="21208" y="11237"/>
                </a:moveTo>
                <a:cubicBezTo>
                  <a:pt x="21286" y="11446"/>
                  <a:pt x="21357" y="11752"/>
                  <a:pt x="21530" y="11906"/>
                </a:cubicBezTo>
                <a:cubicBezTo>
                  <a:pt x="21637" y="12001"/>
                  <a:pt x="21725" y="11839"/>
                  <a:pt x="21779" y="11782"/>
                </a:cubicBezTo>
              </a:path>
              <a:path w="8981" h="1588">
                <a:moveTo>
                  <a:pt x="21258" y="11658"/>
                </a:moveTo>
                <a:cubicBezTo>
                  <a:pt x="21513" y="11589"/>
                  <a:pt x="21587" y="11568"/>
                  <a:pt x="21754" y="11534"/>
                </a:cubicBezTo>
              </a:path>
              <a:path w="8981" h="1588">
                <a:moveTo>
                  <a:pt x="23912" y="10939"/>
                </a:moveTo>
                <a:cubicBezTo>
                  <a:pt x="23920" y="10964"/>
                  <a:pt x="23929" y="10988"/>
                  <a:pt x="23937" y="11013"/>
                </a:cubicBezTo>
              </a:path>
              <a:path w="8981" h="1588">
                <a:moveTo>
                  <a:pt x="23937" y="11013"/>
                </a:moveTo>
                <a:lnTo>
                  <a:pt x="23937" y="1101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91080" y="4321080"/>
            <a:ext cx="339840" cy="216000"/>
          </a:xfrm>
          <a:custGeom>
            <a:avLst/>
            <a:gdLst/>
            <a:ahLst/>
            <a:rect l="l" t="t" r="r" b="b"/>
            <a:pathLst>
              <a:path w="943" h="597">
                <a:moveTo>
                  <a:pt x="15379" y="12005"/>
                </a:moveTo>
                <a:cubicBezTo>
                  <a:pt x="15320" y="12193"/>
                  <a:pt x="15270" y="12336"/>
                  <a:pt x="15280" y="12526"/>
                </a:cubicBezTo>
                <a:cubicBezTo>
                  <a:pt x="15453" y="12567"/>
                  <a:pt x="15694" y="12495"/>
                  <a:pt x="15602" y="12229"/>
                </a:cubicBezTo>
                <a:cubicBezTo>
                  <a:pt x="15557" y="12101"/>
                  <a:pt x="15474" y="12129"/>
                  <a:pt x="15379" y="12129"/>
                </a:cubicBezTo>
              </a:path>
              <a:path w="943" h="597">
                <a:moveTo>
                  <a:pt x="15974" y="12005"/>
                </a:moveTo>
                <a:cubicBezTo>
                  <a:pt x="15887" y="12114"/>
                  <a:pt x="15854" y="12135"/>
                  <a:pt x="15875" y="12229"/>
                </a:cubicBezTo>
                <a:cubicBezTo>
                  <a:pt x="16017" y="12277"/>
                  <a:pt x="16290" y="12306"/>
                  <a:pt x="16173" y="12526"/>
                </a:cubicBezTo>
                <a:cubicBezTo>
                  <a:pt x="16140" y="12551"/>
                  <a:pt x="16106" y="12576"/>
                  <a:pt x="16073" y="12601"/>
                </a:cubicBezTo>
                <a:cubicBezTo>
                  <a:pt x="15928" y="12510"/>
                  <a:pt x="16099" y="12319"/>
                  <a:pt x="16123" y="12129"/>
                </a:cubicBezTo>
                <a:cubicBezTo>
                  <a:pt x="16115" y="12129"/>
                  <a:pt x="16106" y="12129"/>
                  <a:pt x="16098" y="121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80120" y="4081320"/>
            <a:ext cx="1446120" cy="509760"/>
          </a:xfrm>
          <a:custGeom>
            <a:avLst/>
            <a:gdLst/>
            <a:ahLst/>
            <a:rect l="l" t="t" r="r" b="b"/>
            <a:pathLst>
              <a:path w="4019" h="1415">
                <a:moveTo>
                  <a:pt x="17190" y="11733"/>
                </a:moveTo>
                <a:cubicBezTo>
                  <a:pt x="17304" y="11757"/>
                  <a:pt x="17434" y="11758"/>
                  <a:pt x="17537" y="11782"/>
                </a:cubicBezTo>
                <a:cubicBezTo>
                  <a:pt x="17545" y="11782"/>
                  <a:pt x="17554" y="11782"/>
                  <a:pt x="17562" y="11782"/>
                </a:cubicBezTo>
                <a:cubicBezTo>
                  <a:pt x="17446" y="11667"/>
                  <a:pt x="17372" y="11593"/>
                  <a:pt x="17214" y="11559"/>
                </a:cubicBezTo>
                <a:cubicBezTo>
                  <a:pt x="17156" y="11744"/>
                  <a:pt x="17128" y="11959"/>
                  <a:pt x="17338" y="12080"/>
                </a:cubicBezTo>
                <a:cubicBezTo>
                  <a:pt x="17471" y="12156"/>
                  <a:pt x="17544" y="12076"/>
                  <a:pt x="17636" y="12005"/>
                </a:cubicBezTo>
              </a:path>
              <a:path w="4019" h="1415">
                <a:moveTo>
                  <a:pt x="18132" y="11757"/>
                </a:moveTo>
                <a:cubicBezTo>
                  <a:pt x="17988" y="11686"/>
                  <a:pt x="17855" y="11578"/>
                  <a:pt x="17785" y="11807"/>
                </a:cubicBezTo>
                <a:cubicBezTo>
                  <a:pt x="17763" y="11980"/>
                  <a:pt x="17740" y="12026"/>
                  <a:pt x="17835" y="12105"/>
                </a:cubicBezTo>
                <a:cubicBezTo>
                  <a:pt x="18053" y="12093"/>
                  <a:pt x="18090" y="12041"/>
                  <a:pt x="18058" y="11807"/>
                </a:cubicBezTo>
                <a:cubicBezTo>
                  <a:pt x="18100" y="11997"/>
                  <a:pt x="18187" y="12195"/>
                  <a:pt x="18207" y="12402"/>
                </a:cubicBezTo>
                <a:cubicBezTo>
                  <a:pt x="18223" y="12573"/>
                  <a:pt x="18174" y="12643"/>
                  <a:pt x="18281" y="12750"/>
                </a:cubicBezTo>
                <a:cubicBezTo>
                  <a:pt x="18345" y="12581"/>
                  <a:pt x="18376" y="12348"/>
                  <a:pt x="18182" y="12229"/>
                </a:cubicBezTo>
                <a:cubicBezTo>
                  <a:pt x="18083" y="12168"/>
                  <a:pt x="18055" y="12244"/>
                  <a:pt x="18033" y="12179"/>
                </a:cubicBezTo>
              </a:path>
              <a:path w="4019" h="1415">
                <a:moveTo>
                  <a:pt x="18281" y="11881"/>
                </a:moveTo>
                <a:cubicBezTo>
                  <a:pt x="18319" y="12009"/>
                  <a:pt x="18348" y="12076"/>
                  <a:pt x="18430" y="12179"/>
                </a:cubicBezTo>
                <a:cubicBezTo>
                  <a:pt x="18592" y="12105"/>
                  <a:pt x="18569" y="11967"/>
                  <a:pt x="18529" y="11782"/>
                </a:cubicBezTo>
                <a:cubicBezTo>
                  <a:pt x="18500" y="11650"/>
                  <a:pt x="18655" y="12015"/>
                  <a:pt x="18728" y="12129"/>
                </a:cubicBezTo>
              </a:path>
              <a:path w="4019" h="1415">
                <a:moveTo>
                  <a:pt x="18703" y="11534"/>
                </a:moveTo>
                <a:cubicBezTo>
                  <a:pt x="18728" y="11534"/>
                  <a:pt x="18736" y="11534"/>
                  <a:pt x="18752" y="11534"/>
                </a:cubicBezTo>
              </a:path>
              <a:path w="4019" h="1415">
                <a:moveTo>
                  <a:pt x="19100" y="11832"/>
                </a:moveTo>
                <a:cubicBezTo>
                  <a:pt x="19139" y="11876"/>
                  <a:pt x="19245" y="11983"/>
                  <a:pt x="19273" y="12030"/>
                </a:cubicBezTo>
                <a:cubicBezTo>
                  <a:pt x="19298" y="11898"/>
                  <a:pt x="19298" y="11770"/>
                  <a:pt x="19298" y="11633"/>
                </a:cubicBezTo>
              </a:path>
              <a:path w="4019" h="1415">
                <a:moveTo>
                  <a:pt x="19794" y="11807"/>
                </a:moveTo>
                <a:cubicBezTo>
                  <a:pt x="19794" y="11749"/>
                  <a:pt x="19774" y="11714"/>
                  <a:pt x="19720" y="11683"/>
                </a:cubicBezTo>
                <a:cubicBezTo>
                  <a:pt x="19661" y="11713"/>
                  <a:pt x="19390" y="12031"/>
                  <a:pt x="19596" y="12105"/>
                </a:cubicBezTo>
                <a:cubicBezTo>
                  <a:pt x="19758" y="12163"/>
                  <a:pt x="19732" y="11865"/>
                  <a:pt x="19720" y="11857"/>
                </a:cubicBezTo>
                <a:cubicBezTo>
                  <a:pt x="19756" y="11938"/>
                  <a:pt x="19962" y="12262"/>
                  <a:pt x="20042" y="11981"/>
                </a:cubicBezTo>
                <a:cubicBezTo>
                  <a:pt x="20042" y="11906"/>
                  <a:pt x="20042" y="11832"/>
                  <a:pt x="20042" y="11757"/>
                </a:cubicBezTo>
              </a:path>
              <a:path w="4019" h="1415">
                <a:moveTo>
                  <a:pt x="19844" y="11336"/>
                </a:moveTo>
                <a:cubicBezTo>
                  <a:pt x="19946" y="11528"/>
                  <a:pt x="20029" y="11918"/>
                  <a:pt x="20191" y="12055"/>
                </a:cubicBezTo>
                <a:cubicBezTo>
                  <a:pt x="20199" y="12047"/>
                  <a:pt x="20208" y="12038"/>
                  <a:pt x="20216" y="12030"/>
                </a:cubicBezTo>
              </a:path>
              <a:path w="4019" h="1415">
                <a:moveTo>
                  <a:pt x="20638" y="11857"/>
                </a:moveTo>
                <a:cubicBezTo>
                  <a:pt x="20604" y="11777"/>
                  <a:pt x="20550" y="11724"/>
                  <a:pt x="20489" y="11658"/>
                </a:cubicBezTo>
                <a:cubicBezTo>
                  <a:pt x="20382" y="11791"/>
                  <a:pt x="20380" y="11863"/>
                  <a:pt x="20414" y="12030"/>
                </a:cubicBezTo>
                <a:cubicBezTo>
                  <a:pt x="20516" y="12010"/>
                  <a:pt x="20551" y="11984"/>
                  <a:pt x="20613" y="11906"/>
                </a:cubicBezTo>
              </a:path>
              <a:path w="4019" h="1415">
                <a:moveTo>
                  <a:pt x="20340" y="12005"/>
                </a:moveTo>
                <a:cubicBezTo>
                  <a:pt x="20422" y="11955"/>
                  <a:pt x="20602" y="11910"/>
                  <a:pt x="20662" y="11857"/>
                </a:cubicBezTo>
                <a:cubicBezTo>
                  <a:pt x="20662" y="11829"/>
                  <a:pt x="20660" y="11818"/>
                  <a:pt x="20638" y="11807"/>
                </a:cubicBezTo>
                <a:cubicBezTo>
                  <a:pt x="20543" y="11775"/>
                  <a:pt x="20352" y="11760"/>
                  <a:pt x="20414" y="11956"/>
                </a:cubicBezTo>
                <a:cubicBezTo>
                  <a:pt x="20483" y="12172"/>
                  <a:pt x="20718" y="12077"/>
                  <a:pt x="20786" y="11931"/>
                </a:cubicBezTo>
                <a:cubicBezTo>
                  <a:pt x="20848" y="11797"/>
                  <a:pt x="20792" y="11707"/>
                  <a:pt x="20861" y="11857"/>
                </a:cubicBezTo>
                <a:cubicBezTo>
                  <a:pt x="20897" y="11930"/>
                  <a:pt x="20914" y="11935"/>
                  <a:pt x="20910" y="11981"/>
                </a:cubicBezTo>
                <a:cubicBezTo>
                  <a:pt x="20910" y="11877"/>
                  <a:pt x="20915" y="11783"/>
                  <a:pt x="20935" y="11683"/>
                </a:cubicBezTo>
                <a:cubicBezTo>
                  <a:pt x="21047" y="11752"/>
                  <a:pt x="21130" y="11831"/>
                  <a:pt x="21183" y="119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082000" y="3919680"/>
            <a:ext cx="704880" cy="331560"/>
          </a:xfrm>
          <a:custGeom>
            <a:avLst/>
            <a:gdLst/>
            <a:ahLst/>
            <a:rect l="l" t="t" r="r" b="b"/>
            <a:pathLst>
              <a:path w="1961" h="919">
                <a:moveTo>
                  <a:pt x="22448" y="11485"/>
                </a:moveTo>
                <a:cubicBezTo>
                  <a:pt x="22516" y="11641"/>
                  <a:pt x="22534" y="11682"/>
                  <a:pt x="22572" y="11782"/>
                </a:cubicBezTo>
                <a:cubicBezTo>
                  <a:pt x="22572" y="11843"/>
                  <a:pt x="22515" y="11519"/>
                  <a:pt x="22523" y="11485"/>
                </a:cubicBezTo>
                <a:cubicBezTo>
                  <a:pt x="22574" y="11265"/>
                  <a:pt x="22676" y="11321"/>
                  <a:pt x="22845" y="11336"/>
                </a:cubicBezTo>
              </a:path>
              <a:path w="1961" h="919">
                <a:moveTo>
                  <a:pt x="23168" y="11361"/>
                </a:moveTo>
                <a:cubicBezTo>
                  <a:pt x="22994" y="11284"/>
                  <a:pt x="22916" y="11532"/>
                  <a:pt x="22944" y="11708"/>
                </a:cubicBezTo>
                <a:cubicBezTo>
                  <a:pt x="22961" y="11724"/>
                  <a:pt x="22977" y="11741"/>
                  <a:pt x="22994" y="11757"/>
                </a:cubicBezTo>
                <a:cubicBezTo>
                  <a:pt x="23131" y="11621"/>
                  <a:pt x="23118" y="11599"/>
                  <a:pt x="23118" y="11410"/>
                </a:cubicBezTo>
                <a:cubicBezTo>
                  <a:pt x="23205" y="11649"/>
                  <a:pt x="23169" y="11630"/>
                  <a:pt x="23416" y="11609"/>
                </a:cubicBezTo>
              </a:path>
              <a:path w="1961" h="919">
                <a:moveTo>
                  <a:pt x="23341" y="10889"/>
                </a:moveTo>
                <a:cubicBezTo>
                  <a:pt x="23477" y="11099"/>
                  <a:pt x="23607" y="11320"/>
                  <a:pt x="23688" y="11559"/>
                </a:cubicBezTo>
                <a:cubicBezTo>
                  <a:pt x="23688" y="11628"/>
                  <a:pt x="23701" y="11631"/>
                  <a:pt x="23763" y="11534"/>
                </a:cubicBezTo>
              </a:path>
              <a:path w="1961" h="919">
                <a:moveTo>
                  <a:pt x="23093" y="11311"/>
                </a:moveTo>
                <a:cubicBezTo>
                  <a:pt x="23318" y="11276"/>
                  <a:pt x="23673" y="11137"/>
                  <a:pt x="23862" y="11336"/>
                </a:cubicBezTo>
                <a:cubicBezTo>
                  <a:pt x="23924" y="11458"/>
                  <a:pt x="23940" y="11480"/>
                  <a:pt x="23961" y="11559"/>
                </a:cubicBezTo>
              </a:path>
              <a:path w="1961" h="919">
                <a:moveTo>
                  <a:pt x="24135" y="11088"/>
                </a:moveTo>
                <a:cubicBezTo>
                  <a:pt x="24054" y="11320"/>
                  <a:pt x="24044" y="11445"/>
                  <a:pt x="24234" y="11609"/>
                </a:cubicBezTo>
                <a:cubicBezTo>
                  <a:pt x="24361" y="11490"/>
                  <a:pt x="24540" y="11220"/>
                  <a:pt x="24234" y="11137"/>
                </a:cubicBezTo>
                <a:cubicBezTo>
                  <a:pt x="24071" y="11161"/>
                  <a:pt x="24022" y="11164"/>
                  <a:pt x="23937" y="112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Students will find equivalent ratio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ing Rat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3760" y="1599840"/>
            <a:ext cx="3352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ite the following ratios in simplest form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) Ravens wins t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) Redskins wins to total games pla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) Ravens wins to Steelers w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04920" y="1600200"/>
          <a:ext cx="4495680" cy="4530600"/>
        </p:xfrm>
        <a:graphic>
          <a:graphicData uri="http://schemas.openxmlformats.org/drawingml/2006/table">
            <a:tbl>
              <a:tblPr/>
              <a:tblGrid>
                <a:gridCol w="1676160"/>
                <a:gridCol w="1320840"/>
                <a:gridCol w="1498680"/>
              </a:tblGrid>
              <a:tr h="9064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F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ve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dsk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eel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7205760" y="3357720"/>
            <a:ext cx="9360" cy="63360"/>
          </a:xfrm>
          <a:custGeom>
            <a:avLst/>
            <a:gdLst/>
            <a:ahLst/>
            <a:rect l="l" t="t" r="r" b="b"/>
            <a:pathLst>
              <a:path w="26" h="174">
                <a:moveTo>
                  <a:pt x="20042" y="9327"/>
                </a:moveTo>
                <a:lnTo>
                  <a:pt x="20042" y="9327"/>
                </a:lnTo>
                <a:lnTo>
                  <a:pt x="20042" y="9327"/>
                </a:lnTo>
              </a:path>
              <a:path w="26" h="174">
                <a:moveTo>
                  <a:pt x="20017" y="9475"/>
                </a:moveTo>
                <a:cubicBezTo>
                  <a:pt x="20017" y="9483"/>
                  <a:pt x="20017" y="9492"/>
                  <a:pt x="20017" y="95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776920" y="2751120"/>
            <a:ext cx="3081240" cy="2830680"/>
          </a:xfrm>
          <a:custGeom>
            <a:avLst/>
            <a:gdLst/>
            <a:ahLst/>
            <a:rect l="l" t="t" r="r" b="b"/>
            <a:pathLst>
              <a:path w="8558" h="7864">
                <a:moveTo>
                  <a:pt x="16619" y="8806"/>
                </a:moveTo>
                <a:cubicBezTo>
                  <a:pt x="16679" y="8816"/>
                  <a:pt x="16751" y="8817"/>
                  <a:pt x="16818" y="8830"/>
                </a:cubicBezTo>
                <a:cubicBezTo>
                  <a:pt x="16918" y="8849"/>
                  <a:pt x="17012" y="8877"/>
                  <a:pt x="17115" y="8880"/>
                </a:cubicBezTo>
                <a:cubicBezTo>
                  <a:pt x="17202" y="8882"/>
                  <a:pt x="17279" y="8890"/>
                  <a:pt x="17363" y="8905"/>
                </a:cubicBezTo>
                <a:cubicBezTo>
                  <a:pt x="17478" y="8926"/>
                  <a:pt x="17599" y="8929"/>
                  <a:pt x="17711" y="8954"/>
                </a:cubicBezTo>
                <a:cubicBezTo>
                  <a:pt x="17831" y="8981"/>
                  <a:pt x="17960" y="8999"/>
                  <a:pt x="18083" y="9004"/>
                </a:cubicBezTo>
                <a:cubicBezTo>
                  <a:pt x="18308" y="9012"/>
                  <a:pt x="18532" y="9008"/>
                  <a:pt x="18752" y="9029"/>
                </a:cubicBezTo>
                <a:cubicBezTo>
                  <a:pt x="18975" y="9050"/>
                  <a:pt x="19203" y="9022"/>
                  <a:pt x="19422" y="9004"/>
                </a:cubicBezTo>
                <a:cubicBezTo>
                  <a:pt x="19638" y="8986"/>
                  <a:pt x="19855" y="9013"/>
                  <a:pt x="20067" y="9029"/>
                </a:cubicBezTo>
                <a:cubicBezTo>
                  <a:pt x="20267" y="9044"/>
                  <a:pt x="20463" y="9008"/>
                  <a:pt x="20662" y="9004"/>
                </a:cubicBezTo>
                <a:cubicBezTo>
                  <a:pt x="20761" y="9004"/>
                  <a:pt x="20778" y="9004"/>
                  <a:pt x="20836" y="9004"/>
                </a:cubicBezTo>
              </a:path>
              <a:path w="8558" h="7864">
                <a:moveTo>
                  <a:pt x="21357" y="8657"/>
                </a:moveTo>
                <a:cubicBezTo>
                  <a:pt x="21468" y="8722"/>
                  <a:pt x="21592" y="8784"/>
                  <a:pt x="21754" y="8781"/>
                </a:cubicBezTo>
                <a:cubicBezTo>
                  <a:pt x="22042" y="8776"/>
                  <a:pt x="22254" y="8664"/>
                  <a:pt x="22423" y="8434"/>
                </a:cubicBezTo>
                <a:cubicBezTo>
                  <a:pt x="22544" y="8269"/>
                  <a:pt x="22639" y="8030"/>
                  <a:pt x="22523" y="7838"/>
                </a:cubicBezTo>
                <a:cubicBezTo>
                  <a:pt x="22426" y="7677"/>
                  <a:pt x="22215" y="7647"/>
                  <a:pt x="22051" y="7640"/>
                </a:cubicBezTo>
                <a:cubicBezTo>
                  <a:pt x="21872" y="7633"/>
                  <a:pt x="21674" y="7705"/>
                  <a:pt x="21530" y="7813"/>
                </a:cubicBezTo>
                <a:cubicBezTo>
                  <a:pt x="21382" y="7923"/>
                  <a:pt x="21358" y="8047"/>
                  <a:pt x="21332" y="8210"/>
                </a:cubicBezTo>
                <a:cubicBezTo>
                  <a:pt x="21304" y="8387"/>
                  <a:pt x="21260" y="8473"/>
                  <a:pt x="21357" y="8632"/>
                </a:cubicBezTo>
                <a:cubicBezTo>
                  <a:pt x="21443" y="8773"/>
                  <a:pt x="21629" y="8751"/>
                  <a:pt x="21779" y="8756"/>
                </a:cubicBezTo>
                <a:cubicBezTo>
                  <a:pt x="21803" y="8756"/>
                  <a:pt x="21812" y="8756"/>
                  <a:pt x="21828" y="8756"/>
                </a:cubicBezTo>
              </a:path>
              <a:path w="8558" h="7864">
                <a:moveTo>
                  <a:pt x="16049" y="9872"/>
                </a:moveTo>
                <a:cubicBezTo>
                  <a:pt x="16120" y="9872"/>
                  <a:pt x="16177" y="9853"/>
                  <a:pt x="16247" y="9847"/>
                </a:cubicBezTo>
                <a:cubicBezTo>
                  <a:pt x="16386" y="9835"/>
                  <a:pt x="16530" y="9826"/>
                  <a:pt x="16669" y="9823"/>
                </a:cubicBezTo>
                <a:cubicBezTo>
                  <a:pt x="16837" y="9819"/>
                  <a:pt x="16999" y="9862"/>
                  <a:pt x="17165" y="9872"/>
                </a:cubicBezTo>
                <a:cubicBezTo>
                  <a:pt x="17374" y="9885"/>
                  <a:pt x="17580" y="9870"/>
                  <a:pt x="17785" y="9897"/>
                </a:cubicBezTo>
                <a:cubicBezTo>
                  <a:pt x="17905" y="9913"/>
                  <a:pt x="18036" y="9897"/>
                  <a:pt x="18157" y="9897"/>
                </a:cubicBezTo>
              </a:path>
              <a:path w="8558" h="7864">
                <a:moveTo>
                  <a:pt x="19397" y="9227"/>
                </a:moveTo>
                <a:cubicBezTo>
                  <a:pt x="19397" y="9158"/>
                  <a:pt x="19374" y="9491"/>
                  <a:pt x="19372" y="9500"/>
                </a:cubicBezTo>
                <a:cubicBezTo>
                  <a:pt x="19357" y="9580"/>
                  <a:pt x="19328" y="9628"/>
                  <a:pt x="19372" y="9674"/>
                </a:cubicBezTo>
              </a:path>
              <a:path w="8558" h="7864">
                <a:moveTo>
                  <a:pt x="19670" y="9227"/>
                </a:moveTo>
                <a:cubicBezTo>
                  <a:pt x="19716" y="9258"/>
                  <a:pt x="19681" y="9452"/>
                  <a:pt x="19670" y="9525"/>
                </a:cubicBezTo>
                <a:cubicBezTo>
                  <a:pt x="19651" y="9599"/>
                  <a:pt x="19643" y="9606"/>
                  <a:pt x="19645" y="9649"/>
                </a:cubicBezTo>
              </a:path>
              <a:path w="8558" h="7864">
                <a:moveTo>
                  <a:pt x="20613" y="9203"/>
                </a:moveTo>
                <a:cubicBezTo>
                  <a:pt x="20515" y="9203"/>
                  <a:pt x="20438" y="9163"/>
                  <a:pt x="20414" y="9277"/>
                </a:cubicBezTo>
                <a:cubicBezTo>
                  <a:pt x="20414" y="9318"/>
                  <a:pt x="20414" y="9326"/>
                  <a:pt x="20414" y="9351"/>
                </a:cubicBezTo>
                <a:cubicBezTo>
                  <a:pt x="20473" y="9351"/>
                  <a:pt x="20560" y="9311"/>
                  <a:pt x="20613" y="9327"/>
                </a:cubicBezTo>
                <a:cubicBezTo>
                  <a:pt x="20693" y="9351"/>
                  <a:pt x="20665" y="9504"/>
                  <a:pt x="20638" y="9550"/>
                </a:cubicBezTo>
                <a:cubicBezTo>
                  <a:pt x="20596" y="9620"/>
                  <a:pt x="20495" y="9675"/>
                  <a:pt x="20414" y="9649"/>
                </a:cubicBezTo>
                <a:cubicBezTo>
                  <a:pt x="20374" y="9629"/>
                  <a:pt x="20368" y="9620"/>
                  <a:pt x="20340" y="9624"/>
                </a:cubicBezTo>
              </a:path>
              <a:path w="8558" h="7864">
                <a:moveTo>
                  <a:pt x="16842" y="11038"/>
                </a:moveTo>
                <a:cubicBezTo>
                  <a:pt x="16883" y="11041"/>
                  <a:pt x="16877" y="11031"/>
                  <a:pt x="16917" y="11038"/>
                </a:cubicBezTo>
                <a:cubicBezTo>
                  <a:pt x="16978" y="11048"/>
                  <a:pt x="17024" y="11061"/>
                  <a:pt x="17090" y="11063"/>
                </a:cubicBezTo>
                <a:cubicBezTo>
                  <a:pt x="17176" y="11065"/>
                  <a:pt x="17256" y="11082"/>
                  <a:pt x="17338" y="11088"/>
                </a:cubicBezTo>
                <a:cubicBezTo>
                  <a:pt x="17468" y="11098"/>
                  <a:pt x="17587" y="11074"/>
                  <a:pt x="17711" y="11063"/>
                </a:cubicBezTo>
                <a:cubicBezTo>
                  <a:pt x="17826" y="11052"/>
                  <a:pt x="17943" y="11044"/>
                  <a:pt x="18058" y="11038"/>
                </a:cubicBezTo>
                <a:cubicBezTo>
                  <a:pt x="18177" y="11032"/>
                  <a:pt x="18288" y="11027"/>
                  <a:pt x="18405" y="11013"/>
                </a:cubicBezTo>
                <a:cubicBezTo>
                  <a:pt x="18536" y="10997"/>
                  <a:pt x="18670" y="10974"/>
                  <a:pt x="18802" y="10964"/>
                </a:cubicBezTo>
                <a:cubicBezTo>
                  <a:pt x="18912" y="10956"/>
                  <a:pt x="19012" y="10942"/>
                  <a:pt x="19124" y="10939"/>
                </a:cubicBezTo>
                <a:cubicBezTo>
                  <a:pt x="19654" y="10926"/>
                  <a:pt x="20185" y="10955"/>
                  <a:pt x="20712" y="10914"/>
                </a:cubicBezTo>
                <a:cubicBezTo>
                  <a:pt x="20929" y="10897"/>
                  <a:pt x="21139" y="10891"/>
                  <a:pt x="21357" y="10864"/>
                </a:cubicBezTo>
                <a:cubicBezTo>
                  <a:pt x="21485" y="10848"/>
                  <a:pt x="21579" y="10845"/>
                  <a:pt x="21704" y="10840"/>
                </a:cubicBezTo>
              </a:path>
              <a:path w="8558" h="7864">
                <a:moveTo>
                  <a:pt x="16098" y="12030"/>
                </a:moveTo>
                <a:cubicBezTo>
                  <a:pt x="16118" y="12023"/>
                  <a:pt x="16189" y="11987"/>
                  <a:pt x="16247" y="11981"/>
                </a:cubicBezTo>
                <a:cubicBezTo>
                  <a:pt x="16405" y="11964"/>
                  <a:pt x="16540" y="12017"/>
                  <a:pt x="16694" y="12030"/>
                </a:cubicBezTo>
                <a:cubicBezTo>
                  <a:pt x="16845" y="12043"/>
                  <a:pt x="16971" y="12017"/>
                  <a:pt x="17115" y="12005"/>
                </a:cubicBezTo>
                <a:cubicBezTo>
                  <a:pt x="17234" y="11995"/>
                  <a:pt x="17395" y="11966"/>
                  <a:pt x="17512" y="11981"/>
                </a:cubicBezTo>
                <a:cubicBezTo>
                  <a:pt x="17599" y="11992"/>
                  <a:pt x="17670" y="12005"/>
                  <a:pt x="17760" y="12005"/>
                </a:cubicBezTo>
                <a:cubicBezTo>
                  <a:pt x="17878" y="12005"/>
                  <a:pt x="17974" y="12003"/>
                  <a:pt x="18083" y="12030"/>
                </a:cubicBezTo>
                <a:cubicBezTo>
                  <a:pt x="18132" y="12042"/>
                  <a:pt x="18180" y="12050"/>
                  <a:pt x="18231" y="12055"/>
                </a:cubicBezTo>
                <a:cubicBezTo>
                  <a:pt x="18303" y="12063"/>
                  <a:pt x="18385" y="12075"/>
                  <a:pt x="18455" y="12080"/>
                </a:cubicBezTo>
                <a:cubicBezTo>
                  <a:pt x="18557" y="12088"/>
                  <a:pt x="18667" y="12064"/>
                  <a:pt x="18752" y="12055"/>
                </a:cubicBezTo>
                <a:cubicBezTo>
                  <a:pt x="18904" y="12040"/>
                  <a:pt x="19052" y="12066"/>
                  <a:pt x="19199" y="12080"/>
                </a:cubicBezTo>
                <a:cubicBezTo>
                  <a:pt x="19315" y="12091"/>
                  <a:pt x="19432" y="12119"/>
                  <a:pt x="19546" y="12129"/>
                </a:cubicBezTo>
                <a:cubicBezTo>
                  <a:pt x="19671" y="12140"/>
                  <a:pt x="19848" y="12169"/>
                  <a:pt x="19968" y="12154"/>
                </a:cubicBezTo>
                <a:cubicBezTo>
                  <a:pt x="20095" y="12139"/>
                  <a:pt x="20211" y="12129"/>
                  <a:pt x="20340" y="12129"/>
                </a:cubicBezTo>
                <a:cubicBezTo>
                  <a:pt x="20414" y="12129"/>
                  <a:pt x="20489" y="12129"/>
                  <a:pt x="20563" y="12129"/>
                </a:cubicBezTo>
              </a:path>
              <a:path w="8558" h="7864">
                <a:moveTo>
                  <a:pt x="24259" y="11584"/>
                </a:moveTo>
                <a:cubicBezTo>
                  <a:pt x="24299" y="11564"/>
                  <a:pt x="24306" y="11515"/>
                  <a:pt x="24358" y="11509"/>
                </a:cubicBezTo>
                <a:cubicBezTo>
                  <a:pt x="24446" y="11499"/>
                  <a:pt x="24448" y="11631"/>
                  <a:pt x="24433" y="11683"/>
                </a:cubicBezTo>
                <a:cubicBezTo>
                  <a:pt x="24417" y="11741"/>
                  <a:pt x="24329" y="11813"/>
                  <a:pt x="24284" y="11857"/>
                </a:cubicBezTo>
                <a:cubicBezTo>
                  <a:pt x="24242" y="11898"/>
                  <a:pt x="24235" y="11937"/>
                  <a:pt x="24209" y="11981"/>
                </a:cubicBezTo>
                <a:cubicBezTo>
                  <a:pt x="24201" y="11989"/>
                  <a:pt x="24193" y="11997"/>
                  <a:pt x="24185" y="12005"/>
                </a:cubicBezTo>
                <a:cubicBezTo>
                  <a:pt x="24227" y="11979"/>
                  <a:pt x="24251" y="11913"/>
                  <a:pt x="24309" y="11906"/>
                </a:cubicBezTo>
                <a:cubicBezTo>
                  <a:pt x="24379" y="11898"/>
                  <a:pt x="24395" y="11960"/>
                  <a:pt x="24457" y="11981"/>
                </a:cubicBezTo>
                <a:cubicBezTo>
                  <a:pt x="24539" y="12009"/>
                  <a:pt x="24534" y="11995"/>
                  <a:pt x="24606" y="11981"/>
                </a:cubicBezTo>
              </a:path>
              <a:path w="8558" h="7864">
                <a:moveTo>
                  <a:pt x="17289" y="14908"/>
                </a:moveTo>
                <a:cubicBezTo>
                  <a:pt x="17289" y="14807"/>
                  <a:pt x="17266" y="15055"/>
                  <a:pt x="17264" y="15156"/>
                </a:cubicBezTo>
                <a:cubicBezTo>
                  <a:pt x="17262" y="15293"/>
                  <a:pt x="17255" y="15374"/>
                  <a:pt x="17239" y="15503"/>
                </a:cubicBezTo>
              </a:path>
              <a:path w="8558" h="7864">
                <a:moveTo>
                  <a:pt x="17611" y="14932"/>
                </a:moveTo>
                <a:cubicBezTo>
                  <a:pt x="17611" y="15122"/>
                  <a:pt x="17611" y="15313"/>
                  <a:pt x="17611" y="155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402760" y="3741840"/>
            <a:ext cx="384120" cy="241200"/>
          </a:xfrm>
          <a:custGeom>
            <a:avLst/>
            <a:gdLst/>
            <a:ahLst/>
            <a:rect l="l" t="t" r="r" b="b"/>
            <a:pathLst>
              <a:path w="1068" h="671">
                <a:moveTo>
                  <a:pt x="23788" y="10393"/>
                </a:moveTo>
                <a:lnTo>
                  <a:pt x="23788" y="10393"/>
                </a:lnTo>
              </a:path>
              <a:path w="1068" h="671">
                <a:moveTo>
                  <a:pt x="23763" y="10492"/>
                </a:moveTo>
                <a:lnTo>
                  <a:pt x="23763" y="10492"/>
                </a:lnTo>
              </a:path>
              <a:path w="1068" h="671">
                <a:moveTo>
                  <a:pt x="23490" y="10815"/>
                </a:moveTo>
                <a:lnTo>
                  <a:pt x="23490" y="10815"/>
                </a:lnTo>
              </a:path>
              <a:path w="1068" h="671">
                <a:moveTo>
                  <a:pt x="23341" y="11063"/>
                </a:moveTo>
                <a:lnTo>
                  <a:pt x="23341" y="11063"/>
                </a:lnTo>
                <a:lnTo>
                  <a:pt x="23341" y="11063"/>
                </a:lnTo>
              </a:path>
              <a:path w="1068" h="671">
                <a:moveTo>
                  <a:pt x="24408" y="10765"/>
                </a:moveTo>
                <a:lnTo>
                  <a:pt x="24408" y="10765"/>
                </a:lnTo>
                <a:lnTo>
                  <a:pt x="24408" y="10765"/>
                </a:lnTo>
              </a:path>
              <a:path w="1068" h="671">
                <a:moveTo>
                  <a:pt x="24408" y="10765"/>
                </a:moveTo>
                <a:lnTo>
                  <a:pt x="24408" y="10765"/>
                </a:lnTo>
              </a:path>
              <a:path w="1068" h="671">
                <a:moveTo>
                  <a:pt x="24333" y="10988"/>
                </a:moveTo>
                <a:lnTo>
                  <a:pt x="24333" y="1098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31080" y="3660840"/>
            <a:ext cx="295200" cy="260280"/>
          </a:xfrm>
          <a:custGeom>
            <a:avLst/>
            <a:gdLst/>
            <a:ahLst/>
            <a:rect l="l" t="t" r="r" b="b"/>
            <a:pathLst>
              <a:path w="819" h="720">
                <a:moveTo>
                  <a:pt x="21927" y="10840"/>
                </a:moveTo>
                <a:cubicBezTo>
                  <a:pt x="21995" y="10856"/>
                  <a:pt x="22046" y="10886"/>
                  <a:pt x="22126" y="10889"/>
                </a:cubicBezTo>
                <a:cubicBezTo>
                  <a:pt x="22253" y="10893"/>
                  <a:pt x="22381" y="10861"/>
                  <a:pt x="22473" y="10765"/>
                </a:cubicBezTo>
                <a:cubicBezTo>
                  <a:pt x="22566" y="10669"/>
                  <a:pt x="22572" y="10566"/>
                  <a:pt x="22572" y="10443"/>
                </a:cubicBezTo>
                <a:cubicBezTo>
                  <a:pt x="22572" y="10383"/>
                  <a:pt x="22518" y="10286"/>
                  <a:pt x="22473" y="10244"/>
                </a:cubicBezTo>
                <a:cubicBezTo>
                  <a:pt x="22409" y="10185"/>
                  <a:pt x="22281" y="10161"/>
                  <a:pt x="22200" y="10170"/>
                </a:cubicBezTo>
                <a:cubicBezTo>
                  <a:pt x="22083" y="10184"/>
                  <a:pt x="21975" y="10217"/>
                  <a:pt x="21903" y="10294"/>
                </a:cubicBezTo>
                <a:cubicBezTo>
                  <a:pt x="21848" y="10353"/>
                  <a:pt x="21809" y="10391"/>
                  <a:pt x="21779" y="10468"/>
                </a:cubicBezTo>
                <a:cubicBezTo>
                  <a:pt x="21743" y="10560"/>
                  <a:pt x="21746" y="10634"/>
                  <a:pt x="21803" y="10716"/>
                </a:cubicBezTo>
                <a:cubicBezTo>
                  <a:pt x="21836" y="10764"/>
                  <a:pt x="21897" y="10818"/>
                  <a:pt x="21952" y="10840"/>
                </a:cubicBezTo>
                <a:cubicBezTo>
                  <a:pt x="22010" y="10858"/>
                  <a:pt x="22016" y="10866"/>
                  <a:pt x="22051" y="108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367840" y="3687840"/>
            <a:ext cx="554040" cy="339480"/>
          </a:xfrm>
          <a:custGeom>
            <a:avLst/>
            <a:gdLst/>
            <a:ahLst/>
            <a:rect l="l" t="t" r="r" b="b"/>
            <a:pathLst>
              <a:path w="1539" h="944">
                <a:moveTo>
                  <a:pt x="23589" y="10344"/>
                </a:moveTo>
                <a:cubicBezTo>
                  <a:pt x="23561" y="10288"/>
                  <a:pt x="23489" y="10258"/>
                  <a:pt x="23416" y="10269"/>
                </a:cubicBezTo>
                <a:cubicBezTo>
                  <a:pt x="23331" y="10282"/>
                  <a:pt x="23286" y="10311"/>
                  <a:pt x="23242" y="10368"/>
                </a:cubicBezTo>
                <a:cubicBezTo>
                  <a:pt x="23323" y="10464"/>
                  <a:pt x="23456" y="10416"/>
                  <a:pt x="23540" y="10492"/>
                </a:cubicBezTo>
                <a:cubicBezTo>
                  <a:pt x="23675" y="10615"/>
                  <a:pt x="23469" y="10723"/>
                  <a:pt x="23366" y="10716"/>
                </a:cubicBezTo>
                <a:cubicBezTo>
                  <a:pt x="23341" y="10708"/>
                  <a:pt x="23317" y="10699"/>
                  <a:pt x="23292" y="10691"/>
                </a:cubicBezTo>
                <a:cubicBezTo>
                  <a:pt x="23316" y="10579"/>
                  <a:pt x="23395" y="10491"/>
                  <a:pt x="23490" y="10418"/>
                </a:cubicBezTo>
                <a:cubicBezTo>
                  <a:pt x="23508" y="10404"/>
                  <a:pt x="23588" y="10321"/>
                  <a:pt x="23515" y="10368"/>
                </a:cubicBezTo>
              </a:path>
              <a:path w="1539" h="944">
                <a:moveTo>
                  <a:pt x="24061" y="10244"/>
                </a:moveTo>
                <a:cubicBezTo>
                  <a:pt x="24061" y="10385"/>
                  <a:pt x="24061" y="10525"/>
                  <a:pt x="24061" y="10666"/>
                </a:cubicBezTo>
              </a:path>
              <a:path w="1539" h="944">
                <a:moveTo>
                  <a:pt x="24135" y="10244"/>
                </a:moveTo>
                <a:cubicBezTo>
                  <a:pt x="24186" y="10261"/>
                  <a:pt x="24160" y="10360"/>
                  <a:pt x="24160" y="10418"/>
                </a:cubicBezTo>
                <a:cubicBezTo>
                  <a:pt x="24160" y="10475"/>
                  <a:pt x="24107" y="10562"/>
                  <a:pt x="24135" y="10616"/>
                </a:cubicBezTo>
                <a:cubicBezTo>
                  <a:pt x="24158" y="10662"/>
                  <a:pt x="24262" y="10687"/>
                  <a:pt x="24309" y="10691"/>
                </a:cubicBezTo>
                <a:cubicBezTo>
                  <a:pt x="24377" y="10697"/>
                  <a:pt x="24453" y="10672"/>
                  <a:pt x="24482" y="10641"/>
                </a:cubicBezTo>
                <a:cubicBezTo>
                  <a:pt x="24546" y="10572"/>
                  <a:pt x="24543" y="10587"/>
                  <a:pt x="24532" y="10542"/>
                </a:cubicBezTo>
                <a:cubicBezTo>
                  <a:pt x="24517" y="10483"/>
                  <a:pt x="24494" y="10473"/>
                  <a:pt x="24433" y="10468"/>
                </a:cubicBezTo>
                <a:cubicBezTo>
                  <a:pt x="24401" y="10465"/>
                  <a:pt x="24351" y="10457"/>
                  <a:pt x="24333" y="10492"/>
                </a:cubicBezTo>
                <a:cubicBezTo>
                  <a:pt x="24307" y="10543"/>
                  <a:pt x="24309" y="10608"/>
                  <a:pt x="24309" y="10666"/>
                </a:cubicBezTo>
                <a:cubicBezTo>
                  <a:pt x="24309" y="10691"/>
                  <a:pt x="24309" y="10699"/>
                  <a:pt x="24309" y="10716"/>
                </a:cubicBezTo>
              </a:path>
              <a:path w="1539" h="944">
                <a:moveTo>
                  <a:pt x="23366" y="10889"/>
                </a:moveTo>
                <a:cubicBezTo>
                  <a:pt x="23366" y="10881"/>
                  <a:pt x="23366" y="10872"/>
                  <a:pt x="23366" y="10864"/>
                </a:cubicBezTo>
                <a:cubicBezTo>
                  <a:pt x="23411" y="10887"/>
                  <a:pt x="23426" y="10926"/>
                  <a:pt x="23490" y="10939"/>
                </a:cubicBezTo>
              </a:path>
              <a:path w="1539" h="944">
                <a:moveTo>
                  <a:pt x="23713" y="10914"/>
                </a:moveTo>
                <a:cubicBezTo>
                  <a:pt x="23635" y="10914"/>
                  <a:pt x="23616" y="10912"/>
                  <a:pt x="23564" y="10964"/>
                </a:cubicBezTo>
                <a:cubicBezTo>
                  <a:pt x="23597" y="11003"/>
                  <a:pt x="23696" y="11098"/>
                  <a:pt x="23664" y="11162"/>
                </a:cubicBezTo>
                <a:cubicBezTo>
                  <a:pt x="23636" y="11162"/>
                  <a:pt x="23625" y="11164"/>
                  <a:pt x="23614" y="11187"/>
                </a:cubicBezTo>
                <a:cubicBezTo>
                  <a:pt x="23614" y="11083"/>
                  <a:pt x="23638" y="11067"/>
                  <a:pt x="23713" y="10988"/>
                </a:cubicBezTo>
                <a:cubicBezTo>
                  <a:pt x="23736" y="10966"/>
                  <a:pt x="23744" y="10961"/>
                  <a:pt x="23738" y="10939"/>
                </a:cubicBezTo>
              </a:path>
              <a:path w="1539" h="944">
                <a:moveTo>
                  <a:pt x="24333" y="10864"/>
                </a:moveTo>
                <a:cubicBezTo>
                  <a:pt x="24333" y="10800"/>
                  <a:pt x="24389" y="10871"/>
                  <a:pt x="24408" y="10889"/>
                </a:cubicBezTo>
              </a:path>
              <a:path w="1539" h="944">
                <a:moveTo>
                  <a:pt x="24755" y="10765"/>
                </a:moveTo>
                <a:cubicBezTo>
                  <a:pt x="24692" y="10765"/>
                  <a:pt x="24681" y="10786"/>
                  <a:pt x="24656" y="10840"/>
                </a:cubicBezTo>
                <a:cubicBezTo>
                  <a:pt x="24609" y="10939"/>
                  <a:pt x="24694" y="10926"/>
                  <a:pt x="24705" y="11013"/>
                </a:cubicBezTo>
                <a:cubicBezTo>
                  <a:pt x="24714" y="11080"/>
                  <a:pt x="24682" y="11092"/>
                  <a:pt x="24631" y="11112"/>
                </a:cubicBezTo>
                <a:cubicBezTo>
                  <a:pt x="24599" y="10985"/>
                  <a:pt x="24682" y="10982"/>
                  <a:pt x="24755" y="10889"/>
                </a:cubicBezTo>
                <a:cubicBezTo>
                  <a:pt x="24771" y="10869"/>
                  <a:pt x="24771" y="10866"/>
                  <a:pt x="24780" y="108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89880" y="4438800"/>
            <a:ext cx="420480" cy="384120"/>
          </a:xfrm>
          <a:custGeom>
            <a:avLst/>
            <a:gdLst/>
            <a:ahLst/>
            <a:rect l="l" t="t" r="r" b="b"/>
            <a:pathLst>
              <a:path w="1167" h="1068">
                <a:moveTo>
                  <a:pt x="21208" y="13246"/>
                </a:moveTo>
                <a:cubicBezTo>
                  <a:pt x="21333" y="13301"/>
                  <a:pt x="21460" y="13355"/>
                  <a:pt x="21605" y="13370"/>
                </a:cubicBezTo>
                <a:cubicBezTo>
                  <a:pt x="21802" y="13390"/>
                  <a:pt x="21915" y="13352"/>
                  <a:pt x="22076" y="13246"/>
                </a:cubicBezTo>
                <a:cubicBezTo>
                  <a:pt x="22170" y="13184"/>
                  <a:pt x="22225" y="13061"/>
                  <a:pt x="22250" y="12948"/>
                </a:cubicBezTo>
                <a:cubicBezTo>
                  <a:pt x="22272" y="12847"/>
                  <a:pt x="22204" y="12779"/>
                  <a:pt x="22151" y="12700"/>
                </a:cubicBezTo>
                <a:cubicBezTo>
                  <a:pt x="22075" y="12587"/>
                  <a:pt x="21964" y="12527"/>
                  <a:pt x="21853" y="12452"/>
                </a:cubicBezTo>
                <a:cubicBezTo>
                  <a:pt x="21770" y="12396"/>
                  <a:pt x="21656" y="12343"/>
                  <a:pt x="21555" y="12328"/>
                </a:cubicBezTo>
                <a:cubicBezTo>
                  <a:pt x="21460" y="12314"/>
                  <a:pt x="21350" y="12369"/>
                  <a:pt x="21282" y="12427"/>
                </a:cubicBezTo>
                <a:cubicBezTo>
                  <a:pt x="21207" y="12491"/>
                  <a:pt x="21128" y="12574"/>
                  <a:pt x="21109" y="12675"/>
                </a:cubicBezTo>
                <a:cubicBezTo>
                  <a:pt x="21093" y="12763"/>
                  <a:pt x="21068" y="12881"/>
                  <a:pt x="21084" y="12973"/>
                </a:cubicBezTo>
                <a:cubicBezTo>
                  <a:pt x="21102" y="13076"/>
                  <a:pt x="21112" y="13186"/>
                  <a:pt x="21183" y="13271"/>
                </a:cubicBezTo>
                <a:cubicBezTo>
                  <a:pt x="21274" y="13380"/>
                  <a:pt x="21336" y="13388"/>
                  <a:pt x="21481" y="13395"/>
                </a:cubicBezTo>
                <a:cubicBezTo>
                  <a:pt x="21489" y="13395"/>
                  <a:pt x="21498" y="13395"/>
                  <a:pt x="21506" y="133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465960" y="4160880"/>
            <a:ext cx="2178000" cy="1357200"/>
          </a:xfrm>
          <a:custGeom>
            <a:avLst/>
            <a:gdLst/>
            <a:ahLst/>
            <a:rect l="l" t="t" r="r" b="b"/>
            <a:pathLst>
              <a:path w="6053" h="3771">
                <a:moveTo>
                  <a:pt x="23713" y="11584"/>
                </a:moveTo>
                <a:cubicBezTo>
                  <a:pt x="23713" y="11576"/>
                  <a:pt x="23713" y="11567"/>
                  <a:pt x="23713" y="11559"/>
                </a:cubicBezTo>
                <a:cubicBezTo>
                  <a:pt x="23679" y="11661"/>
                  <a:pt x="23664" y="11812"/>
                  <a:pt x="23639" y="11931"/>
                </a:cubicBezTo>
                <a:cubicBezTo>
                  <a:pt x="23639" y="11939"/>
                  <a:pt x="23639" y="11948"/>
                  <a:pt x="23639" y="11956"/>
                </a:cubicBezTo>
              </a:path>
              <a:path w="6053" h="3771">
                <a:moveTo>
                  <a:pt x="24011" y="11708"/>
                </a:moveTo>
                <a:cubicBezTo>
                  <a:pt x="23983" y="11708"/>
                  <a:pt x="23972" y="11706"/>
                  <a:pt x="23961" y="11683"/>
                </a:cubicBezTo>
              </a:path>
              <a:path w="6053" h="3771">
                <a:moveTo>
                  <a:pt x="24011" y="11832"/>
                </a:moveTo>
                <a:cubicBezTo>
                  <a:pt x="24003" y="11832"/>
                  <a:pt x="23994" y="11832"/>
                  <a:pt x="23986" y="11832"/>
                </a:cubicBezTo>
              </a:path>
              <a:path w="6053" h="3771">
                <a:moveTo>
                  <a:pt x="17983" y="15032"/>
                </a:moveTo>
                <a:cubicBezTo>
                  <a:pt x="17959" y="15032"/>
                  <a:pt x="17951" y="15032"/>
                  <a:pt x="17959" y="15056"/>
                </a:cubicBezTo>
              </a:path>
              <a:path w="6053" h="3771">
                <a:moveTo>
                  <a:pt x="18008" y="15329"/>
                </a:moveTo>
                <a:lnTo>
                  <a:pt x="18008" y="15329"/>
                </a:lnTo>
                <a:lnTo>
                  <a:pt x="18008" y="1532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643800" y="5340240"/>
            <a:ext cx="285480" cy="223920"/>
          </a:xfrm>
          <a:custGeom>
            <a:avLst/>
            <a:gdLst/>
            <a:ahLst/>
            <a:rect l="l" t="t" r="r" b="b"/>
            <a:pathLst>
              <a:path w="794" h="621">
                <a:moveTo>
                  <a:pt x="18455" y="14858"/>
                </a:moveTo>
                <a:cubicBezTo>
                  <a:pt x="18455" y="14783"/>
                  <a:pt x="18475" y="14957"/>
                  <a:pt x="18479" y="15032"/>
                </a:cubicBezTo>
                <a:cubicBezTo>
                  <a:pt x="18486" y="15163"/>
                  <a:pt x="18479" y="15297"/>
                  <a:pt x="18479" y="15429"/>
                </a:cubicBezTo>
              </a:path>
              <a:path w="794" h="621">
                <a:moveTo>
                  <a:pt x="18802" y="14957"/>
                </a:moveTo>
                <a:cubicBezTo>
                  <a:pt x="18827" y="14895"/>
                  <a:pt x="18926" y="14825"/>
                  <a:pt x="19000" y="14833"/>
                </a:cubicBezTo>
                <a:cubicBezTo>
                  <a:pt x="19102" y="14843"/>
                  <a:pt x="18978" y="15103"/>
                  <a:pt x="18976" y="15106"/>
                </a:cubicBezTo>
                <a:cubicBezTo>
                  <a:pt x="18914" y="15221"/>
                  <a:pt x="18818" y="15333"/>
                  <a:pt x="18777" y="15453"/>
                </a:cubicBezTo>
                <a:cubicBezTo>
                  <a:pt x="18785" y="15438"/>
                  <a:pt x="18875" y="15329"/>
                  <a:pt x="18901" y="15329"/>
                </a:cubicBezTo>
                <a:cubicBezTo>
                  <a:pt x="19005" y="15329"/>
                  <a:pt x="19027" y="15429"/>
                  <a:pt x="19149" y="15404"/>
                </a:cubicBezTo>
                <a:cubicBezTo>
                  <a:pt x="19207" y="15385"/>
                  <a:pt x="19213" y="15376"/>
                  <a:pt x="19248" y="153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84160" y="6419880"/>
            <a:ext cx="27000" cy="19080"/>
          </a:xfrm>
          <a:custGeom>
            <a:avLst/>
            <a:gdLst/>
            <a:ahLst/>
            <a:rect l="l" t="t" r="r" b="b"/>
            <a:pathLst>
              <a:path w="75" h="50">
                <a:moveTo>
                  <a:pt x="2456" y="17835"/>
                </a:moveTo>
                <a:cubicBezTo>
                  <a:pt x="2492" y="17844"/>
                  <a:pt x="2501" y="17856"/>
                  <a:pt x="2530" y="178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02200" y="4803840"/>
            <a:ext cx="1617840" cy="46080"/>
          </a:xfrm>
          <a:custGeom>
            <a:avLst/>
            <a:gdLst/>
            <a:ahLst/>
            <a:rect l="l" t="t" r="r" b="b"/>
            <a:pathLst>
              <a:path w="4491" h="125">
                <a:moveTo>
                  <a:pt x="16396" y="13345"/>
                </a:moveTo>
                <a:cubicBezTo>
                  <a:pt x="16610" y="13345"/>
                  <a:pt x="16805" y="13356"/>
                  <a:pt x="17016" y="13395"/>
                </a:cubicBezTo>
                <a:cubicBezTo>
                  <a:pt x="17158" y="13421"/>
                  <a:pt x="17298" y="13420"/>
                  <a:pt x="17438" y="13444"/>
                </a:cubicBezTo>
                <a:cubicBezTo>
                  <a:pt x="17596" y="13471"/>
                  <a:pt x="17747" y="13469"/>
                  <a:pt x="17909" y="13469"/>
                </a:cubicBezTo>
                <a:cubicBezTo>
                  <a:pt x="18143" y="13469"/>
                  <a:pt x="18371" y="13448"/>
                  <a:pt x="18604" y="13444"/>
                </a:cubicBezTo>
                <a:cubicBezTo>
                  <a:pt x="18820" y="13440"/>
                  <a:pt x="19033" y="13429"/>
                  <a:pt x="19248" y="13419"/>
                </a:cubicBezTo>
                <a:cubicBezTo>
                  <a:pt x="19563" y="13405"/>
                  <a:pt x="19877" y="13401"/>
                  <a:pt x="20191" y="13370"/>
                </a:cubicBezTo>
                <a:cubicBezTo>
                  <a:pt x="20429" y="13347"/>
                  <a:pt x="20656" y="13341"/>
                  <a:pt x="20886" y="133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724360" y="5170320"/>
            <a:ext cx="1776600" cy="81000"/>
          </a:xfrm>
          <a:custGeom>
            <a:avLst/>
            <a:gdLst/>
            <a:ahLst/>
            <a:rect l="l" t="t" r="r" b="b"/>
            <a:pathLst>
              <a:path w="4937" h="224">
                <a:moveTo>
                  <a:pt x="15900" y="14362"/>
                </a:moveTo>
                <a:cubicBezTo>
                  <a:pt x="16087" y="14362"/>
                  <a:pt x="16287" y="14356"/>
                  <a:pt x="16470" y="14387"/>
                </a:cubicBezTo>
                <a:cubicBezTo>
                  <a:pt x="16737" y="14432"/>
                  <a:pt x="16992" y="14475"/>
                  <a:pt x="17264" y="14486"/>
                </a:cubicBezTo>
                <a:cubicBezTo>
                  <a:pt x="17562" y="14499"/>
                  <a:pt x="17862" y="14521"/>
                  <a:pt x="18157" y="14560"/>
                </a:cubicBezTo>
                <a:cubicBezTo>
                  <a:pt x="18413" y="14594"/>
                  <a:pt x="18668" y="14585"/>
                  <a:pt x="18926" y="14585"/>
                </a:cubicBezTo>
                <a:cubicBezTo>
                  <a:pt x="19190" y="14585"/>
                  <a:pt x="19457" y="14564"/>
                  <a:pt x="19720" y="14536"/>
                </a:cubicBezTo>
                <a:cubicBezTo>
                  <a:pt x="19951" y="14512"/>
                  <a:pt x="20183" y="14480"/>
                  <a:pt x="20414" y="14461"/>
                </a:cubicBezTo>
                <a:cubicBezTo>
                  <a:pt x="20552" y="14450"/>
                  <a:pt x="20697" y="14461"/>
                  <a:pt x="20836" y="144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Students will find equivalent ratio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quivalent Rat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ever you do to the numerator you must do to the denominato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 1.) 4: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 2.) 3 to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 3.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752480" y="5486400"/>
                <a:ext cx="3254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1803240" y="3205080"/>
            <a:ext cx="3894120" cy="3546720"/>
          </a:xfrm>
          <a:custGeom>
            <a:avLst/>
            <a:gdLst/>
            <a:ahLst/>
            <a:rect l="l" t="t" r="r" b="b"/>
            <a:pathLst>
              <a:path w="10815" h="9848">
                <a:moveTo>
                  <a:pt x="15156" y="8905"/>
                </a:moveTo>
                <a:lnTo>
                  <a:pt x="15156" y="8905"/>
                </a:lnTo>
                <a:lnTo>
                  <a:pt x="15156" y="8905"/>
                </a:lnTo>
              </a:path>
              <a:path w="10815" h="9848">
                <a:moveTo>
                  <a:pt x="15156" y="8905"/>
                </a:moveTo>
                <a:lnTo>
                  <a:pt x="15156" y="8905"/>
                </a:lnTo>
              </a:path>
              <a:path w="10815" h="9848">
                <a:moveTo>
                  <a:pt x="15180" y="9178"/>
                </a:moveTo>
                <a:cubicBezTo>
                  <a:pt x="15188" y="9170"/>
                  <a:pt x="15197" y="9161"/>
                  <a:pt x="15205" y="9153"/>
                </a:cubicBezTo>
              </a:path>
              <a:path w="10815" h="9848">
                <a:moveTo>
                  <a:pt x="14536" y="9575"/>
                </a:moveTo>
                <a:cubicBezTo>
                  <a:pt x="14499" y="9639"/>
                  <a:pt x="14460" y="9728"/>
                  <a:pt x="14436" y="9798"/>
                </a:cubicBezTo>
              </a:path>
              <a:path w="10815" h="9848">
                <a:moveTo>
                  <a:pt x="15602" y="9550"/>
                </a:moveTo>
                <a:lnTo>
                  <a:pt x="15602" y="9550"/>
                </a:lnTo>
              </a:path>
              <a:path w="10815" h="9848">
                <a:moveTo>
                  <a:pt x="15602" y="9525"/>
                </a:moveTo>
                <a:lnTo>
                  <a:pt x="15602" y="9525"/>
                </a:lnTo>
              </a:path>
              <a:path w="10815" h="9848">
                <a:moveTo>
                  <a:pt x="15825" y="10517"/>
                </a:moveTo>
                <a:cubicBezTo>
                  <a:pt x="15825" y="10492"/>
                  <a:pt x="15825" y="10484"/>
                  <a:pt x="15801" y="10492"/>
                </a:cubicBezTo>
              </a:path>
              <a:path w="10815" h="9848">
                <a:moveTo>
                  <a:pt x="15801" y="10492"/>
                </a:moveTo>
                <a:lnTo>
                  <a:pt x="15801" y="10492"/>
                </a:lnTo>
              </a:path>
              <a:path w="10815" h="9848">
                <a:moveTo>
                  <a:pt x="5035" y="12874"/>
                </a:moveTo>
                <a:cubicBezTo>
                  <a:pt x="5013" y="12964"/>
                  <a:pt x="5005" y="12988"/>
                  <a:pt x="5011" y="13047"/>
                </a:cubicBezTo>
              </a:path>
              <a:path w="10815" h="9848">
                <a:moveTo>
                  <a:pt x="5904" y="18728"/>
                </a:moveTo>
                <a:cubicBezTo>
                  <a:pt x="5904" y="18752"/>
                  <a:pt x="5904" y="18760"/>
                  <a:pt x="5928" y="18752"/>
                </a:cubicBezTo>
              </a:path>
              <a:path w="10815" h="9848">
                <a:moveTo>
                  <a:pt x="5631" y="15850"/>
                </a:moveTo>
                <a:cubicBezTo>
                  <a:pt x="5696" y="15923"/>
                  <a:pt x="5738" y="15975"/>
                  <a:pt x="5755" y="160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741320" y="3348000"/>
            <a:ext cx="2813040" cy="1438200"/>
          </a:xfrm>
          <a:custGeom>
            <a:avLst/>
            <a:gdLst/>
            <a:ahLst/>
            <a:rect l="l" t="t" r="r" b="b"/>
            <a:pathLst>
              <a:path w="7814" h="3994">
                <a:moveTo>
                  <a:pt x="4837" y="10393"/>
                </a:moveTo>
                <a:cubicBezTo>
                  <a:pt x="4860" y="10485"/>
                  <a:pt x="4940" y="10443"/>
                  <a:pt x="5011" y="10468"/>
                </a:cubicBezTo>
                <a:cubicBezTo>
                  <a:pt x="5033" y="10490"/>
                  <a:pt x="5041" y="10501"/>
                  <a:pt x="5035" y="10468"/>
                </a:cubicBezTo>
              </a:path>
              <a:path w="7814" h="3994">
                <a:moveTo>
                  <a:pt x="4936" y="10344"/>
                </a:moveTo>
                <a:cubicBezTo>
                  <a:pt x="4936" y="10425"/>
                  <a:pt x="4939" y="10477"/>
                  <a:pt x="4961" y="10542"/>
                </a:cubicBezTo>
                <a:cubicBezTo>
                  <a:pt x="4961" y="10550"/>
                  <a:pt x="4961" y="10559"/>
                  <a:pt x="4961" y="10567"/>
                </a:cubicBezTo>
              </a:path>
              <a:path w="7814" h="3994">
                <a:moveTo>
                  <a:pt x="5011" y="10145"/>
                </a:moveTo>
                <a:cubicBezTo>
                  <a:pt x="5083" y="10073"/>
                  <a:pt x="5059" y="10081"/>
                  <a:pt x="5159" y="10071"/>
                </a:cubicBezTo>
                <a:cubicBezTo>
                  <a:pt x="5171" y="10178"/>
                  <a:pt x="5168" y="10219"/>
                  <a:pt x="5135" y="10319"/>
                </a:cubicBezTo>
                <a:cubicBezTo>
                  <a:pt x="5135" y="10327"/>
                  <a:pt x="5135" y="10336"/>
                  <a:pt x="5135" y="10344"/>
                </a:cubicBezTo>
                <a:cubicBezTo>
                  <a:pt x="5186" y="10312"/>
                  <a:pt x="5264" y="10273"/>
                  <a:pt x="5283" y="10244"/>
                </a:cubicBezTo>
              </a:path>
              <a:path w="7814" h="3994">
                <a:moveTo>
                  <a:pt x="5507" y="9872"/>
                </a:moveTo>
                <a:cubicBezTo>
                  <a:pt x="5552" y="9782"/>
                  <a:pt x="5606" y="9694"/>
                  <a:pt x="5705" y="9624"/>
                </a:cubicBezTo>
                <a:cubicBezTo>
                  <a:pt x="5861" y="9513"/>
                  <a:pt x="6023" y="9477"/>
                  <a:pt x="6201" y="9426"/>
                </a:cubicBezTo>
                <a:cubicBezTo>
                  <a:pt x="6416" y="9365"/>
                  <a:pt x="6622" y="9307"/>
                  <a:pt x="6846" y="9302"/>
                </a:cubicBezTo>
                <a:cubicBezTo>
                  <a:pt x="7012" y="9298"/>
                  <a:pt x="7180" y="9291"/>
                  <a:pt x="7342" y="9327"/>
                </a:cubicBezTo>
                <a:cubicBezTo>
                  <a:pt x="7472" y="9356"/>
                  <a:pt x="7567" y="9404"/>
                  <a:pt x="7689" y="9451"/>
                </a:cubicBezTo>
                <a:cubicBezTo>
                  <a:pt x="7797" y="9493"/>
                  <a:pt x="7921" y="9549"/>
                  <a:pt x="8012" y="9624"/>
                </a:cubicBezTo>
                <a:cubicBezTo>
                  <a:pt x="8110" y="9705"/>
                  <a:pt x="8208" y="9771"/>
                  <a:pt x="8310" y="9847"/>
                </a:cubicBezTo>
                <a:cubicBezTo>
                  <a:pt x="8381" y="9900"/>
                  <a:pt x="8430" y="9947"/>
                  <a:pt x="8483" y="10021"/>
                </a:cubicBezTo>
                <a:cubicBezTo>
                  <a:pt x="8536" y="10094"/>
                  <a:pt x="8579" y="10174"/>
                  <a:pt x="8632" y="10244"/>
                </a:cubicBezTo>
                <a:cubicBezTo>
                  <a:pt x="8671" y="10296"/>
                  <a:pt x="8695" y="10376"/>
                  <a:pt x="8731" y="10418"/>
                </a:cubicBezTo>
                <a:cubicBezTo>
                  <a:pt x="8738" y="10426"/>
                  <a:pt x="8790" y="10452"/>
                  <a:pt x="8806" y="10468"/>
                </a:cubicBezTo>
                <a:cubicBezTo>
                  <a:pt x="8769" y="10445"/>
                  <a:pt x="8773" y="10404"/>
                  <a:pt x="8731" y="10393"/>
                </a:cubicBezTo>
                <a:cubicBezTo>
                  <a:pt x="8693" y="10383"/>
                  <a:pt x="8646" y="10397"/>
                  <a:pt x="8607" y="10393"/>
                </a:cubicBezTo>
                <a:cubicBezTo>
                  <a:pt x="8671" y="10444"/>
                  <a:pt x="8740" y="10481"/>
                  <a:pt x="8806" y="10517"/>
                </a:cubicBezTo>
                <a:cubicBezTo>
                  <a:pt x="8823" y="10466"/>
                  <a:pt x="8868" y="10396"/>
                  <a:pt x="8880" y="10344"/>
                </a:cubicBezTo>
                <a:cubicBezTo>
                  <a:pt x="8880" y="10286"/>
                  <a:pt x="8897" y="10261"/>
                  <a:pt x="8855" y="10269"/>
                </a:cubicBezTo>
              </a:path>
              <a:path w="7814" h="3994">
                <a:moveTo>
                  <a:pt x="4936" y="12874"/>
                </a:moveTo>
                <a:cubicBezTo>
                  <a:pt x="4989" y="12887"/>
                  <a:pt x="5019" y="12932"/>
                  <a:pt x="5060" y="12973"/>
                </a:cubicBezTo>
              </a:path>
              <a:path w="7814" h="3994">
                <a:moveTo>
                  <a:pt x="5209" y="12700"/>
                </a:moveTo>
                <a:cubicBezTo>
                  <a:pt x="5258" y="12651"/>
                  <a:pt x="5348" y="12564"/>
                  <a:pt x="5358" y="12675"/>
                </a:cubicBezTo>
                <a:cubicBezTo>
                  <a:pt x="5358" y="12683"/>
                  <a:pt x="5358" y="12692"/>
                  <a:pt x="5358" y="12700"/>
                </a:cubicBezTo>
                <a:cubicBezTo>
                  <a:pt x="5422" y="12689"/>
                  <a:pt x="5609" y="12628"/>
                  <a:pt x="5556" y="12774"/>
                </a:cubicBezTo>
                <a:cubicBezTo>
                  <a:pt x="5500" y="12927"/>
                  <a:pt x="5443" y="12920"/>
                  <a:pt x="5383" y="12849"/>
                </a:cubicBezTo>
              </a:path>
              <a:path w="7814" h="3994">
                <a:moveTo>
                  <a:pt x="5680" y="12477"/>
                </a:moveTo>
                <a:cubicBezTo>
                  <a:pt x="5859" y="12336"/>
                  <a:pt x="6050" y="12302"/>
                  <a:pt x="6276" y="12254"/>
                </a:cubicBezTo>
                <a:cubicBezTo>
                  <a:pt x="6582" y="12188"/>
                  <a:pt x="6905" y="12144"/>
                  <a:pt x="7218" y="12129"/>
                </a:cubicBezTo>
                <a:cubicBezTo>
                  <a:pt x="7920" y="12095"/>
                  <a:pt x="8654" y="12105"/>
                  <a:pt x="9351" y="12154"/>
                </a:cubicBezTo>
                <a:cubicBezTo>
                  <a:pt x="9505" y="12165"/>
                  <a:pt x="9585" y="12195"/>
                  <a:pt x="9723" y="12254"/>
                </a:cubicBezTo>
                <a:cubicBezTo>
                  <a:pt x="9836" y="12302"/>
                  <a:pt x="9942" y="12360"/>
                  <a:pt x="10046" y="12427"/>
                </a:cubicBezTo>
                <a:cubicBezTo>
                  <a:pt x="10121" y="12475"/>
                  <a:pt x="10190" y="12538"/>
                  <a:pt x="10269" y="12576"/>
                </a:cubicBezTo>
                <a:cubicBezTo>
                  <a:pt x="10292" y="12587"/>
                  <a:pt x="10321" y="12591"/>
                  <a:pt x="10344" y="12601"/>
                </a:cubicBezTo>
              </a:path>
              <a:path w="7814" h="3994">
                <a:moveTo>
                  <a:pt x="10319" y="12576"/>
                </a:moveTo>
                <a:cubicBezTo>
                  <a:pt x="10305" y="12518"/>
                  <a:pt x="10261" y="12468"/>
                  <a:pt x="10244" y="12402"/>
                </a:cubicBezTo>
                <a:cubicBezTo>
                  <a:pt x="10244" y="12378"/>
                  <a:pt x="10244" y="12369"/>
                  <a:pt x="10244" y="12353"/>
                </a:cubicBezTo>
                <a:cubicBezTo>
                  <a:pt x="10261" y="12439"/>
                  <a:pt x="10310" y="12503"/>
                  <a:pt x="10344" y="12576"/>
                </a:cubicBezTo>
                <a:cubicBezTo>
                  <a:pt x="10344" y="12584"/>
                  <a:pt x="10344" y="12593"/>
                  <a:pt x="10344" y="12601"/>
                </a:cubicBezTo>
                <a:cubicBezTo>
                  <a:pt x="10275" y="12608"/>
                  <a:pt x="10168" y="12648"/>
                  <a:pt x="10145" y="12626"/>
                </a:cubicBezTo>
              </a:path>
              <a:path w="7814" h="3994">
                <a:moveTo>
                  <a:pt x="7516" y="13097"/>
                </a:moveTo>
                <a:cubicBezTo>
                  <a:pt x="7559" y="13108"/>
                  <a:pt x="7597" y="13152"/>
                  <a:pt x="7615" y="13196"/>
                </a:cubicBezTo>
                <a:cubicBezTo>
                  <a:pt x="7615" y="13221"/>
                  <a:pt x="7615" y="13229"/>
                  <a:pt x="7615" y="13196"/>
                </a:cubicBezTo>
              </a:path>
              <a:path w="7814" h="3994">
                <a:moveTo>
                  <a:pt x="7615" y="13047"/>
                </a:moveTo>
                <a:cubicBezTo>
                  <a:pt x="7585" y="13117"/>
                  <a:pt x="7601" y="13220"/>
                  <a:pt x="7565" y="13295"/>
                </a:cubicBezTo>
                <a:cubicBezTo>
                  <a:pt x="7565" y="13287"/>
                  <a:pt x="7565" y="13279"/>
                  <a:pt x="7565" y="13271"/>
                </a:cubicBezTo>
              </a:path>
              <a:path w="7814" h="3994">
                <a:moveTo>
                  <a:pt x="7789" y="12948"/>
                </a:moveTo>
                <a:cubicBezTo>
                  <a:pt x="7846" y="12929"/>
                  <a:pt x="7853" y="12920"/>
                  <a:pt x="7888" y="12923"/>
                </a:cubicBezTo>
                <a:cubicBezTo>
                  <a:pt x="7864" y="13056"/>
                  <a:pt x="7793" y="13047"/>
                  <a:pt x="7962" y="13047"/>
                </a:cubicBezTo>
                <a:cubicBezTo>
                  <a:pt x="7995" y="13047"/>
                  <a:pt x="8029" y="13047"/>
                  <a:pt x="8062" y="13047"/>
                </a:cubicBezTo>
                <a:cubicBezTo>
                  <a:pt x="7997" y="13196"/>
                  <a:pt x="7909" y="13367"/>
                  <a:pt x="7838" y="13171"/>
                </a:cubicBezTo>
              </a:path>
              <a:path w="7814" h="3994">
                <a:moveTo>
                  <a:pt x="8136" y="12898"/>
                </a:moveTo>
                <a:cubicBezTo>
                  <a:pt x="8294" y="12838"/>
                  <a:pt x="8437" y="12806"/>
                  <a:pt x="8607" y="12774"/>
                </a:cubicBezTo>
                <a:cubicBezTo>
                  <a:pt x="9046" y="12692"/>
                  <a:pt x="9481" y="12616"/>
                  <a:pt x="9922" y="12551"/>
                </a:cubicBezTo>
                <a:cubicBezTo>
                  <a:pt x="10238" y="12504"/>
                  <a:pt x="10544" y="12457"/>
                  <a:pt x="10864" y="12452"/>
                </a:cubicBezTo>
                <a:cubicBezTo>
                  <a:pt x="11278" y="12446"/>
                  <a:pt x="11748" y="12393"/>
                  <a:pt x="12154" y="12477"/>
                </a:cubicBezTo>
                <a:cubicBezTo>
                  <a:pt x="12312" y="12510"/>
                  <a:pt x="12430" y="12565"/>
                  <a:pt x="12576" y="12626"/>
                </a:cubicBezTo>
                <a:cubicBezTo>
                  <a:pt x="12634" y="12650"/>
                  <a:pt x="12608" y="12634"/>
                  <a:pt x="12650" y="126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741320" y="3732120"/>
            <a:ext cx="180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4837" y="10368"/>
                </a:moveTo>
                <a:lnTo>
                  <a:pt x="4837" y="10368"/>
                </a:lnTo>
              </a:path>
              <a:path w="1" h="26">
                <a:moveTo>
                  <a:pt x="4837" y="10393"/>
                </a:moveTo>
                <a:lnTo>
                  <a:pt x="4837" y="1039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170080" y="3598920"/>
            <a:ext cx="1724040" cy="473040"/>
          </a:xfrm>
          <a:custGeom>
            <a:avLst/>
            <a:gdLst/>
            <a:ahLst/>
            <a:rect l="l" t="t" r="r" b="b"/>
            <a:pathLst>
              <a:path w="4788" h="1316">
                <a:moveTo>
                  <a:pt x="10120" y="10616"/>
                </a:moveTo>
                <a:cubicBezTo>
                  <a:pt x="10120" y="10817"/>
                  <a:pt x="10086" y="11012"/>
                  <a:pt x="10071" y="11212"/>
                </a:cubicBezTo>
                <a:cubicBezTo>
                  <a:pt x="10071" y="11245"/>
                  <a:pt x="10071" y="11278"/>
                  <a:pt x="10071" y="11311"/>
                </a:cubicBezTo>
              </a:path>
              <a:path w="4788" h="1316">
                <a:moveTo>
                  <a:pt x="10492" y="10740"/>
                </a:moveTo>
                <a:cubicBezTo>
                  <a:pt x="10491" y="10742"/>
                  <a:pt x="10425" y="10986"/>
                  <a:pt x="10393" y="10889"/>
                </a:cubicBezTo>
                <a:cubicBezTo>
                  <a:pt x="10543" y="10866"/>
                  <a:pt x="10630" y="10911"/>
                  <a:pt x="10765" y="10988"/>
                </a:cubicBezTo>
              </a:path>
              <a:path w="4788" h="1316">
                <a:moveTo>
                  <a:pt x="10716" y="10418"/>
                </a:moveTo>
                <a:cubicBezTo>
                  <a:pt x="10752" y="10655"/>
                  <a:pt x="10752" y="10904"/>
                  <a:pt x="10790" y="11137"/>
                </a:cubicBezTo>
                <a:cubicBezTo>
                  <a:pt x="10798" y="11154"/>
                  <a:pt x="10807" y="11170"/>
                  <a:pt x="10815" y="11187"/>
                </a:cubicBezTo>
              </a:path>
              <a:path w="4788" h="1316">
                <a:moveTo>
                  <a:pt x="9773" y="10641"/>
                </a:moveTo>
                <a:cubicBezTo>
                  <a:pt x="9753" y="10681"/>
                  <a:pt x="9748" y="10672"/>
                  <a:pt x="9748" y="10716"/>
                </a:cubicBezTo>
              </a:path>
              <a:path w="4788" h="1316">
                <a:moveTo>
                  <a:pt x="9748" y="11137"/>
                </a:moveTo>
                <a:cubicBezTo>
                  <a:pt x="9748" y="11079"/>
                  <a:pt x="9728" y="11187"/>
                  <a:pt x="9723" y="11212"/>
                </a:cubicBezTo>
                <a:cubicBezTo>
                  <a:pt x="9757" y="11167"/>
                  <a:pt x="9774" y="11038"/>
                  <a:pt x="9748" y="11088"/>
                </a:cubicBezTo>
                <a:cubicBezTo>
                  <a:pt x="9748" y="11096"/>
                  <a:pt x="9748" y="11104"/>
                  <a:pt x="9748" y="11112"/>
                </a:cubicBezTo>
              </a:path>
              <a:path w="4788" h="1316">
                <a:moveTo>
                  <a:pt x="9723" y="10666"/>
                </a:moveTo>
                <a:cubicBezTo>
                  <a:pt x="9723" y="10641"/>
                  <a:pt x="9723" y="10633"/>
                  <a:pt x="9723" y="10666"/>
                </a:cubicBezTo>
              </a:path>
              <a:path w="4788" h="1316">
                <a:moveTo>
                  <a:pt x="9153" y="10716"/>
                </a:moveTo>
                <a:cubicBezTo>
                  <a:pt x="9063" y="10671"/>
                  <a:pt x="8977" y="10655"/>
                  <a:pt x="8880" y="10716"/>
                </a:cubicBezTo>
                <a:cubicBezTo>
                  <a:pt x="8810" y="10786"/>
                  <a:pt x="8788" y="10807"/>
                  <a:pt x="8756" y="10864"/>
                </a:cubicBezTo>
                <a:cubicBezTo>
                  <a:pt x="8802" y="10979"/>
                  <a:pt x="8947" y="10988"/>
                  <a:pt x="9004" y="11112"/>
                </a:cubicBezTo>
                <a:cubicBezTo>
                  <a:pt x="9054" y="11221"/>
                  <a:pt x="8918" y="11255"/>
                  <a:pt x="8855" y="11286"/>
                </a:cubicBezTo>
                <a:cubicBezTo>
                  <a:pt x="8783" y="11237"/>
                  <a:pt x="8776" y="11122"/>
                  <a:pt x="8830" y="11038"/>
                </a:cubicBezTo>
                <a:cubicBezTo>
                  <a:pt x="8880" y="10960"/>
                  <a:pt x="9088" y="10879"/>
                  <a:pt x="9079" y="10765"/>
                </a:cubicBezTo>
                <a:cubicBezTo>
                  <a:pt x="9074" y="10704"/>
                  <a:pt x="9014" y="10757"/>
                  <a:pt x="9004" y="10765"/>
                </a:cubicBezTo>
              </a:path>
              <a:path w="4788" h="1316">
                <a:moveTo>
                  <a:pt x="6028" y="10368"/>
                </a:moveTo>
                <a:cubicBezTo>
                  <a:pt x="6085" y="10418"/>
                  <a:pt x="6144" y="10466"/>
                  <a:pt x="6201" y="10517"/>
                </a:cubicBezTo>
              </a:path>
              <a:path w="4788" h="1316">
                <a:moveTo>
                  <a:pt x="6251" y="10170"/>
                </a:moveTo>
                <a:cubicBezTo>
                  <a:pt x="6238" y="10316"/>
                  <a:pt x="6216" y="10474"/>
                  <a:pt x="6176" y="10616"/>
                </a:cubicBezTo>
                <a:cubicBezTo>
                  <a:pt x="6157" y="10657"/>
                  <a:pt x="6138" y="10673"/>
                  <a:pt x="6176" y="10666"/>
                </a:cubicBezTo>
              </a:path>
              <a:path w="4788" h="1316">
                <a:moveTo>
                  <a:pt x="6424" y="10220"/>
                </a:moveTo>
                <a:cubicBezTo>
                  <a:pt x="6535" y="10198"/>
                  <a:pt x="6586" y="10229"/>
                  <a:pt x="6573" y="10368"/>
                </a:cubicBezTo>
                <a:cubicBezTo>
                  <a:pt x="6565" y="10454"/>
                  <a:pt x="6538" y="10457"/>
                  <a:pt x="6524" y="10517"/>
                </a:cubicBezTo>
                <a:cubicBezTo>
                  <a:pt x="6592" y="10464"/>
                  <a:pt x="6684" y="10421"/>
                  <a:pt x="6772" y="10393"/>
                </a:cubicBezTo>
                <a:cubicBezTo>
                  <a:pt x="6796" y="10393"/>
                  <a:pt x="6804" y="10393"/>
                  <a:pt x="6796" y="10418"/>
                </a:cubicBezTo>
              </a:path>
              <a:path w="4788" h="1316">
                <a:moveTo>
                  <a:pt x="6896" y="10220"/>
                </a:moveTo>
                <a:cubicBezTo>
                  <a:pt x="7019" y="10137"/>
                  <a:pt x="7147" y="10059"/>
                  <a:pt x="7293" y="10021"/>
                </a:cubicBezTo>
                <a:cubicBezTo>
                  <a:pt x="7497" y="9967"/>
                  <a:pt x="7729" y="9996"/>
                  <a:pt x="7938" y="9996"/>
                </a:cubicBezTo>
                <a:cubicBezTo>
                  <a:pt x="8127" y="9996"/>
                  <a:pt x="8321" y="10015"/>
                  <a:pt x="8508" y="10046"/>
                </a:cubicBezTo>
                <a:cubicBezTo>
                  <a:pt x="8665" y="10072"/>
                  <a:pt x="8824" y="10095"/>
                  <a:pt x="8979" y="10120"/>
                </a:cubicBezTo>
                <a:cubicBezTo>
                  <a:pt x="9085" y="10137"/>
                  <a:pt x="9199" y="10147"/>
                  <a:pt x="9302" y="10170"/>
                </a:cubicBezTo>
                <a:cubicBezTo>
                  <a:pt x="9411" y="10194"/>
                  <a:pt x="9515" y="10219"/>
                  <a:pt x="9624" y="10244"/>
                </a:cubicBezTo>
                <a:cubicBezTo>
                  <a:pt x="9720" y="10266"/>
                  <a:pt x="9744" y="10279"/>
                  <a:pt x="9823" y="10319"/>
                </a:cubicBezTo>
                <a:cubicBezTo>
                  <a:pt x="9857" y="10336"/>
                  <a:pt x="9886" y="10374"/>
                  <a:pt x="9922" y="10393"/>
                </a:cubicBezTo>
                <a:cubicBezTo>
                  <a:pt x="9930" y="10393"/>
                  <a:pt x="9939" y="10393"/>
                  <a:pt x="9947" y="10393"/>
                </a:cubicBezTo>
                <a:cubicBezTo>
                  <a:pt x="9905" y="10302"/>
                  <a:pt x="9875" y="10215"/>
                  <a:pt x="9847" y="10120"/>
                </a:cubicBezTo>
                <a:cubicBezTo>
                  <a:pt x="9879" y="10190"/>
                  <a:pt x="9933" y="10245"/>
                  <a:pt x="9947" y="10319"/>
                </a:cubicBezTo>
                <a:cubicBezTo>
                  <a:pt x="9947" y="10352"/>
                  <a:pt x="9947" y="10368"/>
                  <a:pt x="9947" y="10393"/>
                </a:cubicBezTo>
                <a:cubicBezTo>
                  <a:pt x="9857" y="10400"/>
                  <a:pt x="9785" y="10416"/>
                  <a:pt x="9699" y="104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56040" y="4803840"/>
            <a:ext cx="179280" cy="135000"/>
          </a:xfrm>
          <a:custGeom>
            <a:avLst/>
            <a:gdLst/>
            <a:ahLst/>
            <a:rect l="l" t="t" r="r" b="b"/>
            <a:pathLst>
              <a:path w="498" h="373">
                <a:moveTo>
                  <a:pt x="10988" y="13469"/>
                </a:moveTo>
                <a:lnTo>
                  <a:pt x="10988" y="13469"/>
                </a:lnTo>
              </a:path>
              <a:path w="498" h="373">
                <a:moveTo>
                  <a:pt x="10988" y="13444"/>
                </a:moveTo>
                <a:lnTo>
                  <a:pt x="10988" y="13444"/>
                </a:lnTo>
              </a:path>
              <a:path w="498" h="373">
                <a:moveTo>
                  <a:pt x="11485" y="13370"/>
                </a:moveTo>
                <a:cubicBezTo>
                  <a:pt x="11485" y="13345"/>
                  <a:pt x="11485" y="13337"/>
                  <a:pt x="11460" y="13345"/>
                </a:cubicBezTo>
              </a:path>
              <a:path w="498" h="373">
                <a:moveTo>
                  <a:pt x="11410" y="13717"/>
                </a:moveTo>
                <a:cubicBezTo>
                  <a:pt x="11402" y="13717"/>
                  <a:pt x="11393" y="13717"/>
                  <a:pt x="11385" y="137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95840" y="4714920"/>
            <a:ext cx="169560" cy="303120"/>
          </a:xfrm>
          <a:custGeom>
            <a:avLst/>
            <a:gdLst/>
            <a:ahLst/>
            <a:rect l="l" t="t" r="r" b="b"/>
            <a:pathLst>
              <a:path w="472" h="844">
                <a:moveTo>
                  <a:pt x="10988" y="13419"/>
                </a:moveTo>
                <a:cubicBezTo>
                  <a:pt x="10988" y="13373"/>
                  <a:pt x="10983" y="13309"/>
                  <a:pt x="10964" y="13271"/>
                </a:cubicBezTo>
                <a:cubicBezTo>
                  <a:pt x="10928" y="13199"/>
                  <a:pt x="10804" y="13092"/>
                  <a:pt x="10716" y="13097"/>
                </a:cubicBezTo>
                <a:cubicBezTo>
                  <a:pt x="10626" y="13102"/>
                  <a:pt x="10589" y="13222"/>
                  <a:pt x="10567" y="13295"/>
                </a:cubicBezTo>
                <a:cubicBezTo>
                  <a:pt x="10542" y="13377"/>
                  <a:pt x="10500" y="13536"/>
                  <a:pt x="10592" y="13593"/>
                </a:cubicBezTo>
                <a:cubicBezTo>
                  <a:pt x="10693" y="13656"/>
                  <a:pt x="10788" y="13610"/>
                  <a:pt x="10864" y="13543"/>
                </a:cubicBezTo>
                <a:cubicBezTo>
                  <a:pt x="10920" y="13493"/>
                  <a:pt x="10939" y="13430"/>
                  <a:pt x="10964" y="13370"/>
                </a:cubicBezTo>
                <a:cubicBezTo>
                  <a:pt x="10980" y="13332"/>
                  <a:pt x="11006" y="13285"/>
                  <a:pt x="11013" y="13271"/>
                </a:cubicBezTo>
                <a:cubicBezTo>
                  <a:pt x="11013" y="13263"/>
                  <a:pt x="11013" y="13254"/>
                  <a:pt x="11013" y="13246"/>
                </a:cubicBezTo>
                <a:cubicBezTo>
                  <a:pt x="10992" y="13413"/>
                  <a:pt x="10935" y="13574"/>
                  <a:pt x="10914" y="13742"/>
                </a:cubicBezTo>
                <a:cubicBezTo>
                  <a:pt x="10906" y="13805"/>
                  <a:pt x="10914" y="13877"/>
                  <a:pt x="10914" y="139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170240" y="5510160"/>
            <a:ext cx="509760" cy="534960"/>
          </a:xfrm>
          <a:custGeom>
            <a:avLst/>
            <a:gdLst/>
            <a:ahLst/>
            <a:rect l="l" t="t" r="r" b="b"/>
            <a:pathLst>
              <a:path w="1415" h="1490">
                <a:moveTo>
                  <a:pt x="12030" y="15478"/>
                </a:moveTo>
                <a:cubicBezTo>
                  <a:pt x="12030" y="15416"/>
                  <a:pt x="12044" y="15444"/>
                  <a:pt x="12055" y="15379"/>
                </a:cubicBezTo>
                <a:cubicBezTo>
                  <a:pt x="12014" y="15470"/>
                  <a:pt x="11984" y="15557"/>
                  <a:pt x="11956" y="15652"/>
                </a:cubicBezTo>
                <a:cubicBezTo>
                  <a:pt x="12039" y="15644"/>
                  <a:pt x="12267" y="15571"/>
                  <a:pt x="12229" y="15751"/>
                </a:cubicBezTo>
                <a:cubicBezTo>
                  <a:pt x="12182" y="15972"/>
                  <a:pt x="11978" y="15974"/>
                  <a:pt x="11857" y="15875"/>
                </a:cubicBezTo>
              </a:path>
              <a:path w="1415" h="1490">
                <a:moveTo>
                  <a:pt x="12005" y="15453"/>
                </a:moveTo>
                <a:cubicBezTo>
                  <a:pt x="12149" y="15372"/>
                  <a:pt x="12263" y="15302"/>
                  <a:pt x="12427" y="15329"/>
                </a:cubicBezTo>
                <a:cubicBezTo>
                  <a:pt x="12460" y="15337"/>
                  <a:pt x="12493" y="15346"/>
                  <a:pt x="12526" y="15354"/>
                </a:cubicBezTo>
              </a:path>
              <a:path w="1415" h="1490">
                <a:moveTo>
                  <a:pt x="12725" y="15354"/>
                </a:moveTo>
                <a:cubicBezTo>
                  <a:pt x="12566" y="15414"/>
                  <a:pt x="12458" y="15702"/>
                  <a:pt x="12427" y="15875"/>
                </a:cubicBezTo>
                <a:cubicBezTo>
                  <a:pt x="12435" y="15900"/>
                  <a:pt x="12444" y="15924"/>
                  <a:pt x="12452" y="15949"/>
                </a:cubicBezTo>
                <a:cubicBezTo>
                  <a:pt x="12661" y="15870"/>
                  <a:pt x="12922" y="15714"/>
                  <a:pt x="12725" y="15453"/>
                </a:cubicBezTo>
                <a:cubicBezTo>
                  <a:pt x="12684" y="15428"/>
                  <a:pt x="12642" y="15404"/>
                  <a:pt x="12601" y="15379"/>
                </a:cubicBezTo>
              </a:path>
              <a:path w="1415" h="1490">
                <a:moveTo>
                  <a:pt x="11584" y="16024"/>
                </a:moveTo>
                <a:cubicBezTo>
                  <a:pt x="12022" y="15987"/>
                  <a:pt x="12458" y="15955"/>
                  <a:pt x="12898" y="15949"/>
                </a:cubicBezTo>
                <a:cubicBezTo>
                  <a:pt x="12973" y="15949"/>
                  <a:pt x="13006" y="15974"/>
                  <a:pt x="12998" y="15925"/>
                </a:cubicBezTo>
              </a:path>
              <a:path w="1415" h="1490">
                <a:moveTo>
                  <a:pt x="11906" y="16371"/>
                </a:moveTo>
                <a:cubicBezTo>
                  <a:pt x="11917" y="16315"/>
                  <a:pt x="11931" y="16281"/>
                  <a:pt x="11931" y="16222"/>
                </a:cubicBezTo>
                <a:cubicBezTo>
                  <a:pt x="11931" y="16305"/>
                  <a:pt x="11912" y="16369"/>
                  <a:pt x="11881" y="16446"/>
                </a:cubicBezTo>
                <a:cubicBezTo>
                  <a:pt x="11899" y="16356"/>
                  <a:pt x="11928" y="16312"/>
                  <a:pt x="11981" y="16272"/>
                </a:cubicBezTo>
                <a:cubicBezTo>
                  <a:pt x="12036" y="16230"/>
                  <a:pt x="12108" y="16224"/>
                  <a:pt x="12179" y="16197"/>
                </a:cubicBezTo>
                <a:cubicBezTo>
                  <a:pt x="12243" y="16172"/>
                  <a:pt x="12282" y="16173"/>
                  <a:pt x="12353" y="16173"/>
                </a:cubicBezTo>
                <a:cubicBezTo>
                  <a:pt x="12353" y="16292"/>
                  <a:pt x="12304" y="16379"/>
                  <a:pt x="12278" y="16495"/>
                </a:cubicBezTo>
                <a:cubicBezTo>
                  <a:pt x="12257" y="16588"/>
                  <a:pt x="12241" y="16698"/>
                  <a:pt x="12229" y="16793"/>
                </a:cubicBezTo>
                <a:cubicBezTo>
                  <a:pt x="12294" y="16694"/>
                  <a:pt x="12330" y="16649"/>
                  <a:pt x="12402" y="16594"/>
                </a:cubicBezTo>
              </a:path>
              <a:path w="1415" h="1490">
                <a:moveTo>
                  <a:pt x="12725" y="16197"/>
                </a:moveTo>
                <a:cubicBezTo>
                  <a:pt x="12687" y="16089"/>
                  <a:pt x="12591" y="16314"/>
                  <a:pt x="12551" y="16421"/>
                </a:cubicBezTo>
                <a:cubicBezTo>
                  <a:pt x="12481" y="16609"/>
                  <a:pt x="12480" y="16629"/>
                  <a:pt x="12576" y="16768"/>
                </a:cubicBezTo>
                <a:cubicBezTo>
                  <a:pt x="12736" y="16708"/>
                  <a:pt x="12918" y="16580"/>
                  <a:pt x="12799" y="16371"/>
                </a:cubicBezTo>
                <a:cubicBezTo>
                  <a:pt x="12732" y="16254"/>
                  <a:pt x="12672" y="16299"/>
                  <a:pt x="12601" y="163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95880" y="4724280"/>
            <a:ext cx="374400" cy="241560"/>
          </a:xfrm>
          <a:custGeom>
            <a:avLst/>
            <a:gdLst/>
            <a:ahLst/>
            <a:rect l="l" t="t" r="r" b="b"/>
            <a:pathLst>
              <a:path w="1043" h="670">
                <a:moveTo>
                  <a:pt x="11956" y="13295"/>
                </a:moveTo>
                <a:cubicBezTo>
                  <a:pt x="11872" y="13268"/>
                  <a:pt x="12070" y="13150"/>
                  <a:pt x="12080" y="13146"/>
                </a:cubicBezTo>
                <a:cubicBezTo>
                  <a:pt x="12341" y="13032"/>
                  <a:pt x="12268" y="13272"/>
                  <a:pt x="12204" y="13395"/>
                </a:cubicBezTo>
                <a:cubicBezTo>
                  <a:pt x="12180" y="13443"/>
                  <a:pt x="12173" y="13459"/>
                  <a:pt x="12129" y="13444"/>
                </a:cubicBezTo>
                <a:cubicBezTo>
                  <a:pt x="12280" y="13416"/>
                  <a:pt x="12269" y="13442"/>
                  <a:pt x="12378" y="13543"/>
                </a:cubicBezTo>
                <a:cubicBezTo>
                  <a:pt x="12306" y="13770"/>
                  <a:pt x="12226" y="13788"/>
                  <a:pt x="11981" y="13767"/>
                </a:cubicBezTo>
                <a:cubicBezTo>
                  <a:pt x="11880" y="13759"/>
                  <a:pt x="12089" y="13665"/>
                  <a:pt x="12179" y="13618"/>
                </a:cubicBezTo>
              </a:path>
              <a:path w="1043" h="670">
                <a:moveTo>
                  <a:pt x="12725" y="13146"/>
                </a:moveTo>
                <a:cubicBezTo>
                  <a:pt x="12594" y="13320"/>
                  <a:pt x="12582" y="13431"/>
                  <a:pt x="12601" y="13643"/>
                </a:cubicBezTo>
                <a:cubicBezTo>
                  <a:pt x="12784" y="13669"/>
                  <a:pt x="13139" y="13552"/>
                  <a:pt x="12923" y="13271"/>
                </a:cubicBezTo>
                <a:cubicBezTo>
                  <a:pt x="12755" y="13174"/>
                  <a:pt x="12704" y="13139"/>
                  <a:pt x="12576" y="132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018200" y="3643200"/>
            <a:ext cx="1098720" cy="295560"/>
          </a:xfrm>
          <a:custGeom>
            <a:avLst/>
            <a:gdLst/>
            <a:ahLst/>
            <a:rect l="l" t="t" r="r" b="b"/>
            <a:pathLst>
              <a:path w="3052" h="820">
                <a:moveTo>
                  <a:pt x="19720" y="10368"/>
                </a:moveTo>
                <a:cubicBezTo>
                  <a:pt x="19809" y="10317"/>
                  <a:pt x="19842" y="10302"/>
                  <a:pt x="19943" y="10294"/>
                </a:cubicBezTo>
                <a:cubicBezTo>
                  <a:pt x="20011" y="10444"/>
                  <a:pt x="19942" y="10485"/>
                  <a:pt x="19844" y="10616"/>
                </a:cubicBezTo>
                <a:cubicBezTo>
                  <a:pt x="19712" y="10591"/>
                  <a:pt x="19962" y="10578"/>
                  <a:pt x="20017" y="10592"/>
                </a:cubicBezTo>
                <a:cubicBezTo>
                  <a:pt x="20002" y="10829"/>
                  <a:pt x="19861" y="10903"/>
                  <a:pt x="19621" y="10939"/>
                </a:cubicBezTo>
                <a:cubicBezTo>
                  <a:pt x="19475" y="10961"/>
                  <a:pt x="19496" y="10953"/>
                  <a:pt x="19546" y="10864"/>
                </a:cubicBezTo>
              </a:path>
              <a:path w="3052" h="820">
                <a:moveTo>
                  <a:pt x="20389" y="10294"/>
                </a:moveTo>
                <a:cubicBezTo>
                  <a:pt x="20335" y="10420"/>
                  <a:pt x="20276" y="10524"/>
                  <a:pt x="20241" y="10666"/>
                </a:cubicBezTo>
                <a:cubicBezTo>
                  <a:pt x="20220" y="10750"/>
                  <a:pt x="20218" y="10769"/>
                  <a:pt x="20191" y="10815"/>
                </a:cubicBezTo>
                <a:cubicBezTo>
                  <a:pt x="20299" y="10889"/>
                  <a:pt x="20405" y="10919"/>
                  <a:pt x="20538" y="10864"/>
                </a:cubicBezTo>
                <a:cubicBezTo>
                  <a:pt x="20608" y="10835"/>
                  <a:pt x="20660" y="10768"/>
                  <a:pt x="20712" y="10716"/>
                </a:cubicBezTo>
                <a:cubicBezTo>
                  <a:pt x="20630" y="10681"/>
                  <a:pt x="20565" y="10705"/>
                  <a:pt x="20513" y="10790"/>
                </a:cubicBezTo>
                <a:cubicBezTo>
                  <a:pt x="20395" y="10985"/>
                  <a:pt x="20650" y="10811"/>
                  <a:pt x="20687" y="10790"/>
                </a:cubicBezTo>
              </a:path>
              <a:path w="3052" h="820">
                <a:moveTo>
                  <a:pt x="21208" y="10344"/>
                </a:moveTo>
                <a:cubicBezTo>
                  <a:pt x="21185" y="10407"/>
                  <a:pt x="21158" y="10443"/>
                  <a:pt x="21183" y="10468"/>
                </a:cubicBezTo>
                <a:cubicBezTo>
                  <a:pt x="21183" y="10401"/>
                  <a:pt x="21175" y="10403"/>
                  <a:pt x="21109" y="10393"/>
                </a:cubicBezTo>
              </a:path>
              <a:path w="3052" h="820">
                <a:moveTo>
                  <a:pt x="21183" y="10815"/>
                </a:moveTo>
                <a:cubicBezTo>
                  <a:pt x="21128" y="10793"/>
                  <a:pt x="21086" y="10858"/>
                  <a:pt x="21109" y="10864"/>
                </a:cubicBezTo>
                <a:cubicBezTo>
                  <a:pt x="21184" y="10884"/>
                  <a:pt x="21208" y="10856"/>
                  <a:pt x="21158" y="10840"/>
                </a:cubicBezTo>
                <a:cubicBezTo>
                  <a:pt x="21117" y="10840"/>
                  <a:pt x="21101" y="10832"/>
                  <a:pt x="21109" y="10864"/>
                </a:cubicBezTo>
              </a:path>
              <a:path w="3052" h="820">
                <a:moveTo>
                  <a:pt x="21654" y="10145"/>
                </a:moveTo>
                <a:cubicBezTo>
                  <a:pt x="21654" y="10059"/>
                  <a:pt x="21628" y="10262"/>
                  <a:pt x="21605" y="10344"/>
                </a:cubicBezTo>
                <a:cubicBezTo>
                  <a:pt x="21565" y="10487"/>
                  <a:pt x="21535" y="10551"/>
                  <a:pt x="21555" y="10691"/>
                </a:cubicBezTo>
                <a:cubicBezTo>
                  <a:pt x="21662" y="10744"/>
                  <a:pt x="21777" y="10718"/>
                  <a:pt x="21878" y="10616"/>
                </a:cubicBezTo>
                <a:cubicBezTo>
                  <a:pt x="21937" y="10557"/>
                  <a:pt x="21927" y="10536"/>
                  <a:pt x="21927" y="10468"/>
                </a:cubicBezTo>
                <a:cubicBezTo>
                  <a:pt x="21807" y="10468"/>
                  <a:pt x="21800" y="10568"/>
                  <a:pt x="21779" y="10666"/>
                </a:cubicBezTo>
                <a:cubicBezTo>
                  <a:pt x="21779" y="10683"/>
                  <a:pt x="21779" y="10699"/>
                  <a:pt x="21779" y="10716"/>
                </a:cubicBezTo>
              </a:path>
              <a:path w="3052" h="820">
                <a:moveTo>
                  <a:pt x="22126" y="10269"/>
                </a:moveTo>
                <a:cubicBezTo>
                  <a:pt x="22186" y="10233"/>
                  <a:pt x="22227" y="10130"/>
                  <a:pt x="22324" y="10145"/>
                </a:cubicBezTo>
                <a:cubicBezTo>
                  <a:pt x="22468" y="10168"/>
                  <a:pt x="22311" y="10332"/>
                  <a:pt x="22275" y="10368"/>
                </a:cubicBezTo>
                <a:cubicBezTo>
                  <a:pt x="22390" y="10334"/>
                  <a:pt x="22536" y="10302"/>
                  <a:pt x="22547" y="10468"/>
                </a:cubicBezTo>
                <a:cubicBezTo>
                  <a:pt x="22556" y="10607"/>
                  <a:pt x="22427" y="10630"/>
                  <a:pt x="22324" y="106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11880" y="4724280"/>
            <a:ext cx="258840" cy="285840"/>
          </a:xfrm>
          <a:custGeom>
            <a:avLst/>
            <a:gdLst/>
            <a:ahLst/>
            <a:rect l="l" t="t" r="r" b="b"/>
            <a:pathLst>
              <a:path w="720" h="794">
                <a:moveTo>
                  <a:pt x="15156" y="13221"/>
                </a:moveTo>
                <a:cubicBezTo>
                  <a:pt x="15134" y="13265"/>
                  <a:pt x="15131" y="13276"/>
                  <a:pt x="15106" y="13295"/>
                </a:cubicBezTo>
                <a:cubicBezTo>
                  <a:pt x="15160" y="13188"/>
                  <a:pt x="15311" y="13105"/>
                  <a:pt x="15329" y="13320"/>
                </a:cubicBezTo>
                <a:cubicBezTo>
                  <a:pt x="15339" y="13437"/>
                  <a:pt x="15254" y="13903"/>
                  <a:pt x="15056" y="13891"/>
                </a:cubicBezTo>
                <a:cubicBezTo>
                  <a:pt x="15048" y="13874"/>
                  <a:pt x="15040" y="13858"/>
                  <a:pt x="15032" y="13841"/>
                </a:cubicBezTo>
                <a:cubicBezTo>
                  <a:pt x="15109" y="13731"/>
                  <a:pt x="15254" y="13660"/>
                  <a:pt x="15379" y="13791"/>
                </a:cubicBezTo>
                <a:cubicBezTo>
                  <a:pt x="15427" y="13841"/>
                  <a:pt x="15429" y="14006"/>
                  <a:pt x="15429" y="13816"/>
                </a:cubicBezTo>
              </a:path>
              <a:path w="720" h="794">
                <a:moveTo>
                  <a:pt x="15404" y="13370"/>
                </a:moveTo>
                <a:cubicBezTo>
                  <a:pt x="15404" y="13421"/>
                  <a:pt x="15377" y="13628"/>
                  <a:pt x="15478" y="13618"/>
                </a:cubicBezTo>
                <a:cubicBezTo>
                  <a:pt x="15554" y="13611"/>
                  <a:pt x="15653" y="13540"/>
                  <a:pt x="15726" y="13519"/>
                </a:cubicBezTo>
              </a:path>
              <a:path w="720" h="794">
                <a:moveTo>
                  <a:pt x="15627" y="13146"/>
                </a:moveTo>
                <a:cubicBezTo>
                  <a:pt x="15573" y="13129"/>
                  <a:pt x="15667" y="13423"/>
                  <a:pt x="15677" y="13494"/>
                </a:cubicBezTo>
                <a:cubicBezTo>
                  <a:pt x="15697" y="13637"/>
                  <a:pt x="15723" y="13778"/>
                  <a:pt x="15751" y="13915"/>
                </a:cubicBezTo>
              </a:path>
              <a:path w="720" h="794">
                <a:moveTo>
                  <a:pt x="15354" y="13320"/>
                </a:moveTo>
                <a:cubicBezTo>
                  <a:pt x="15354" y="13304"/>
                  <a:pt x="15354" y="13287"/>
                  <a:pt x="15354" y="13271"/>
                </a:cubicBezTo>
                <a:cubicBezTo>
                  <a:pt x="15354" y="13360"/>
                  <a:pt x="15374" y="13436"/>
                  <a:pt x="15404" y="135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830920" y="4749840"/>
            <a:ext cx="54000" cy="198360"/>
          </a:xfrm>
          <a:custGeom>
            <a:avLst/>
            <a:gdLst/>
            <a:ahLst/>
            <a:rect l="l" t="t" r="r" b="b"/>
            <a:pathLst>
              <a:path w="150" h="547">
                <a:moveTo>
                  <a:pt x="16297" y="13196"/>
                </a:moveTo>
                <a:cubicBezTo>
                  <a:pt x="16288" y="13207"/>
                  <a:pt x="16167" y="13373"/>
                  <a:pt x="16197" y="13370"/>
                </a:cubicBezTo>
                <a:cubicBezTo>
                  <a:pt x="16283" y="13361"/>
                  <a:pt x="16241" y="13280"/>
                  <a:pt x="16197" y="13345"/>
                </a:cubicBezTo>
              </a:path>
              <a:path w="150" h="547">
                <a:moveTo>
                  <a:pt x="16346" y="13643"/>
                </a:moveTo>
                <a:cubicBezTo>
                  <a:pt x="16334" y="13657"/>
                  <a:pt x="16253" y="13805"/>
                  <a:pt x="16346" y="13742"/>
                </a:cubicBezTo>
                <a:cubicBezTo>
                  <a:pt x="16395" y="13709"/>
                  <a:pt x="16308" y="13695"/>
                  <a:pt x="16272" y="137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91120" y="4687920"/>
            <a:ext cx="349200" cy="241200"/>
          </a:xfrm>
          <a:custGeom>
            <a:avLst/>
            <a:gdLst/>
            <a:ahLst/>
            <a:rect l="l" t="t" r="r" b="b"/>
            <a:pathLst>
              <a:path w="968" h="671">
                <a:moveTo>
                  <a:pt x="16942" y="13097"/>
                </a:moveTo>
                <a:cubicBezTo>
                  <a:pt x="16913" y="12981"/>
                  <a:pt x="16715" y="13091"/>
                  <a:pt x="16669" y="13146"/>
                </a:cubicBezTo>
                <a:cubicBezTo>
                  <a:pt x="16661" y="13179"/>
                  <a:pt x="16652" y="13213"/>
                  <a:pt x="16644" y="13246"/>
                </a:cubicBezTo>
                <a:cubicBezTo>
                  <a:pt x="16739" y="13320"/>
                  <a:pt x="17078" y="13494"/>
                  <a:pt x="16917" y="13643"/>
                </a:cubicBezTo>
                <a:cubicBezTo>
                  <a:pt x="16876" y="13659"/>
                  <a:pt x="16834" y="13676"/>
                  <a:pt x="16793" y="13692"/>
                </a:cubicBezTo>
                <a:cubicBezTo>
                  <a:pt x="16683" y="13512"/>
                  <a:pt x="16828" y="13420"/>
                  <a:pt x="16917" y="13246"/>
                </a:cubicBezTo>
                <a:cubicBezTo>
                  <a:pt x="16925" y="13221"/>
                  <a:pt x="16934" y="13196"/>
                  <a:pt x="16942" y="13171"/>
                </a:cubicBezTo>
              </a:path>
              <a:path w="968" h="671">
                <a:moveTo>
                  <a:pt x="17462" y="13047"/>
                </a:moveTo>
                <a:cubicBezTo>
                  <a:pt x="17382" y="13006"/>
                  <a:pt x="17270" y="13165"/>
                  <a:pt x="17239" y="13246"/>
                </a:cubicBezTo>
                <a:cubicBezTo>
                  <a:pt x="17185" y="13388"/>
                  <a:pt x="17214" y="13494"/>
                  <a:pt x="17264" y="13618"/>
                </a:cubicBezTo>
                <a:cubicBezTo>
                  <a:pt x="17440" y="13631"/>
                  <a:pt x="17588" y="13556"/>
                  <a:pt x="17611" y="13345"/>
                </a:cubicBezTo>
                <a:cubicBezTo>
                  <a:pt x="17625" y="13213"/>
                  <a:pt x="17523" y="13143"/>
                  <a:pt x="17413" y="131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81160" y="5983200"/>
            <a:ext cx="177840" cy="177840"/>
          </a:xfrm>
          <a:custGeom>
            <a:avLst/>
            <a:gdLst/>
            <a:ahLst/>
            <a:rect l="l" t="t" r="r" b="b"/>
            <a:pathLst>
              <a:path w="498" h="497">
                <a:moveTo>
                  <a:pt x="5804" y="16892"/>
                </a:moveTo>
                <a:cubicBezTo>
                  <a:pt x="5804" y="16841"/>
                  <a:pt x="5793" y="16834"/>
                  <a:pt x="5779" y="16793"/>
                </a:cubicBezTo>
                <a:cubicBezTo>
                  <a:pt x="5757" y="16727"/>
                  <a:pt x="5890" y="16982"/>
                  <a:pt x="5904" y="17016"/>
                </a:cubicBezTo>
                <a:cubicBezTo>
                  <a:pt x="5904" y="17041"/>
                  <a:pt x="5904" y="17049"/>
                  <a:pt x="5904" y="17016"/>
                </a:cubicBezTo>
              </a:path>
              <a:path w="498" h="497">
                <a:moveTo>
                  <a:pt x="5879" y="16743"/>
                </a:moveTo>
                <a:cubicBezTo>
                  <a:pt x="5862" y="16822"/>
                  <a:pt x="5804" y="17003"/>
                  <a:pt x="5829" y="17041"/>
                </a:cubicBezTo>
              </a:path>
              <a:path w="498" h="497">
                <a:moveTo>
                  <a:pt x="6052" y="16768"/>
                </a:moveTo>
                <a:cubicBezTo>
                  <a:pt x="6052" y="16842"/>
                  <a:pt x="6043" y="16884"/>
                  <a:pt x="6127" y="16892"/>
                </a:cubicBezTo>
                <a:cubicBezTo>
                  <a:pt x="6217" y="16900"/>
                  <a:pt x="6362" y="16960"/>
                  <a:pt x="6251" y="17090"/>
                </a:cubicBezTo>
                <a:cubicBezTo>
                  <a:pt x="6176" y="17115"/>
                  <a:pt x="6152" y="17123"/>
                  <a:pt x="6102" y="17090"/>
                </a:cubicBezTo>
              </a:path>
              <a:path w="498" h="497">
                <a:moveTo>
                  <a:pt x="6052" y="16718"/>
                </a:moveTo>
                <a:cubicBezTo>
                  <a:pt x="6131" y="16703"/>
                  <a:pt x="6127" y="16695"/>
                  <a:pt x="6127" y="166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98840" y="5518080"/>
            <a:ext cx="482400" cy="635040"/>
          </a:xfrm>
          <a:custGeom>
            <a:avLst/>
            <a:gdLst/>
            <a:ahLst/>
            <a:rect l="l" t="t" r="r" b="b"/>
            <a:pathLst>
              <a:path w="1341" h="1762">
                <a:moveTo>
                  <a:pt x="7640" y="16669"/>
                </a:moveTo>
                <a:cubicBezTo>
                  <a:pt x="7640" y="16677"/>
                  <a:pt x="7640" y="16686"/>
                  <a:pt x="7640" y="16694"/>
                </a:cubicBezTo>
                <a:cubicBezTo>
                  <a:pt x="7591" y="16678"/>
                  <a:pt x="7618" y="16657"/>
                  <a:pt x="7640" y="16619"/>
                </a:cubicBezTo>
                <a:cubicBezTo>
                  <a:pt x="7685" y="16541"/>
                  <a:pt x="7671" y="16588"/>
                  <a:pt x="7739" y="16570"/>
                </a:cubicBezTo>
                <a:cubicBezTo>
                  <a:pt x="7786" y="16557"/>
                  <a:pt x="7883" y="16519"/>
                  <a:pt x="7888" y="16619"/>
                </a:cubicBezTo>
                <a:cubicBezTo>
                  <a:pt x="7891" y="16692"/>
                  <a:pt x="7799" y="16769"/>
                  <a:pt x="7739" y="16793"/>
                </a:cubicBezTo>
                <a:cubicBezTo>
                  <a:pt x="7731" y="16793"/>
                  <a:pt x="7722" y="16793"/>
                  <a:pt x="7714" y="16793"/>
                </a:cubicBezTo>
                <a:cubicBezTo>
                  <a:pt x="7762" y="16785"/>
                  <a:pt x="7880" y="16725"/>
                  <a:pt x="7913" y="16793"/>
                </a:cubicBezTo>
                <a:cubicBezTo>
                  <a:pt x="7991" y="16954"/>
                  <a:pt x="7879" y="17044"/>
                  <a:pt x="7739" y="17090"/>
                </a:cubicBezTo>
                <a:cubicBezTo>
                  <a:pt x="7652" y="17119"/>
                  <a:pt x="7656" y="17019"/>
                  <a:pt x="7665" y="16991"/>
                </a:cubicBezTo>
              </a:path>
              <a:path w="1341" h="1762">
                <a:moveTo>
                  <a:pt x="8409" y="16371"/>
                </a:moveTo>
                <a:cubicBezTo>
                  <a:pt x="8362" y="16403"/>
                  <a:pt x="8301" y="16398"/>
                  <a:pt x="8260" y="16421"/>
                </a:cubicBezTo>
                <a:cubicBezTo>
                  <a:pt x="8183" y="16464"/>
                  <a:pt x="8210" y="16530"/>
                  <a:pt x="8210" y="16619"/>
                </a:cubicBezTo>
                <a:cubicBezTo>
                  <a:pt x="8210" y="16652"/>
                  <a:pt x="8210" y="16669"/>
                  <a:pt x="8210" y="16694"/>
                </a:cubicBezTo>
                <a:cubicBezTo>
                  <a:pt x="8277" y="16664"/>
                  <a:pt x="8391" y="16586"/>
                  <a:pt x="8458" y="16644"/>
                </a:cubicBezTo>
                <a:cubicBezTo>
                  <a:pt x="8582" y="16751"/>
                  <a:pt x="8477" y="16901"/>
                  <a:pt x="8384" y="16966"/>
                </a:cubicBezTo>
                <a:cubicBezTo>
                  <a:pt x="8302" y="17024"/>
                  <a:pt x="8278" y="17032"/>
                  <a:pt x="8210" y="16991"/>
                </a:cubicBezTo>
              </a:path>
              <a:path w="1341" h="1762">
                <a:moveTo>
                  <a:pt x="7491" y="16297"/>
                </a:moveTo>
                <a:cubicBezTo>
                  <a:pt x="7580" y="16207"/>
                  <a:pt x="7857" y="16175"/>
                  <a:pt x="7987" y="16148"/>
                </a:cubicBezTo>
                <a:cubicBezTo>
                  <a:pt x="8175" y="16109"/>
                  <a:pt x="8367" y="16072"/>
                  <a:pt x="8558" y="16049"/>
                </a:cubicBezTo>
              </a:path>
              <a:path w="1341" h="1762">
                <a:moveTo>
                  <a:pt x="7342" y="15404"/>
                </a:moveTo>
                <a:cubicBezTo>
                  <a:pt x="7342" y="15458"/>
                  <a:pt x="7339" y="15485"/>
                  <a:pt x="7317" y="15528"/>
                </a:cubicBezTo>
                <a:cubicBezTo>
                  <a:pt x="7345" y="15375"/>
                  <a:pt x="7496" y="15353"/>
                  <a:pt x="7516" y="15553"/>
                </a:cubicBezTo>
                <a:cubicBezTo>
                  <a:pt x="7533" y="15727"/>
                  <a:pt x="7410" y="15957"/>
                  <a:pt x="7268" y="16049"/>
                </a:cubicBezTo>
                <a:cubicBezTo>
                  <a:pt x="7233" y="16049"/>
                  <a:pt x="7220" y="16040"/>
                  <a:pt x="7218" y="15999"/>
                </a:cubicBezTo>
                <a:cubicBezTo>
                  <a:pt x="7363" y="15937"/>
                  <a:pt x="7469" y="15917"/>
                  <a:pt x="7565" y="16073"/>
                </a:cubicBezTo>
                <a:cubicBezTo>
                  <a:pt x="7605" y="16137"/>
                  <a:pt x="7603" y="16015"/>
                  <a:pt x="7615" y="15949"/>
                </a:cubicBezTo>
              </a:path>
              <a:path w="1341" h="1762">
                <a:moveTo>
                  <a:pt x="8012" y="15329"/>
                </a:moveTo>
                <a:cubicBezTo>
                  <a:pt x="7994" y="15402"/>
                  <a:pt x="7885" y="15475"/>
                  <a:pt x="7813" y="15503"/>
                </a:cubicBezTo>
                <a:cubicBezTo>
                  <a:pt x="7736" y="15533"/>
                  <a:pt x="7739" y="15470"/>
                  <a:pt x="7739" y="15577"/>
                </a:cubicBezTo>
                <a:cubicBezTo>
                  <a:pt x="7739" y="15627"/>
                  <a:pt x="7739" y="15676"/>
                  <a:pt x="7739" y="15726"/>
                </a:cubicBezTo>
                <a:cubicBezTo>
                  <a:pt x="7795" y="15709"/>
                  <a:pt x="7998" y="15556"/>
                  <a:pt x="8062" y="15652"/>
                </a:cubicBezTo>
                <a:cubicBezTo>
                  <a:pt x="8173" y="15820"/>
                  <a:pt x="7904" y="16008"/>
                  <a:pt x="7764" y="16024"/>
                </a:cubicBezTo>
                <a:cubicBezTo>
                  <a:pt x="7764" y="16016"/>
                  <a:pt x="7764" y="16007"/>
                  <a:pt x="7764" y="159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062080" y="5607000"/>
            <a:ext cx="162000" cy="179280"/>
          </a:xfrm>
          <a:custGeom>
            <a:avLst/>
            <a:gdLst/>
            <a:ahLst/>
            <a:rect l="l" t="t" r="r" b="b"/>
            <a:pathLst>
              <a:path w="447" h="497">
                <a:moveTo>
                  <a:pt x="5755" y="15825"/>
                </a:moveTo>
                <a:cubicBezTo>
                  <a:pt x="5748" y="15916"/>
                  <a:pt x="5730" y="15957"/>
                  <a:pt x="5730" y="16049"/>
                </a:cubicBezTo>
              </a:path>
              <a:path w="447" h="497">
                <a:moveTo>
                  <a:pt x="5978" y="15751"/>
                </a:moveTo>
                <a:cubicBezTo>
                  <a:pt x="5978" y="15801"/>
                  <a:pt x="5978" y="15817"/>
                  <a:pt x="5978" y="15850"/>
                </a:cubicBezTo>
                <a:cubicBezTo>
                  <a:pt x="6007" y="15864"/>
                  <a:pt x="6126" y="15839"/>
                  <a:pt x="6152" y="15875"/>
                </a:cubicBezTo>
                <a:cubicBezTo>
                  <a:pt x="6290" y="16061"/>
                  <a:pt x="6033" y="15973"/>
                  <a:pt x="5953" y="15875"/>
                </a:cubicBezTo>
              </a:path>
              <a:path w="447" h="497">
                <a:moveTo>
                  <a:pt x="5978" y="15652"/>
                </a:moveTo>
                <a:cubicBezTo>
                  <a:pt x="6034" y="15632"/>
                  <a:pt x="6115" y="15578"/>
                  <a:pt x="6127" y="156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018040" y="3803760"/>
            <a:ext cx="216000" cy="214200"/>
          </a:xfrm>
          <a:custGeom>
            <a:avLst/>
            <a:gdLst/>
            <a:ahLst/>
            <a:rect l="l" t="t" r="r" b="b"/>
            <a:pathLst>
              <a:path w="597" h="596">
                <a:moveTo>
                  <a:pt x="14114" y="10641"/>
                </a:moveTo>
                <a:cubicBezTo>
                  <a:pt x="14181" y="10587"/>
                  <a:pt x="14226" y="10572"/>
                  <a:pt x="14312" y="10567"/>
                </a:cubicBezTo>
                <a:cubicBezTo>
                  <a:pt x="14381" y="10563"/>
                  <a:pt x="14400" y="10587"/>
                  <a:pt x="14387" y="10666"/>
                </a:cubicBezTo>
                <a:cubicBezTo>
                  <a:pt x="14366" y="10797"/>
                  <a:pt x="14265" y="10911"/>
                  <a:pt x="14163" y="10988"/>
                </a:cubicBezTo>
                <a:cubicBezTo>
                  <a:pt x="14112" y="11026"/>
                  <a:pt x="14030" y="11065"/>
                  <a:pt x="13990" y="11112"/>
                </a:cubicBezTo>
                <a:cubicBezTo>
                  <a:pt x="13982" y="11129"/>
                  <a:pt x="13973" y="11145"/>
                  <a:pt x="13965" y="11162"/>
                </a:cubicBezTo>
                <a:cubicBezTo>
                  <a:pt x="13924" y="11162"/>
                  <a:pt x="14026" y="11090"/>
                  <a:pt x="14064" y="11063"/>
                </a:cubicBezTo>
                <a:cubicBezTo>
                  <a:pt x="14134" y="11012"/>
                  <a:pt x="14172" y="11009"/>
                  <a:pt x="14238" y="11063"/>
                </a:cubicBezTo>
                <a:cubicBezTo>
                  <a:pt x="14305" y="11117"/>
                  <a:pt x="14336" y="11155"/>
                  <a:pt x="14436" y="11137"/>
                </a:cubicBezTo>
                <a:cubicBezTo>
                  <a:pt x="14478" y="11130"/>
                  <a:pt x="14498" y="11097"/>
                  <a:pt x="14536" y="110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286240" y="3776760"/>
            <a:ext cx="108000" cy="117360"/>
          </a:xfrm>
          <a:custGeom>
            <a:avLst/>
            <a:gdLst/>
            <a:ahLst/>
            <a:rect l="l" t="t" r="r" b="b"/>
            <a:pathLst>
              <a:path w="299" h="324">
                <a:moveTo>
                  <a:pt x="14709" y="10492"/>
                </a:moveTo>
                <a:cubicBezTo>
                  <a:pt x="14709" y="10538"/>
                  <a:pt x="14668" y="10741"/>
                  <a:pt x="14684" y="10765"/>
                </a:cubicBezTo>
                <a:cubicBezTo>
                  <a:pt x="14711" y="10805"/>
                  <a:pt x="14818" y="10790"/>
                  <a:pt x="14883" y="10790"/>
                </a:cubicBezTo>
                <a:cubicBezTo>
                  <a:pt x="14927" y="10790"/>
                  <a:pt x="14943" y="10805"/>
                  <a:pt x="14982" y="108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92800" y="3768840"/>
            <a:ext cx="28440" cy="249120"/>
          </a:xfrm>
          <a:custGeom>
            <a:avLst/>
            <a:gdLst/>
            <a:ahLst/>
            <a:rect l="l" t="t" r="r" b="b"/>
            <a:pathLst>
              <a:path w="75" h="695">
                <a:moveTo>
                  <a:pt x="15056" y="10468"/>
                </a:moveTo>
                <a:cubicBezTo>
                  <a:pt x="15011" y="10483"/>
                  <a:pt x="15044" y="10497"/>
                  <a:pt x="15032" y="10542"/>
                </a:cubicBezTo>
                <a:cubicBezTo>
                  <a:pt x="14991" y="10697"/>
                  <a:pt x="14994" y="10877"/>
                  <a:pt x="14982" y="11038"/>
                </a:cubicBezTo>
                <a:cubicBezTo>
                  <a:pt x="14978" y="11096"/>
                  <a:pt x="14989" y="11192"/>
                  <a:pt x="15007" y="111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45080" y="3848040"/>
            <a:ext cx="9720" cy="19080"/>
          </a:xfrm>
          <a:custGeom>
            <a:avLst/>
            <a:gdLst/>
            <a:ahLst/>
            <a:rect l="l" t="t" r="r" b="b"/>
            <a:pathLst>
              <a:path w="26" h="50">
                <a:moveTo>
                  <a:pt x="15404" y="10691"/>
                </a:moveTo>
                <a:cubicBezTo>
                  <a:pt x="15443" y="10691"/>
                  <a:pt x="15429" y="10707"/>
                  <a:pt x="15429" y="107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554800" y="3973680"/>
            <a:ext cx="27000" cy="9360"/>
          </a:xfrm>
          <a:custGeom>
            <a:avLst/>
            <a:gdLst/>
            <a:ahLst/>
            <a:rect l="l" t="t" r="r" b="b"/>
            <a:pathLst>
              <a:path w="75" h="26">
                <a:moveTo>
                  <a:pt x="15429" y="11063"/>
                </a:moveTo>
                <a:cubicBezTo>
                  <a:pt x="15429" y="11000"/>
                  <a:pt x="15441" y="11133"/>
                  <a:pt x="15503" y="11038"/>
                </a:cubicBezTo>
                <a:cubicBezTo>
                  <a:pt x="15478" y="11038"/>
                  <a:pt x="15470" y="11038"/>
                  <a:pt x="15453" y="110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41960" y="3116160"/>
            <a:ext cx="88920" cy="108000"/>
          </a:xfrm>
          <a:custGeom>
            <a:avLst/>
            <a:gdLst/>
            <a:ahLst/>
            <a:rect l="l" t="t" r="r" b="b"/>
            <a:pathLst>
              <a:path w="249" h="298">
                <a:moveTo>
                  <a:pt x="14635" y="8682"/>
                </a:moveTo>
                <a:cubicBezTo>
                  <a:pt x="14643" y="8674"/>
                  <a:pt x="14652" y="8665"/>
                  <a:pt x="14660" y="8657"/>
                </a:cubicBezTo>
                <a:cubicBezTo>
                  <a:pt x="14637" y="8750"/>
                  <a:pt x="14586" y="8840"/>
                  <a:pt x="14560" y="8930"/>
                </a:cubicBezTo>
                <a:cubicBezTo>
                  <a:pt x="14651" y="8968"/>
                  <a:pt x="14721" y="8955"/>
                  <a:pt x="14808" y="89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40240" y="3089160"/>
            <a:ext cx="1800" cy="260640"/>
          </a:xfrm>
          <a:custGeom>
            <a:avLst/>
            <a:gdLst/>
            <a:ahLst/>
            <a:rect l="l" t="t" r="r" b="b"/>
            <a:pathLst>
              <a:path w="1" h="721">
                <a:moveTo>
                  <a:pt x="14833" y="8582"/>
                </a:moveTo>
                <a:cubicBezTo>
                  <a:pt x="14833" y="8830"/>
                  <a:pt x="14833" y="9277"/>
                  <a:pt x="14833" y="92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572080" y="3116160"/>
            <a:ext cx="179280" cy="196920"/>
          </a:xfrm>
          <a:custGeom>
            <a:avLst/>
            <a:gdLst/>
            <a:ahLst/>
            <a:rect l="l" t="t" r="r" b="b"/>
            <a:pathLst>
              <a:path w="497" h="547">
                <a:moveTo>
                  <a:pt x="15478" y="8682"/>
                </a:moveTo>
                <a:cubicBezTo>
                  <a:pt x="15612" y="8682"/>
                  <a:pt x="15741" y="8661"/>
                  <a:pt x="15875" y="8657"/>
                </a:cubicBezTo>
                <a:cubicBezTo>
                  <a:pt x="15933" y="8657"/>
                  <a:pt x="15941" y="8657"/>
                  <a:pt x="15974" y="8657"/>
                </a:cubicBezTo>
                <a:cubicBezTo>
                  <a:pt x="15956" y="8818"/>
                  <a:pt x="15897" y="8968"/>
                  <a:pt x="15875" y="9128"/>
                </a:cubicBezTo>
                <a:cubicBezTo>
                  <a:pt x="15875" y="9186"/>
                  <a:pt x="15892" y="9211"/>
                  <a:pt x="15850" y="92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87960" y="3438360"/>
            <a:ext cx="36360" cy="79560"/>
          </a:xfrm>
          <a:custGeom>
            <a:avLst/>
            <a:gdLst/>
            <a:ahLst/>
            <a:rect l="l" t="t" r="r" b="b"/>
            <a:pathLst>
              <a:path w="100" h="224">
                <a:moveTo>
                  <a:pt x="14436" y="9575"/>
                </a:moveTo>
                <a:cubicBezTo>
                  <a:pt x="14428" y="9567"/>
                  <a:pt x="14420" y="9558"/>
                  <a:pt x="14412" y="9550"/>
                </a:cubicBezTo>
                <a:cubicBezTo>
                  <a:pt x="14412" y="9633"/>
                  <a:pt x="14455" y="9654"/>
                  <a:pt x="14486" y="9723"/>
                </a:cubicBezTo>
                <a:cubicBezTo>
                  <a:pt x="14486" y="9751"/>
                  <a:pt x="14488" y="9762"/>
                  <a:pt x="14511" y="97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232240" y="3419640"/>
            <a:ext cx="117720" cy="161640"/>
          </a:xfrm>
          <a:custGeom>
            <a:avLst/>
            <a:gdLst/>
            <a:ahLst/>
            <a:rect l="l" t="t" r="r" b="b"/>
            <a:pathLst>
              <a:path w="323" h="448">
                <a:moveTo>
                  <a:pt x="14610" y="9500"/>
                </a:moveTo>
                <a:cubicBezTo>
                  <a:pt x="14592" y="9589"/>
                  <a:pt x="14546" y="9679"/>
                  <a:pt x="14536" y="9773"/>
                </a:cubicBezTo>
                <a:cubicBezTo>
                  <a:pt x="14526" y="9866"/>
                  <a:pt x="14510" y="9930"/>
                  <a:pt x="14610" y="9947"/>
                </a:cubicBezTo>
                <a:cubicBezTo>
                  <a:pt x="14700" y="9962"/>
                  <a:pt x="14783" y="9922"/>
                  <a:pt x="14833" y="9847"/>
                </a:cubicBezTo>
                <a:cubicBezTo>
                  <a:pt x="14861" y="9806"/>
                  <a:pt x="14858" y="9791"/>
                  <a:pt x="14858" y="9748"/>
                </a:cubicBezTo>
                <a:cubicBezTo>
                  <a:pt x="14780" y="9764"/>
                  <a:pt x="14767" y="9789"/>
                  <a:pt x="14759" y="9872"/>
                </a:cubicBezTo>
                <a:cubicBezTo>
                  <a:pt x="14759" y="9880"/>
                  <a:pt x="14759" y="9889"/>
                  <a:pt x="14759" y="98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616720" y="3429000"/>
            <a:ext cx="63360" cy="71280"/>
          </a:xfrm>
          <a:custGeom>
            <a:avLst/>
            <a:gdLst/>
            <a:ahLst/>
            <a:rect l="l" t="t" r="r" b="b"/>
            <a:pathLst>
              <a:path w="175" h="199">
                <a:moveTo>
                  <a:pt x="15602" y="9525"/>
                </a:moveTo>
                <a:cubicBezTo>
                  <a:pt x="15635" y="9607"/>
                  <a:pt x="15705" y="9665"/>
                  <a:pt x="15776" y="97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626080" y="3411360"/>
            <a:ext cx="61920" cy="125640"/>
          </a:xfrm>
          <a:custGeom>
            <a:avLst/>
            <a:gdLst/>
            <a:ahLst/>
            <a:rect l="l" t="t" r="r" b="b"/>
            <a:pathLst>
              <a:path w="175" h="349">
                <a:moveTo>
                  <a:pt x="15801" y="9475"/>
                </a:moveTo>
                <a:cubicBezTo>
                  <a:pt x="15768" y="9597"/>
                  <a:pt x="15696" y="9711"/>
                  <a:pt x="15627" y="98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69000" y="3402000"/>
            <a:ext cx="98280" cy="125280"/>
          </a:xfrm>
          <a:custGeom>
            <a:avLst/>
            <a:gdLst/>
            <a:ahLst/>
            <a:rect l="l" t="t" r="r" b="b"/>
            <a:pathLst>
              <a:path w="274" h="348">
                <a:moveTo>
                  <a:pt x="16049" y="9451"/>
                </a:moveTo>
                <a:cubicBezTo>
                  <a:pt x="16049" y="9533"/>
                  <a:pt x="16029" y="9593"/>
                  <a:pt x="16024" y="9674"/>
                </a:cubicBezTo>
                <a:cubicBezTo>
                  <a:pt x="16022" y="9705"/>
                  <a:pt x="16007" y="9785"/>
                  <a:pt x="16049" y="9798"/>
                </a:cubicBezTo>
                <a:cubicBezTo>
                  <a:pt x="16107" y="9816"/>
                  <a:pt x="16205" y="9801"/>
                  <a:pt x="16247" y="9773"/>
                </a:cubicBezTo>
                <a:cubicBezTo>
                  <a:pt x="16281" y="9750"/>
                  <a:pt x="16290" y="9686"/>
                  <a:pt x="16297" y="9649"/>
                </a:cubicBezTo>
                <a:cubicBezTo>
                  <a:pt x="16256" y="9649"/>
                  <a:pt x="16190" y="9651"/>
                  <a:pt x="16173" y="9699"/>
                </a:cubicBezTo>
                <a:cubicBezTo>
                  <a:pt x="16157" y="9744"/>
                  <a:pt x="16136" y="9786"/>
                  <a:pt x="16173" y="97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680080" y="3795840"/>
            <a:ext cx="115920" cy="61920"/>
          </a:xfrm>
          <a:custGeom>
            <a:avLst/>
            <a:gdLst/>
            <a:ahLst/>
            <a:rect l="l" t="t" r="r" b="b"/>
            <a:pathLst>
              <a:path w="323" h="175">
                <a:moveTo>
                  <a:pt x="15801" y="10542"/>
                </a:moveTo>
                <a:cubicBezTo>
                  <a:pt x="15795" y="10619"/>
                  <a:pt x="15789" y="10649"/>
                  <a:pt x="15776" y="10716"/>
                </a:cubicBezTo>
                <a:cubicBezTo>
                  <a:pt x="15875" y="10716"/>
                  <a:pt x="15957" y="10711"/>
                  <a:pt x="16049" y="10691"/>
                </a:cubicBezTo>
                <a:cubicBezTo>
                  <a:pt x="16073" y="10691"/>
                  <a:pt x="16082" y="10691"/>
                  <a:pt x="16098" y="106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803920" y="3714840"/>
            <a:ext cx="1440" cy="268200"/>
          </a:xfrm>
          <a:custGeom>
            <a:avLst/>
            <a:gdLst/>
            <a:ahLst/>
            <a:rect l="l" t="t" r="r" b="b"/>
            <a:pathLst>
              <a:path w="1" h="745">
                <a:moveTo>
                  <a:pt x="16123" y="10319"/>
                </a:moveTo>
                <a:cubicBezTo>
                  <a:pt x="16123" y="10567"/>
                  <a:pt x="16123" y="10815"/>
                  <a:pt x="16123" y="110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902200" y="3724200"/>
            <a:ext cx="169920" cy="258840"/>
          </a:xfrm>
          <a:custGeom>
            <a:avLst/>
            <a:gdLst/>
            <a:ahLst/>
            <a:rect l="l" t="t" r="r" b="b"/>
            <a:pathLst>
              <a:path w="472" h="720">
                <a:moveTo>
                  <a:pt x="16421" y="10418"/>
                </a:moveTo>
                <a:cubicBezTo>
                  <a:pt x="16439" y="10345"/>
                  <a:pt x="16470" y="10349"/>
                  <a:pt x="16545" y="10344"/>
                </a:cubicBezTo>
                <a:cubicBezTo>
                  <a:pt x="16693" y="10335"/>
                  <a:pt x="16592" y="10596"/>
                  <a:pt x="16570" y="10641"/>
                </a:cubicBezTo>
                <a:cubicBezTo>
                  <a:pt x="16509" y="10768"/>
                  <a:pt x="16433" y="10876"/>
                  <a:pt x="16396" y="11013"/>
                </a:cubicBezTo>
                <a:cubicBezTo>
                  <a:pt x="16396" y="11038"/>
                  <a:pt x="16396" y="11046"/>
                  <a:pt x="16396" y="11063"/>
                </a:cubicBezTo>
                <a:cubicBezTo>
                  <a:pt x="16429" y="11029"/>
                  <a:pt x="16506" y="10964"/>
                  <a:pt x="16520" y="10939"/>
                </a:cubicBezTo>
                <a:cubicBezTo>
                  <a:pt x="16520" y="10931"/>
                  <a:pt x="16520" y="10922"/>
                  <a:pt x="16520" y="10914"/>
                </a:cubicBezTo>
                <a:cubicBezTo>
                  <a:pt x="16556" y="10926"/>
                  <a:pt x="16595" y="10983"/>
                  <a:pt x="16644" y="11013"/>
                </a:cubicBezTo>
                <a:cubicBezTo>
                  <a:pt x="16719" y="11060"/>
                  <a:pt x="16802" y="11006"/>
                  <a:pt x="16867" y="109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Students will find equivalent ratio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e some equivalent ratios on your own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) 6: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) 5 to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219320" y="3733920"/>
                <a:ext cx="5112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2795760" y="20541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7764" y="5705"/>
                </a:moveTo>
                <a:lnTo>
                  <a:pt x="7764" y="570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303640" y="1857240"/>
            <a:ext cx="1223640" cy="295560"/>
          </a:xfrm>
          <a:custGeom>
            <a:avLst/>
            <a:gdLst/>
            <a:ahLst/>
            <a:rect l="l" t="t" r="r" b="b"/>
            <a:pathLst>
              <a:path w="3399" h="820">
                <a:moveTo>
                  <a:pt x="6400" y="5209"/>
                </a:moveTo>
                <a:cubicBezTo>
                  <a:pt x="6406" y="5409"/>
                  <a:pt x="6370" y="5687"/>
                  <a:pt x="6424" y="5879"/>
                </a:cubicBezTo>
                <a:cubicBezTo>
                  <a:pt x="6491" y="5879"/>
                  <a:pt x="6506" y="5838"/>
                  <a:pt x="6474" y="5730"/>
                </a:cubicBezTo>
              </a:path>
              <a:path w="3399" h="820">
                <a:moveTo>
                  <a:pt x="6648" y="5184"/>
                </a:moveTo>
                <a:cubicBezTo>
                  <a:pt x="6802" y="5141"/>
                  <a:pt x="7005" y="5179"/>
                  <a:pt x="7045" y="5383"/>
                </a:cubicBezTo>
                <a:cubicBezTo>
                  <a:pt x="7095" y="5633"/>
                  <a:pt x="6887" y="5829"/>
                  <a:pt x="6697" y="5854"/>
                </a:cubicBezTo>
                <a:cubicBezTo>
                  <a:pt x="6748" y="5692"/>
                  <a:pt x="6832" y="5499"/>
                  <a:pt x="6995" y="5730"/>
                </a:cubicBezTo>
                <a:cubicBezTo>
                  <a:pt x="7106" y="5887"/>
                  <a:pt x="7006" y="5891"/>
                  <a:pt x="7169" y="5978"/>
                </a:cubicBezTo>
              </a:path>
              <a:path w="3399" h="820">
                <a:moveTo>
                  <a:pt x="7541" y="5234"/>
                </a:moveTo>
                <a:cubicBezTo>
                  <a:pt x="7605" y="5412"/>
                  <a:pt x="7568" y="5571"/>
                  <a:pt x="7590" y="5755"/>
                </a:cubicBezTo>
                <a:cubicBezTo>
                  <a:pt x="7611" y="5933"/>
                  <a:pt x="7835" y="5769"/>
                  <a:pt x="7913" y="5730"/>
                </a:cubicBezTo>
                <a:cubicBezTo>
                  <a:pt x="7941" y="5702"/>
                  <a:pt x="7945" y="5693"/>
                  <a:pt x="7888" y="5705"/>
                </a:cubicBezTo>
              </a:path>
              <a:path w="3399" h="820">
                <a:moveTo>
                  <a:pt x="7565" y="5631"/>
                </a:moveTo>
                <a:cubicBezTo>
                  <a:pt x="7701" y="5581"/>
                  <a:pt x="7845" y="5563"/>
                  <a:pt x="7987" y="5531"/>
                </a:cubicBezTo>
                <a:cubicBezTo>
                  <a:pt x="8057" y="5515"/>
                  <a:pt x="8094" y="5507"/>
                  <a:pt x="8161" y="5507"/>
                </a:cubicBezTo>
                <a:cubicBezTo>
                  <a:pt x="8116" y="5663"/>
                  <a:pt x="8105" y="5697"/>
                  <a:pt x="8161" y="5854"/>
                </a:cubicBezTo>
                <a:cubicBezTo>
                  <a:pt x="8274" y="5833"/>
                  <a:pt x="8538" y="5720"/>
                  <a:pt x="8359" y="5556"/>
                </a:cubicBezTo>
                <a:cubicBezTo>
                  <a:pt x="8255" y="5461"/>
                  <a:pt x="8145" y="5620"/>
                  <a:pt x="8186" y="5507"/>
                </a:cubicBezTo>
              </a:path>
              <a:path w="3399" h="820">
                <a:moveTo>
                  <a:pt x="8756" y="5234"/>
                </a:moveTo>
                <a:cubicBezTo>
                  <a:pt x="8944" y="5219"/>
                  <a:pt x="9060" y="5341"/>
                  <a:pt x="8979" y="5556"/>
                </a:cubicBezTo>
                <a:cubicBezTo>
                  <a:pt x="8926" y="5696"/>
                  <a:pt x="8843" y="5805"/>
                  <a:pt x="8731" y="5804"/>
                </a:cubicBezTo>
                <a:cubicBezTo>
                  <a:pt x="8804" y="5683"/>
                  <a:pt x="8851" y="5540"/>
                  <a:pt x="8979" y="5680"/>
                </a:cubicBezTo>
                <a:cubicBezTo>
                  <a:pt x="9057" y="5765"/>
                  <a:pt x="9006" y="5782"/>
                  <a:pt x="9103" y="5755"/>
                </a:cubicBezTo>
              </a:path>
              <a:path w="3399" h="820">
                <a:moveTo>
                  <a:pt x="9327" y="5159"/>
                </a:moveTo>
                <a:cubicBezTo>
                  <a:pt x="9520" y="5159"/>
                  <a:pt x="9690" y="5169"/>
                  <a:pt x="9723" y="5407"/>
                </a:cubicBezTo>
                <a:cubicBezTo>
                  <a:pt x="9753" y="5629"/>
                  <a:pt x="9579" y="5745"/>
                  <a:pt x="9401" y="5730"/>
                </a:cubicBezTo>
                <a:cubicBezTo>
                  <a:pt x="9428" y="5567"/>
                  <a:pt x="9503" y="5541"/>
                  <a:pt x="9674" y="5606"/>
                </a:cubicBezTo>
                <a:cubicBezTo>
                  <a:pt x="9736" y="5630"/>
                  <a:pt x="9843" y="5822"/>
                  <a:pt x="9773" y="57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982960" y="26971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8285" y="7491"/>
                </a:moveTo>
                <a:lnTo>
                  <a:pt x="8285" y="749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09920" y="2643120"/>
            <a:ext cx="365040" cy="277920"/>
          </a:xfrm>
          <a:custGeom>
            <a:avLst/>
            <a:gdLst/>
            <a:ahLst/>
            <a:rect l="l" t="t" r="r" b="b"/>
            <a:pathLst>
              <a:path w="1018" h="770">
                <a:moveTo>
                  <a:pt x="7293" y="7466"/>
                </a:moveTo>
                <a:cubicBezTo>
                  <a:pt x="7234" y="7481"/>
                  <a:pt x="7061" y="7481"/>
                  <a:pt x="7020" y="7516"/>
                </a:cubicBezTo>
                <a:cubicBezTo>
                  <a:pt x="6980" y="7550"/>
                  <a:pt x="6986" y="7712"/>
                  <a:pt x="6970" y="7764"/>
                </a:cubicBezTo>
                <a:cubicBezTo>
                  <a:pt x="7099" y="7764"/>
                  <a:pt x="7182" y="7673"/>
                  <a:pt x="7317" y="7665"/>
                </a:cubicBezTo>
                <a:cubicBezTo>
                  <a:pt x="7367" y="7673"/>
                  <a:pt x="7416" y="7681"/>
                  <a:pt x="7466" y="7689"/>
                </a:cubicBezTo>
                <a:cubicBezTo>
                  <a:pt x="7520" y="7932"/>
                  <a:pt x="7416" y="8063"/>
                  <a:pt x="7144" y="8111"/>
                </a:cubicBezTo>
                <a:cubicBezTo>
                  <a:pt x="6991" y="8111"/>
                  <a:pt x="6924" y="8130"/>
                  <a:pt x="7020" y="8012"/>
                </a:cubicBezTo>
              </a:path>
              <a:path w="1018" h="770">
                <a:moveTo>
                  <a:pt x="7813" y="7342"/>
                </a:moveTo>
                <a:cubicBezTo>
                  <a:pt x="7693" y="7506"/>
                  <a:pt x="7618" y="7700"/>
                  <a:pt x="7689" y="7913"/>
                </a:cubicBezTo>
                <a:cubicBezTo>
                  <a:pt x="7706" y="7929"/>
                  <a:pt x="7722" y="7946"/>
                  <a:pt x="7739" y="7962"/>
                </a:cubicBezTo>
                <a:cubicBezTo>
                  <a:pt x="7921" y="7818"/>
                  <a:pt x="8076" y="7681"/>
                  <a:pt x="7913" y="7441"/>
                </a:cubicBezTo>
                <a:cubicBezTo>
                  <a:pt x="7866" y="7371"/>
                  <a:pt x="7827" y="7376"/>
                  <a:pt x="7813" y="74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973240" y="28036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260" y="7789"/>
                </a:moveTo>
                <a:lnTo>
                  <a:pt x="8260" y="7789"/>
                </a:lnTo>
                <a:lnTo>
                  <a:pt x="8260" y="7789"/>
                </a:lnTo>
              </a:path>
              <a:path w="1" h="1">
                <a:moveTo>
                  <a:pt x="8260" y="7789"/>
                </a:moveTo>
                <a:lnTo>
                  <a:pt x="8260" y="778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43160" y="2660760"/>
            <a:ext cx="384120" cy="188640"/>
          </a:xfrm>
          <a:custGeom>
            <a:avLst/>
            <a:gdLst/>
            <a:ahLst/>
            <a:rect l="l" t="t" r="r" b="b"/>
            <a:pathLst>
              <a:path w="1068" h="522">
                <a:moveTo>
                  <a:pt x="8731" y="7441"/>
                </a:moveTo>
                <a:cubicBezTo>
                  <a:pt x="8810" y="7415"/>
                  <a:pt x="8954" y="7337"/>
                  <a:pt x="8954" y="7491"/>
                </a:cubicBezTo>
                <a:cubicBezTo>
                  <a:pt x="8954" y="7629"/>
                  <a:pt x="8809" y="7784"/>
                  <a:pt x="8731" y="7888"/>
                </a:cubicBezTo>
                <a:cubicBezTo>
                  <a:pt x="8846" y="7923"/>
                  <a:pt x="8935" y="7895"/>
                  <a:pt x="9054" y="7888"/>
                </a:cubicBezTo>
                <a:cubicBezTo>
                  <a:pt x="9103" y="7885"/>
                  <a:pt x="9154" y="7888"/>
                  <a:pt x="9203" y="7888"/>
                </a:cubicBezTo>
              </a:path>
              <a:path w="1068" h="522">
                <a:moveTo>
                  <a:pt x="9624" y="7392"/>
                </a:moveTo>
                <a:cubicBezTo>
                  <a:pt x="9480" y="7440"/>
                  <a:pt x="9406" y="7628"/>
                  <a:pt x="9426" y="7789"/>
                </a:cubicBezTo>
                <a:cubicBezTo>
                  <a:pt x="9442" y="7814"/>
                  <a:pt x="9459" y="7838"/>
                  <a:pt x="9475" y="7863"/>
                </a:cubicBezTo>
                <a:cubicBezTo>
                  <a:pt x="9653" y="7837"/>
                  <a:pt x="9814" y="7762"/>
                  <a:pt x="9798" y="7541"/>
                </a:cubicBezTo>
                <a:cubicBezTo>
                  <a:pt x="9790" y="7422"/>
                  <a:pt x="9717" y="7419"/>
                  <a:pt x="9649" y="74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16240" y="1812960"/>
            <a:ext cx="866880" cy="446040"/>
          </a:xfrm>
          <a:custGeom>
            <a:avLst/>
            <a:gdLst/>
            <a:ahLst/>
            <a:rect l="l" t="t" r="r" b="b"/>
            <a:pathLst>
              <a:path w="2407" h="1242">
                <a:moveTo>
                  <a:pt x="11435" y="5234"/>
                </a:moveTo>
                <a:cubicBezTo>
                  <a:pt x="11464" y="5175"/>
                  <a:pt x="11603" y="5095"/>
                  <a:pt x="11683" y="5135"/>
                </a:cubicBezTo>
                <a:cubicBezTo>
                  <a:pt x="11776" y="5181"/>
                  <a:pt x="11607" y="5310"/>
                  <a:pt x="11534" y="5383"/>
                </a:cubicBezTo>
                <a:cubicBezTo>
                  <a:pt x="11526" y="5391"/>
                  <a:pt x="11517" y="5399"/>
                  <a:pt x="11509" y="5407"/>
                </a:cubicBezTo>
                <a:cubicBezTo>
                  <a:pt x="11605" y="5392"/>
                  <a:pt x="11804" y="5318"/>
                  <a:pt x="11857" y="5457"/>
                </a:cubicBezTo>
                <a:cubicBezTo>
                  <a:pt x="11913" y="5604"/>
                  <a:pt x="11529" y="5933"/>
                  <a:pt x="11435" y="5804"/>
                </a:cubicBezTo>
                <a:cubicBezTo>
                  <a:pt x="11464" y="5658"/>
                  <a:pt x="11487" y="5599"/>
                  <a:pt x="11584" y="5531"/>
                </a:cubicBezTo>
              </a:path>
              <a:path w="2407" h="1242">
                <a:moveTo>
                  <a:pt x="12030" y="5135"/>
                </a:moveTo>
                <a:cubicBezTo>
                  <a:pt x="11988" y="5203"/>
                  <a:pt x="11943" y="5374"/>
                  <a:pt x="11931" y="5457"/>
                </a:cubicBezTo>
                <a:cubicBezTo>
                  <a:pt x="11905" y="5640"/>
                  <a:pt x="11939" y="5793"/>
                  <a:pt x="12154" y="5755"/>
                </a:cubicBezTo>
                <a:cubicBezTo>
                  <a:pt x="12293" y="5730"/>
                  <a:pt x="12389" y="5662"/>
                  <a:pt x="12427" y="5531"/>
                </a:cubicBezTo>
                <a:cubicBezTo>
                  <a:pt x="12427" y="5523"/>
                  <a:pt x="12427" y="5515"/>
                  <a:pt x="12427" y="5507"/>
                </a:cubicBezTo>
                <a:cubicBezTo>
                  <a:pt x="12319" y="5471"/>
                  <a:pt x="12200" y="5424"/>
                  <a:pt x="12154" y="5581"/>
                </a:cubicBezTo>
                <a:cubicBezTo>
                  <a:pt x="12137" y="5640"/>
                  <a:pt x="12157" y="5739"/>
                  <a:pt x="12204" y="5755"/>
                </a:cubicBezTo>
              </a:path>
              <a:path w="2407" h="1242">
                <a:moveTo>
                  <a:pt x="12725" y="5035"/>
                </a:moveTo>
                <a:cubicBezTo>
                  <a:pt x="12774" y="5207"/>
                  <a:pt x="12620" y="5652"/>
                  <a:pt x="12576" y="5829"/>
                </a:cubicBezTo>
                <a:cubicBezTo>
                  <a:pt x="12539" y="5978"/>
                  <a:pt x="12477" y="6429"/>
                  <a:pt x="12477" y="6276"/>
                </a:cubicBezTo>
                <a:cubicBezTo>
                  <a:pt x="12477" y="6268"/>
                  <a:pt x="12477" y="6259"/>
                  <a:pt x="12477" y="6251"/>
                </a:cubicBezTo>
              </a:path>
              <a:path w="2407" h="1242">
                <a:moveTo>
                  <a:pt x="12948" y="5234"/>
                </a:moveTo>
                <a:cubicBezTo>
                  <a:pt x="13032" y="5262"/>
                  <a:pt x="12864" y="5482"/>
                  <a:pt x="12849" y="5531"/>
                </a:cubicBezTo>
                <a:cubicBezTo>
                  <a:pt x="12827" y="5663"/>
                  <a:pt x="12819" y="5695"/>
                  <a:pt x="12824" y="5779"/>
                </a:cubicBezTo>
                <a:cubicBezTo>
                  <a:pt x="12965" y="5807"/>
                  <a:pt x="13080" y="5749"/>
                  <a:pt x="13196" y="5655"/>
                </a:cubicBezTo>
                <a:cubicBezTo>
                  <a:pt x="13264" y="5587"/>
                  <a:pt x="13287" y="5572"/>
                  <a:pt x="13295" y="5507"/>
                </a:cubicBezTo>
                <a:cubicBezTo>
                  <a:pt x="13257" y="5429"/>
                  <a:pt x="13170" y="5416"/>
                  <a:pt x="13097" y="5482"/>
                </a:cubicBezTo>
                <a:cubicBezTo>
                  <a:pt x="13034" y="5539"/>
                  <a:pt x="13018" y="5669"/>
                  <a:pt x="13072" y="5705"/>
                </a:cubicBezTo>
              </a:path>
              <a:path w="2407" h="1242">
                <a:moveTo>
                  <a:pt x="13469" y="5085"/>
                </a:moveTo>
                <a:cubicBezTo>
                  <a:pt x="13454" y="5172"/>
                  <a:pt x="13422" y="5243"/>
                  <a:pt x="13419" y="5333"/>
                </a:cubicBezTo>
                <a:cubicBezTo>
                  <a:pt x="13414" y="5478"/>
                  <a:pt x="13403" y="5527"/>
                  <a:pt x="13543" y="5581"/>
                </a:cubicBezTo>
                <a:cubicBezTo>
                  <a:pt x="13657" y="5625"/>
                  <a:pt x="13689" y="5565"/>
                  <a:pt x="13767" y="5507"/>
                </a:cubicBezTo>
                <a:cubicBezTo>
                  <a:pt x="13826" y="5463"/>
                  <a:pt x="13841" y="5434"/>
                  <a:pt x="13841" y="5358"/>
                </a:cubicBezTo>
                <a:cubicBezTo>
                  <a:pt x="13774" y="5350"/>
                  <a:pt x="13721" y="5320"/>
                  <a:pt x="13667" y="5383"/>
                </a:cubicBezTo>
                <a:cubicBezTo>
                  <a:pt x="13635" y="5420"/>
                  <a:pt x="13593" y="5532"/>
                  <a:pt x="13618" y="5581"/>
                </a:cubicBezTo>
                <a:cubicBezTo>
                  <a:pt x="13626" y="5589"/>
                  <a:pt x="13635" y="5598"/>
                  <a:pt x="13643" y="56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276800" y="2625840"/>
            <a:ext cx="644400" cy="384120"/>
          </a:xfrm>
          <a:custGeom>
            <a:avLst/>
            <a:gdLst/>
            <a:ahLst/>
            <a:rect l="l" t="t" r="r" b="b"/>
            <a:pathLst>
              <a:path w="1787" h="1067">
                <a:moveTo>
                  <a:pt x="12030" y="7615"/>
                </a:moveTo>
                <a:cubicBezTo>
                  <a:pt x="11980" y="7514"/>
                  <a:pt x="11983" y="7778"/>
                  <a:pt x="11956" y="7888"/>
                </a:cubicBezTo>
                <a:cubicBezTo>
                  <a:pt x="11927" y="8003"/>
                  <a:pt x="11823" y="8289"/>
                  <a:pt x="11881" y="8186"/>
                </a:cubicBezTo>
                <a:cubicBezTo>
                  <a:pt x="11906" y="8145"/>
                  <a:pt x="11931" y="8103"/>
                  <a:pt x="11956" y="8062"/>
                </a:cubicBezTo>
              </a:path>
              <a:path w="1787" h="1067">
                <a:moveTo>
                  <a:pt x="12650" y="7516"/>
                </a:moveTo>
                <a:cubicBezTo>
                  <a:pt x="12574" y="7544"/>
                  <a:pt x="12408" y="7553"/>
                  <a:pt x="12378" y="7615"/>
                </a:cubicBezTo>
                <a:cubicBezTo>
                  <a:pt x="12353" y="7667"/>
                  <a:pt x="12290" y="7768"/>
                  <a:pt x="12353" y="7789"/>
                </a:cubicBezTo>
                <a:cubicBezTo>
                  <a:pt x="12457" y="7781"/>
                  <a:pt x="12640" y="7719"/>
                  <a:pt x="12650" y="7888"/>
                </a:cubicBezTo>
                <a:cubicBezTo>
                  <a:pt x="12662" y="8098"/>
                  <a:pt x="12464" y="8149"/>
                  <a:pt x="12303" y="8161"/>
                </a:cubicBezTo>
                <a:cubicBezTo>
                  <a:pt x="12287" y="8161"/>
                  <a:pt x="12270" y="8161"/>
                  <a:pt x="12254" y="8161"/>
                </a:cubicBezTo>
              </a:path>
              <a:path w="1787" h="1067">
                <a:moveTo>
                  <a:pt x="13022" y="7293"/>
                </a:moveTo>
                <a:cubicBezTo>
                  <a:pt x="12994" y="7580"/>
                  <a:pt x="12923" y="7857"/>
                  <a:pt x="12849" y="8136"/>
                </a:cubicBezTo>
                <a:cubicBezTo>
                  <a:pt x="12827" y="8218"/>
                  <a:pt x="12764" y="8411"/>
                  <a:pt x="12799" y="8334"/>
                </a:cubicBezTo>
                <a:cubicBezTo>
                  <a:pt x="12816" y="8301"/>
                  <a:pt x="12832" y="8268"/>
                  <a:pt x="12849" y="8235"/>
                </a:cubicBezTo>
              </a:path>
              <a:path w="1787" h="1067">
                <a:moveTo>
                  <a:pt x="13370" y="7491"/>
                </a:moveTo>
                <a:cubicBezTo>
                  <a:pt x="13311" y="7597"/>
                  <a:pt x="13265" y="7700"/>
                  <a:pt x="13221" y="7813"/>
                </a:cubicBezTo>
                <a:cubicBezTo>
                  <a:pt x="13194" y="7882"/>
                  <a:pt x="13196" y="7940"/>
                  <a:pt x="13196" y="8012"/>
                </a:cubicBezTo>
                <a:cubicBezTo>
                  <a:pt x="13196" y="8055"/>
                  <a:pt x="13229" y="8104"/>
                  <a:pt x="13271" y="8111"/>
                </a:cubicBezTo>
                <a:cubicBezTo>
                  <a:pt x="13391" y="8130"/>
                  <a:pt x="13440" y="8097"/>
                  <a:pt x="13519" y="8037"/>
                </a:cubicBezTo>
                <a:cubicBezTo>
                  <a:pt x="13571" y="7998"/>
                  <a:pt x="13594" y="7995"/>
                  <a:pt x="13618" y="7938"/>
                </a:cubicBezTo>
                <a:cubicBezTo>
                  <a:pt x="13640" y="7887"/>
                  <a:pt x="13704" y="7817"/>
                  <a:pt x="13643" y="7764"/>
                </a:cubicBezTo>
                <a:cubicBezTo>
                  <a:pt x="13612" y="7737"/>
                  <a:pt x="13528" y="7727"/>
                  <a:pt x="13494" y="7764"/>
                </a:cubicBezTo>
                <a:cubicBezTo>
                  <a:pt x="13436" y="7826"/>
                  <a:pt x="13444" y="7910"/>
                  <a:pt x="13444" y="7987"/>
                </a:cubicBezTo>
                <a:cubicBezTo>
                  <a:pt x="13444" y="8030"/>
                  <a:pt x="13434" y="8025"/>
                  <a:pt x="13469" y="80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62120" y="3867120"/>
            <a:ext cx="312840" cy="276120"/>
          </a:xfrm>
          <a:custGeom>
            <a:avLst/>
            <a:gdLst/>
            <a:ahLst/>
            <a:rect l="l" t="t" r="r" b="b"/>
            <a:pathLst>
              <a:path w="869" h="770">
                <a:moveTo>
                  <a:pt x="7541" y="10790"/>
                </a:moveTo>
                <a:cubicBezTo>
                  <a:pt x="7541" y="10661"/>
                  <a:pt x="7354" y="10762"/>
                  <a:pt x="7293" y="10790"/>
                </a:cubicBezTo>
                <a:cubicBezTo>
                  <a:pt x="7188" y="10853"/>
                  <a:pt x="7153" y="10857"/>
                  <a:pt x="7144" y="10939"/>
                </a:cubicBezTo>
                <a:cubicBezTo>
                  <a:pt x="7265" y="11052"/>
                  <a:pt x="7534" y="11188"/>
                  <a:pt x="7441" y="11385"/>
                </a:cubicBezTo>
                <a:cubicBezTo>
                  <a:pt x="7369" y="11537"/>
                  <a:pt x="7244" y="11499"/>
                  <a:pt x="7119" y="11485"/>
                </a:cubicBezTo>
                <a:cubicBezTo>
                  <a:pt x="7165" y="11325"/>
                  <a:pt x="7323" y="11228"/>
                  <a:pt x="7441" y="11112"/>
                </a:cubicBezTo>
                <a:cubicBezTo>
                  <a:pt x="7463" y="11091"/>
                  <a:pt x="7613" y="10988"/>
                  <a:pt x="7541" y="10964"/>
                </a:cubicBezTo>
              </a:path>
              <a:path w="869" h="770">
                <a:moveTo>
                  <a:pt x="7987" y="10765"/>
                </a:moveTo>
                <a:cubicBezTo>
                  <a:pt x="7961" y="11003"/>
                  <a:pt x="7887" y="11228"/>
                  <a:pt x="7838" y="11460"/>
                </a:cubicBezTo>
                <a:cubicBezTo>
                  <a:pt x="7838" y="11476"/>
                  <a:pt x="7838" y="11493"/>
                  <a:pt x="7838" y="115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59080" y="3902040"/>
            <a:ext cx="285840" cy="223920"/>
          </a:xfrm>
          <a:custGeom>
            <a:avLst/>
            <a:gdLst/>
            <a:ahLst/>
            <a:rect l="l" t="t" r="r" b="b"/>
            <a:pathLst>
              <a:path w="794" h="621">
                <a:moveTo>
                  <a:pt x="9376" y="10840"/>
                </a:moveTo>
                <a:cubicBezTo>
                  <a:pt x="9319" y="11024"/>
                  <a:pt x="9327" y="11222"/>
                  <a:pt x="9277" y="11410"/>
                </a:cubicBezTo>
                <a:cubicBezTo>
                  <a:pt x="9257" y="11451"/>
                  <a:pt x="9248" y="11478"/>
                  <a:pt x="9252" y="11435"/>
                </a:cubicBezTo>
              </a:path>
              <a:path w="794" h="621">
                <a:moveTo>
                  <a:pt x="9302" y="11112"/>
                </a:moveTo>
                <a:cubicBezTo>
                  <a:pt x="9457" y="11100"/>
                  <a:pt x="9595" y="11088"/>
                  <a:pt x="9748" y="11088"/>
                </a:cubicBezTo>
                <a:cubicBezTo>
                  <a:pt x="9693" y="11198"/>
                  <a:pt x="9648" y="11293"/>
                  <a:pt x="9624" y="11410"/>
                </a:cubicBezTo>
                <a:cubicBezTo>
                  <a:pt x="9774" y="11396"/>
                  <a:pt x="9914" y="11354"/>
                  <a:pt x="9823" y="11162"/>
                </a:cubicBezTo>
                <a:cubicBezTo>
                  <a:pt x="9783" y="11079"/>
                  <a:pt x="9759" y="11088"/>
                  <a:pt x="9699" y="11088"/>
                </a:cubicBezTo>
              </a:path>
              <a:path w="794" h="621">
                <a:moveTo>
                  <a:pt x="9054" y="11088"/>
                </a:moveTo>
                <a:cubicBezTo>
                  <a:pt x="9166" y="11088"/>
                  <a:pt x="9266" y="11098"/>
                  <a:pt x="9376" y="11112"/>
                </a:cubicBezTo>
                <a:cubicBezTo>
                  <a:pt x="9384" y="11112"/>
                  <a:pt x="9393" y="11112"/>
                  <a:pt x="9401" y="111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741840" y="3830760"/>
            <a:ext cx="509400" cy="312480"/>
          </a:xfrm>
          <a:custGeom>
            <a:avLst/>
            <a:gdLst/>
            <a:ahLst/>
            <a:rect l="l" t="t" r="r" b="b"/>
            <a:pathLst>
              <a:path w="1415" h="869">
                <a:moveTo>
                  <a:pt x="10716" y="10790"/>
                </a:moveTo>
                <a:cubicBezTo>
                  <a:pt x="10616" y="11027"/>
                  <a:pt x="10536" y="11293"/>
                  <a:pt x="10393" y="11509"/>
                </a:cubicBezTo>
                <a:cubicBezTo>
                  <a:pt x="10393" y="11501"/>
                  <a:pt x="10393" y="11493"/>
                  <a:pt x="10393" y="11485"/>
                </a:cubicBezTo>
              </a:path>
              <a:path w="1415" h="869">
                <a:moveTo>
                  <a:pt x="11212" y="10815"/>
                </a:moveTo>
                <a:cubicBezTo>
                  <a:pt x="11055" y="10957"/>
                  <a:pt x="10960" y="11115"/>
                  <a:pt x="10889" y="11311"/>
                </a:cubicBezTo>
                <a:cubicBezTo>
                  <a:pt x="11057" y="11322"/>
                  <a:pt x="11353" y="11204"/>
                  <a:pt x="11311" y="10964"/>
                </a:cubicBezTo>
                <a:cubicBezTo>
                  <a:pt x="11229" y="10881"/>
                  <a:pt x="11212" y="10864"/>
                  <a:pt x="11162" y="10815"/>
                </a:cubicBezTo>
              </a:path>
              <a:path w="1415" h="869">
                <a:moveTo>
                  <a:pt x="11807" y="10641"/>
                </a:moveTo>
                <a:cubicBezTo>
                  <a:pt x="11666" y="10694"/>
                  <a:pt x="11501" y="10749"/>
                  <a:pt x="11584" y="10939"/>
                </a:cubicBezTo>
                <a:cubicBezTo>
                  <a:pt x="11695" y="11193"/>
                  <a:pt x="11772" y="11269"/>
                  <a:pt x="11534" y="11460"/>
                </a:cubicBezTo>
                <a:cubicBezTo>
                  <a:pt x="11492" y="11215"/>
                  <a:pt x="11639" y="11077"/>
                  <a:pt x="11782" y="10864"/>
                </a:cubicBezTo>
                <a:cubicBezTo>
                  <a:pt x="11814" y="10801"/>
                  <a:pt x="11807" y="10781"/>
                  <a:pt x="11708" y="107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88960" y="4143240"/>
            <a:ext cx="331920" cy="615960"/>
          </a:xfrm>
          <a:custGeom>
            <a:avLst/>
            <a:gdLst/>
            <a:ahLst/>
            <a:rect l="l" t="t" r="r" b="b"/>
            <a:pathLst>
              <a:path w="919" h="1713">
                <a:moveTo>
                  <a:pt x="2307" y="11559"/>
                </a:moveTo>
                <a:cubicBezTo>
                  <a:pt x="2390" y="11545"/>
                  <a:pt x="2470" y="11518"/>
                  <a:pt x="2555" y="11509"/>
                </a:cubicBezTo>
                <a:cubicBezTo>
                  <a:pt x="2555" y="11632"/>
                  <a:pt x="2516" y="11693"/>
                  <a:pt x="2406" y="11757"/>
                </a:cubicBezTo>
                <a:cubicBezTo>
                  <a:pt x="2398" y="11757"/>
                  <a:pt x="2389" y="11757"/>
                  <a:pt x="2381" y="11757"/>
                </a:cubicBezTo>
                <a:cubicBezTo>
                  <a:pt x="2462" y="11757"/>
                  <a:pt x="2545" y="11765"/>
                  <a:pt x="2505" y="11881"/>
                </a:cubicBezTo>
                <a:cubicBezTo>
                  <a:pt x="2462" y="12009"/>
                  <a:pt x="2219" y="12050"/>
                  <a:pt x="2108" y="12005"/>
                </a:cubicBezTo>
                <a:cubicBezTo>
                  <a:pt x="2108" y="11997"/>
                  <a:pt x="2108" y="11989"/>
                  <a:pt x="2108" y="11981"/>
                </a:cubicBezTo>
              </a:path>
              <a:path w="919" h="1713">
                <a:moveTo>
                  <a:pt x="1637" y="12254"/>
                </a:moveTo>
                <a:cubicBezTo>
                  <a:pt x="1893" y="12254"/>
                  <a:pt x="2150" y="12254"/>
                  <a:pt x="2406" y="12254"/>
                </a:cubicBezTo>
              </a:path>
              <a:path w="919" h="1713">
                <a:moveTo>
                  <a:pt x="1786" y="12601"/>
                </a:moveTo>
                <a:cubicBezTo>
                  <a:pt x="1796" y="12699"/>
                  <a:pt x="1762" y="12749"/>
                  <a:pt x="1712" y="12849"/>
                </a:cubicBezTo>
                <a:cubicBezTo>
                  <a:pt x="1821" y="12865"/>
                  <a:pt x="1899" y="12859"/>
                  <a:pt x="2009" y="12849"/>
                </a:cubicBezTo>
              </a:path>
              <a:path w="919" h="1713">
                <a:moveTo>
                  <a:pt x="2059" y="12626"/>
                </a:moveTo>
                <a:cubicBezTo>
                  <a:pt x="2039" y="12782"/>
                  <a:pt x="1979" y="12921"/>
                  <a:pt x="1935" y="13072"/>
                </a:cubicBezTo>
                <a:cubicBezTo>
                  <a:pt x="1915" y="13140"/>
                  <a:pt x="1910" y="13162"/>
                  <a:pt x="1910" y="132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Students will find equivalent ratios.</a:t>
            </a:r>
            <a:br>
              <a:rPr sz="24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lating Rat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to B is 3 to 4  and B to C is 2 to 3 what is the sum of A, B and 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to B is 8 to 9  and B to C is 3 to 4 what is the average of A, B and 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1598760" y="3411360"/>
            <a:ext cx="2751120" cy="88920"/>
          </a:xfrm>
          <a:custGeom>
            <a:avLst/>
            <a:gdLst/>
            <a:ahLst/>
            <a:rect l="l" t="t" r="r" b="b"/>
            <a:pathLst>
              <a:path w="7641" h="249">
                <a:moveTo>
                  <a:pt x="4440" y="9550"/>
                </a:moveTo>
                <a:cubicBezTo>
                  <a:pt x="4485" y="9540"/>
                  <a:pt x="4761" y="9423"/>
                  <a:pt x="4812" y="9475"/>
                </a:cubicBezTo>
                <a:cubicBezTo>
                  <a:pt x="4804" y="9492"/>
                  <a:pt x="4795" y="9508"/>
                  <a:pt x="4787" y="9525"/>
                </a:cubicBezTo>
              </a:path>
              <a:path w="7641" h="249">
                <a:moveTo>
                  <a:pt x="4465" y="9723"/>
                </a:moveTo>
                <a:cubicBezTo>
                  <a:pt x="4590" y="9687"/>
                  <a:pt x="4712" y="9657"/>
                  <a:pt x="4837" y="9624"/>
                </a:cubicBezTo>
              </a:path>
              <a:path w="7641" h="249">
                <a:moveTo>
                  <a:pt x="11807" y="9475"/>
                </a:moveTo>
                <a:cubicBezTo>
                  <a:pt x="11902" y="9480"/>
                  <a:pt x="11987" y="9491"/>
                  <a:pt x="12080" y="95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062000" y="3054240"/>
            <a:ext cx="438120" cy="785880"/>
          </a:xfrm>
          <a:custGeom>
            <a:avLst/>
            <a:gdLst/>
            <a:ahLst/>
            <a:rect l="l" t="t" r="r" b="b"/>
            <a:pathLst>
              <a:path w="1216" h="2184">
                <a:moveTo>
                  <a:pt x="3274" y="8806"/>
                </a:moveTo>
                <a:cubicBezTo>
                  <a:pt x="3262" y="8999"/>
                  <a:pt x="3241" y="9121"/>
                  <a:pt x="3175" y="9302"/>
                </a:cubicBezTo>
                <a:cubicBezTo>
                  <a:pt x="3175" y="9423"/>
                  <a:pt x="3231" y="9117"/>
                  <a:pt x="3274" y="9004"/>
                </a:cubicBezTo>
                <a:cubicBezTo>
                  <a:pt x="3346" y="8816"/>
                  <a:pt x="3421" y="8551"/>
                  <a:pt x="3621" y="8483"/>
                </a:cubicBezTo>
                <a:cubicBezTo>
                  <a:pt x="3783" y="8667"/>
                  <a:pt x="3795" y="8846"/>
                  <a:pt x="3770" y="9103"/>
                </a:cubicBezTo>
                <a:cubicBezTo>
                  <a:pt x="3751" y="9181"/>
                  <a:pt x="3760" y="9198"/>
                  <a:pt x="3721" y="9227"/>
                </a:cubicBezTo>
              </a:path>
              <a:path w="1216" h="2184">
                <a:moveTo>
                  <a:pt x="3274" y="9029"/>
                </a:moveTo>
                <a:cubicBezTo>
                  <a:pt x="3466" y="8992"/>
                  <a:pt x="3655" y="8957"/>
                  <a:pt x="3845" y="8930"/>
                </a:cubicBezTo>
                <a:cubicBezTo>
                  <a:pt x="3870" y="8930"/>
                  <a:pt x="3878" y="8930"/>
                  <a:pt x="3870" y="8954"/>
                </a:cubicBezTo>
              </a:path>
              <a:path w="1216" h="2184">
                <a:moveTo>
                  <a:pt x="2952" y="9649"/>
                </a:moveTo>
                <a:cubicBezTo>
                  <a:pt x="3237" y="9566"/>
                  <a:pt x="3545" y="9518"/>
                  <a:pt x="3845" y="9500"/>
                </a:cubicBezTo>
                <a:cubicBezTo>
                  <a:pt x="3926" y="9495"/>
                  <a:pt x="4115" y="9493"/>
                  <a:pt x="4167" y="9525"/>
                </a:cubicBezTo>
              </a:path>
              <a:path w="1216" h="2184">
                <a:moveTo>
                  <a:pt x="3349" y="10096"/>
                </a:moveTo>
                <a:cubicBezTo>
                  <a:pt x="3387" y="10266"/>
                  <a:pt x="3416" y="10391"/>
                  <a:pt x="3373" y="10567"/>
                </a:cubicBezTo>
                <a:cubicBezTo>
                  <a:pt x="3358" y="10628"/>
                  <a:pt x="3349" y="10688"/>
                  <a:pt x="3349" y="10567"/>
                </a:cubicBezTo>
              </a:path>
              <a:path w="1216" h="2184">
                <a:moveTo>
                  <a:pt x="3051" y="10071"/>
                </a:moveTo>
                <a:cubicBezTo>
                  <a:pt x="3215" y="9988"/>
                  <a:pt x="3446" y="9889"/>
                  <a:pt x="3621" y="10021"/>
                </a:cubicBezTo>
                <a:cubicBezTo>
                  <a:pt x="3748" y="10117"/>
                  <a:pt x="3488" y="10281"/>
                  <a:pt x="3448" y="10319"/>
                </a:cubicBezTo>
                <a:cubicBezTo>
                  <a:pt x="3423" y="10327"/>
                  <a:pt x="3398" y="10336"/>
                  <a:pt x="3373" y="10344"/>
                </a:cubicBezTo>
                <a:cubicBezTo>
                  <a:pt x="3456" y="10275"/>
                  <a:pt x="3635" y="10195"/>
                  <a:pt x="3721" y="10319"/>
                </a:cubicBezTo>
                <a:cubicBezTo>
                  <a:pt x="3847" y="10500"/>
                  <a:pt x="3465" y="10646"/>
                  <a:pt x="3373" y="10666"/>
                </a:cubicBezTo>
                <a:cubicBezTo>
                  <a:pt x="3216" y="10700"/>
                  <a:pt x="3258" y="10661"/>
                  <a:pt x="3274" y="105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55880" y="2598840"/>
            <a:ext cx="706320" cy="1224000"/>
          </a:xfrm>
          <a:custGeom>
            <a:avLst/>
            <a:gdLst/>
            <a:ahLst/>
            <a:rect l="l" t="t" r="r" b="b"/>
            <a:pathLst>
              <a:path w="1961" h="3399">
                <a:moveTo>
                  <a:pt x="5779" y="8806"/>
                </a:moveTo>
                <a:cubicBezTo>
                  <a:pt x="5884" y="8780"/>
                  <a:pt x="5958" y="8724"/>
                  <a:pt x="6077" y="8706"/>
                </a:cubicBezTo>
                <a:cubicBezTo>
                  <a:pt x="6129" y="8886"/>
                  <a:pt x="6057" y="8935"/>
                  <a:pt x="5904" y="9054"/>
                </a:cubicBezTo>
                <a:cubicBezTo>
                  <a:pt x="5867" y="9054"/>
                  <a:pt x="6088" y="9044"/>
                  <a:pt x="6127" y="9054"/>
                </a:cubicBezTo>
                <a:cubicBezTo>
                  <a:pt x="6168" y="9070"/>
                  <a:pt x="6210" y="9087"/>
                  <a:pt x="6251" y="9103"/>
                </a:cubicBezTo>
                <a:cubicBezTo>
                  <a:pt x="6237" y="9344"/>
                  <a:pt x="6088" y="9432"/>
                  <a:pt x="5829" y="9426"/>
                </a:cubicBezTo>
                <a:cubicBezTo>
                  <a:pt x="5741" y="9424"/>
                  <a:pt x="5794" y="9372"/>
                  <a:pt x="5879" y="9351"/>
                </a:cubicBezTo>
              </a:path>
              <a:path w="1961" h="3399">
                <a:moveTo>
                  <a:pt x="5432" y="9575"/>
                </a:moveTo>
                <a:cubicBezTo>
                  <a:pt x="5735" y="9541"/>
                  <a:pt x="6017" y="9482"/>
                  <a:pt x="6325" y="9475"/>
                </a:cubicBezTo>
                <a:cubicBezTo>
                  <a:pt x="6480" y="9471"/>
                  <a:pt x="6502" y="9480"/>
                  <a:pt x="6623" y="9500"/>
                </a:cubicBezTo>
              </a:path>
              <a:path w="1961" h="3399">
                <a:moveTo>
                  <a:pt x="5829" y="9872"/>
                </a:moveTo>
                <a:cubicBezTo>
                  <a:pt x="5829" y="9955"/>
                  <a:pt x="5786" y="10037"/>
                  <a:pt x="5804" y="10120"/>
                </a:cubicBezTo>
                <a:cubicBezTo>
                  <a:pt x="5836" y="10271"/>
                  <a:pt x="6169" y="10160"/>
                  <a:pt x="6251" y="10145"/>
                </a:cubicBezTo>
              </a:path>
              <a:path w="1961" h="3399">
                <a:moveTo>
                  <a:pt x="6226" y="9798"/>
                </a:moveTo>
                <a:cubicBezTo>
                  <a:pt x="6131" y="9949"/>
                  <a:pt x="6087" y="10223"/>
                  <a:pt x="6028" y="10418"/>
                </a:cubicBezTo>
                <a:cubicBezTo>
                  <a:pt x="5989" y="10533"/>
                  <a:pt x="5973" y="10546"/>
                  <a:pt x="5978" y="10616"/>
                </a:cubicBezTo>
              </a:path>
              <a:path w="1961" h="3399">
                <a:moveTo>
                  <a:pt x="5755" y="7317"/>
                </a:moveTo>
                <a:cubicBezTo>
                  <a:pt x="5829" y="7274"/>
                  <a:pt x="5892" y="7247"/>
                  <a:pt x="6003" y="7243"/>
                </a:cubicBezTo>
                <a:cubicBezTo>
                  <a:pt x="6360" y="7231"/>
                  <a:pt x="6715" y="7242"/>
                  <a:pt x="7069" y="7218"/>
                </a:cubicBezTo>
                <a:cubicBezTo>
                  <a:pt x="7105" y="7216"/>
                  <a:pt x="7432" y="7198"/>
                  <a:pt x="7367" y="7243"/>
                </a:cubicBezTo>
                <a:cubicBezTo>
                  <a:pt x="7334" y="7260"/>
                  <a:pt x="7301" y="7276"/>
                  <a:pt x="7268" y="7293"/>
                </a:cubicBezTo>
              </a:path>
              <a:path w="1961" h="3399">
                <a:moveTo>
                  <a:pt x="6028" y="7665"/>
                </a:moveTo>
                <a:cubicBezTo>
                  <a:pt x="6257" y="7637"/>
                  <a:pt x="6517" y="7608"/>
                  <a:pt x="6747" y="7615"/>
                </a:cubicBezTo>
                <a:cubicBezTo>
                  <a:pt x="6907" y="7620"/>
                  <a:pt x="7058" y="7684"/>
                  <a:pt x="7218" y="7689"/>
                </a:cubicBezTo>
                <a:cubicBezTo>
                  <a:pt x="7259" y="7690"/>
                  <a:pt x="7301" y="7689"/>
                  <a:pt x="7342" y="76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652920" y="2089080"/>
            <a:ext cx="2106360" cy="1741680"/>
          </a:xfrm>
          <a:custGeom>
            <a:avLst/>
            <a:gdLst/>
            <a:ahLst/>
            <a:rect l="l" t="t" r="r" b="b"/>
            <a:pathLst>
              <a:path w="5855" h="4838">
                <a:moveTo>
                  <a:pt x="13146" y="5953"/>
                </a:moveTo>
                <a:cubicBezTo>
                  <a:pt x="13251" y="5946"/>
                  <a:pt x="13339" y="5914"/>
                  <a:pt x="13444" y="5904"/>
                </a:cubicBezTo>
                <a:cubicBezTo>
                  <a:pt x="13583" y="5891"/>
                  <a:pt x="13727" y="5884"/>
                  <a:pt x="13866" y="5879"/>
                </a:cubicBezTo>
                <a:cubicBezTo>
                  <a:pt x="14180" y="5869"/>
                  <a:pt x="14500" y="5875"/>
                  <a:pt x="14808" y="5904"/>
                </a:cubicBezTo>
                <a:cubicBezTo>
                  <a:pt x="14992" y="5921"/>
                  <a:pt x="15172" y="5889"/>
                  <a:pt x="15354" y="5879"/>
                </a:cubicBezTo>
                <a:cubicBezTo>
                  <a:pt x="15530" y="5870"/>
                  <a:pt x="15702" y="5845"/>
                  <a:pt x="15875" y="5829"/>
                </a:cubicBezTo>
                <a:cubicBezTo>
                  <a:pt x="15975" y="5820"/>
                  <a:pt x="15945" y="5814"/>
                  <a:pt x="15999" y="5829"/>
                </a:cubicBezTo>
              </a:path>
              <a:path w="5855" h="4838">
                <a:moveTo>
                  <a:pt x="10641" y="9004"/>
                </a:moveTo>
                <a:cubicBezTo>
                  <a:pt x="10658" y="9166"/>
                  <a:pt x="10697" y="9352"/>
                  <a:pt x="10641" y="9500"/>
                </a:cubicBezTo>
              </a:path>
              <a:path w="5855" h="4838">
                <a:moveTo>
                  <a:pt x="10319" y="9004"/>
                </a:moveTo>
                <a:cubicBezTo>
                  <a:pt x="10403" y="8981"/>
                  <a:pt x="10889" y="8840"/>
                  <a:pt x="10790" y="9079"/>
                </a:cubicBezTo>
                <a:cubicBezTo>
                  <a:pt x="10723" y="9169"/>
                  <a:pt x="10708" y="9196"/>
                  <a:pt x="10641" y="9227"/>
                </a:cubicBezTo>
                <a:cubicBezTo>
                  <a:pt x="10808" y="9200"/>
                  <a:pt x="10885" y="9232"/>
                  <a:pt x="11038" y="9302"/>
                </a:cubicBezTo>
                <a:cubicBezTo>
                  <a:pt x="10984" y="9374"/>
                  <a:pt x="10671" y="9716"/>
                  <a:pt x="10567" y="9500"/>
                </a:cubicBezTo>
                <a:cubicBezTo>
                  <a:pt x="10583" y="9475"/>
                  <a:pt x="10600" y="9451"/>
                  <a:pt x="10616" y="9426"/>
                </a:cubicBezTo>
              </a:path>
              <a:path w="5855" h="4838">
                <a:moveTo>
                  <a:pt x="10145" y="9699"/>
                </a:moveTo>
                <a:cubicBezTo>
                  <a:pt x="10468" y="9671"/>
                  <a:pt x="10787" y="9602"/>
                  <a:pt x="11112" y="9575"/>
                </a:cubicBezTo>
                <a:cubicBezTo>
                  <a:pt x="11174" y="9575"/>
                  <a:pt x="11208" y="9566"/>
                  <a:pt x="11162" y="9599"/>
                </a:cubicBezTo>
              </a:path>
              <a:path w="5855" h="4838">
                <a:moveTo>
                  <a:pt x="10716" y="9947"/>
                </a:moveTo>
                <a:cubicBezTo>
                  <a:pt x="10737" y="9990"/>
                  <a:pt x="10741" y="10002"/>
                  <a:pt x="10765" y="10021"/>
                </a:cubicBezTo>
                <a:cubicBezTo>
                  <a:pt x="10681" y="9908"/>
                  <a:pt x="10536" y="10019"/>
                  <a:pt x="10468" y="10120"/>
                </a:cubicBezTo>
                <a:cubicBezTo>
                  <a:pt x="10270" y="10416"/>
                  <a:pt x="10517" y="10528"/>
                  <a:pt x="10790" y="10468"/>
                </a:cubicBezTo>
                <a:cubicBezTo>
                  <a:pt x="10923" y="10411"/>
                  <a:pt x="10941" y="10406"/>
                  <a:pt x="11013" y="10368"/>
                </a:cubicBezTo>
              </a:path>
              <a:path w="5855" h="4838">
                <a:moveTo>
                  <a:pt x="11757" y="9723"/>
                </a:moveTo>
                <a:cubicBezTo>
                  <a:pt x="11862" y="9723"/>
                  <a:pt x="11952" y="9717"/>
                  <a:pt x="12055" y="9699"/>
                </a:cubicBezTo>
              </a:path>
              <a:path w="5855" h="4838">
                <a:moveTo>
                  <a:pt x="12700" y="9079"/>
                </a:moveTo>
                <a:cubicBezTo>
                  <a:pt x="12830" y="9069"/>
                  <a:pt x="13082" y="9144"/>
                  <a:pt x="13022" y="9351"/>
                </a:cubicBezTo>
                <a:cubicBezTo>
                  <a:pt x="12963" y="9556"/>
                  <a:pt x="12725" y="9589"/>
                  <a:pt x="12626" y="9475"/>
                </a:cubicBezTo>
                <a:cubicBezTo>
                  <a:pt x="12716" y="9370"/>
                  <a:pt x="12840" y="9405"/>
                  <a:pt x="12973" y="9451"/>
                </a:cubicBezTo>
                <a:cubicBezTo>
                  <a:pt x="13051" y="9478"/>
                  <a:pt x="13072" y="9500"/>
                  <a:pt x="13122" y="9550"/>
                </a:cubicBezTo>
              </a:path>
              <a:path w="5855" h="4838">
                <a:moveTo>
                  <a:pt x="12576" y="9723"/>
                </a:moveTo>
                <a:cubicBezTo>
                  <a:pt x="12792" y="9687"/>
                  <a:pt x="13013" y="9686"/>
                  <a:pt x="13221" y="9649"/>
                </a:cubicBezTo>
                <a:cubicBezTo>
                  <a:pt x="13229" y="9649"/>
                  <a:pt x="13238" y="9649"/>
                  <a:pt x="13246" y="9649"/>
                </a:cubicBezTo>
              </a:path>
              <a:path w="5855" h="4838">
                <a:moveTo>
                  <a:pt x="12576" y="10071"/>
                </a:moveTo>
                <a:cubicBezTo>
                  <a:pt x="12712" y="10032"/>
                  <a:pt x="12793" y="10006"/>
                  <a:pt x="12923" y="10071"/>
                </a:cubicBezTo>
                <a:cubicBezTo>
                  <a:pt x="12840" y="10195"/>
                  <a:pt x="12770" y="10233"/>
                  <a:pt x="12650" y="10319"/>
                </a:cubicBezTo>
                <a:cubicBezTo>
                  <a:pt x="12707" y="10281"/>
                  <a:pt x="12862" y="10216"/>
                  <a:pt x="12923" y="10294"/>
                </a:cubicBezTo>
                <a:cubicBezTo>
                  <a:pt x="12931" y="10327"/>
                  <a:pt x="12940" y="10360"/>
                  <a:pt x="12948" y="10393"/>
                </a:cubicBezTo>
                <a:cubicBezTo>
                  <a:pt x="12809" y="10512"/>
                  <a:pt x="12704" y="10510"/>
                  <a:pt x="12526" y="10517"/>
                </a:cubicBezTo>
                <a:cubicBezTo>
                  <a:pt x="12518" y="10517"/>
                  <a:pt x="12510" y="10517"/>
                  <a:pt x="12502" y="10517"/>
                </a:cubicBezTo>
              </a:path>
              <a:path w="5855" h="4838">
                <a:moveTo>
                  <a:pt x="13543" y="9674"/>
                </a:moveTo>
                <a:cubicBezTo>
                  <a:pt x="13605" y="9662"/>
                  <a:pt x="13650" y="9649"/>
                  <a:pt x="13717" y="9649"/>
                </a:cubicBezTo>
                <a:cubicBezTo>
                  <a:pt x="13791" y="9649"/>
                  <a:pt x="13816" y="9649"/>
                  <a:pt x="13866" y="9649"/>
                </a:cubicBezTo>
              </a:path>
              <a:path w="5855" h="4838">
                <a:moveTo>
                  <a:pt x="13643" y="9872"/>
                </a:moveTo>
                <a:cubicBezTo>
                  <a:pt x="13738" y="9872"/>
                  <a:pt x="13821" y="9857"/>
                  <a:pt x="13915" y="9847"/>
                </a:cubicBezTo>
                <a:cubicBezTo>
                  <a:pt x="13969" y="9841"/>
                  <a:pt x="13978" y="9836"/>
                  <a:pt x="13990" y="9872"/>
                </a:cubicBezTo>
              </a:path>
              <a:path w="5855" h="4838">
                <a:moveTo>
                  <a:pt x="14585" y="9128"/>
                </a:moveTo>
                <a:cubicBezTo>
                  <a:pt x="14632" y="9159"/>
                  <a:pt x="14597" y="9192"/>
                  <a:pt x="14585" y="9252"/>
                </a:cubicBezTo>
                <a:cubicBezTo>
                  <a:pt x="14708" y="9252"/>
                  <a:pt x="14793" y="9233"/>
                  <a:pt x="14908" y="9203"/>
                </a:cubicBezTo>
                <a:cubicBezTo>
                  <a:pt x="14916" y="9203"/>
                  <a:pt x="14924" y="9203"/>
                  <a:pt x="14932" y="9203"/>
                </a:cubicBezTo>
              </a:path>
              <a:path w="5855" h="4838">
                <a:moveTo>
                  <a:pt x="14858" y="8855"/>
                </a:moveTo>
                <a:cubicBezTo>
                  <a:pt x="14877" y="9008"/>
                  <a:pt x="14908" y="9170"/>
                  <a:pt x="14932" y="9327"/>
                </a:cubicBezTo>
                <a:cubicBezTo>
                  <a:pt x="14946" y="9418"/>
                  <a:pt x="14957" y="9487"/>
                  <a:pt x="14957" y="9575"/>
                </a:cubicBezTo>
              </a:path>
              <a:path w="5855" h="4838">
                <a:moveTo>
                  <a:pt x="14412" y="9798"/>
                </a:moveTo>
                <a:cubicBezTo>
                  <a:pt x="14653" y="9710"/>
                  <a:pt x="14878" y="9685"/>
                  <a:pt x="15131" y="9649"/>
                </a:cubicBezTo>
                <a:cubicBezTo>
                  <a:pt x="15246" y="9632"/>
                  <a:pt x="15275" y="9601"/>
                  <a:pt x="15354" y="9649"/>
                </a:cubicBezTo>
              </a:path>
              <a:path w="5855" h="4838">
                <a:moveTo>
                  <a:pt x="14461" y="8954"/>
                </a:moveTo>
                <a:cubicBezTo>
                  <a:pt x="14461" y="8889"/>
                  <a:pt x="14484" y="9096"/>
                  <a:pt x="14486" y="9128"/>
                </a:cubicBezTo>
                <a:cubicBezTo>
                  <a:pt x="14486" y="9156"/>
                  <a:pt x="14488" y="9167"/>
                  <a:pt x="14511" y="9178"/>
                </a:cubicBezTo>
              </a:path>
              <a:path w="5855" h="4838">
                <a:moveTo>
                  <a:pt x="13097" y="8954"/>
                </a:moveTo>
                <a:cubicBezTo>
                  <a:pt x="13072" y="8954"/>
                  <a:pt x="13064" y="8954"/>
                  <a:pt x="13072" y="8930"/>
                </a:cubicBezTo>
                <a:cubicBezTo>
                  <a:pt x="13096" y="8978"/>
                  <a:pt x="13135" y="9047"/>
                  <a:pt x="13196" y="9054"/>
                </a:cubicBezTo>
                <a:cubicBezTo>
                  <a:pt x="13204" y="9054"/>
                  <a:pt x="13213" y="9054"/>
                  <a:pt x="13221" y="9054"/>
                </a:cubicBezTo>
                <a:cubicBezTo>
                  <a:pt x="13228" y="9075"/>
                  <a:pt x="13246" y="9120"/>
                  <a:pt x="13246" y="9079"/>
                </a:cubicBezTo>
              </a:path>
              <a:path w="5855" h="4838">
                <a:moveTo>
                  <a:pt x="13221" y="8905"/>
                </a:moveTo>
                <a:cubicBezTo>
                  <a:pt x="13213" y="8905"/>
                  <a:pt x="13204" y="8905"/>
                  <a:pt x="13196" y="8905"/>
                </a:cubicBezTo>
                <a:cubicBezTo>
                  <a:pt x="13196" y="8930"/>
                  <a:pt x="13196" y="8954"/>
                  <a:pt x="13196" y="8979"/>
                </a:cubicBezTo>
                <a:cubicBezTo>
                  <a:pt x="13141" y="8997"/>
                  <a:pt x="13194" y="9025"/>
                  <a:pt x="13171" y="9079"/>
                </a:cubicBezTo>
                <a:cubicBezTo>
                  <a:pt x="13153" y="9121"/>
                  <a:pt x="13146" y="9127"/>
                  <a:pt x="13146" y="9178"/>
                </a:cubicBezTo>
              </a:path>
              <a:path w="5855" h="4838">
                <a:moveTo>
                  <a:pt x="13419" y="8855"/>
                </a:moveTo>
                <a:cubicBezTo>
                  <a:pt x="13430" y="8810"/>
                  <a:pt x="13456" y="8775"/>
                  <a:pt x="13494" y="8756"/>
                </a:cubicBezTo>
                <a:cubicBezTo>
                  <a:pt x="13513" y="8889"/>
                  <a:pt x="13491" y="8907"/>
                  <a:pt x="13444" y="9029"/>
                </a:cubicBezTo>
                <a:cubicBezTo>
                  <a:pt x="13444" y="9037"/>
                  <a:pt x="13444" y="9046"/>
                  <a:pt x="13444" y="9054"/>
                </a:cubicBezTo>
                <a:cubicBezTo>
                  <a:pt x="13500" y="9029"/>
                  <a:pt x="13557" y="8991"/>
                  <a:pt x="13593" y="8979"/>
                </a:cubicBezTo>
              </a:path>
              <a:path w="5855" h="4838">
                <a:moveTo>
                  <a:pt x="13444" y="10393"/>
                </a:moveTo>
                <a:cubicBezTo>
                  <a:pt x="13432" y="10431"/>
                  <a:pt x="13374" y="10662"/>
                  <a:pt x="13395" y="10641"/>
                </a:cubicBezTo>
                <a:cubicBezTo>
                  <a:pt x="13411" y="10616"/>
                  <a:pt x="13428" y="10592"/>
                  <a:pt x="13444" y="10567"/>
                </a:cubicBezTo>
              </a:path>
              <a:path w="5855" h="4838">
                <a:moveTo>
                  <a:pt x="13593" y="10368"/>
                </a:moveTo>
                <a:cubicBezTo>
                  <a:pt x="13660" y="10346"/>
                  <a:pt x="13678" y="10335"/>
                  <a:pt x="13717" y="10368"/>
                </a:cubicBezTo>
                <a:cubicBezTo>
                  <a:pt x="13717" y="10478"/>
                  <a:pt x="13712" y="10519"/>
                  <a:pt x="13667" y="10616"/>
                </a:cubicBezTo>
                <a:cubicBezTo>
                  <a:pt x="13761" y="10608"/>
                  <a:pt x="13848" y="10589"/>
                  <a:pt x="13940" y="10567"/>
                </a:cubicBezTo>
              </a:path>
              <a:path w="5855" h="4838">
                <a:moveTo>
                  <a:pt x="14684" y="9947"/>
                </a:moveTo>
                <a:cubicBezTo>
                  <a:pt x="14665" y="10062"/>
                  <a:pt x="14654" y="10129"/>
                  <a:pt x="14660" y="10244"/>
                </a:cubicBezTo>
                <a:cubicBezTo>
                  <a:pt x="14666" y="10359"/>
                  <a:pt x="14679" y="10415"/>
                  <a:pt x="14808" y="10393"/>
                </a:cubicBezTo>
                <a:cubicBezTo>
                  <a:pt x="14882" y="10381"/>
                  <a:pt x="15107" y="10356"/>
                  <a:pt x="15156" y="10294"/>
                </a:cubicBezTo>
                <a:cubicBezTo>
                  <a:pt x="15187" y="10255"/>
                  <a:pt x="15205" y="10171"/>
                  <a:pt x="15205" y="10120"/>
                </a:cubicBezTo>
                <a:cubicBezTo>
                  <a:pt x="15093" y="10129"/>
                  <a:pt x="15035" y="10133"/>
                  <a:pt x="14982" y="10244"/>
                </a:cubicBezTo>
                <a:cubicBezTo>
                  <a:pt x="14971" y="10266"/>
                  <a:pt x="14957" y="10426"/>
                  <a:pt x="14957" y="10368"/>
                </a:cubicBezTo>
                <a:cubicBezTo>
                  <a:pt x="14957" y="10360"/>
                  <a:pt x="14957" y="10352"/>
                  <a:pt x="14957" y="103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286680" y="2125800"/>
            <a:ext cx="1116000" cy="54000"/>
          </a:xfrm>
          <a:custGeom>
            <a:avLst/>
            <a:gdLst/>
            <a:ahLst/>
            <a:rect l="l" t="t" r="r" b="b"/>
            <a:pathLst>
              <a:path w="3102" h="149">
                <a:moveTo>
                  <a:pt x="17462" y="6052"/>
                </a:moveTo>
                <a:cubicBezTo>
                  <a:pt x="17562" y="6034"/>
                  <a:pt x="17658" y="6040"/>
                  <a:pt x="17760" y="6028"/>
                </a:cubicBezTo>
                <a:cubicBezTo>
                  <a:pt x="17879" y="6013"/>
                  <a:pt x="17986" y="6003"/>
                  <a:pt x="18107" y="6003"/>
                </a:cubicBezTo>
                <a:cubicBezTo>
                  <a:pt x="18253" y="6003"/>
                  <a:pt x="18387" y="5990"/>
                  <a:pt x="18529" y="5978"/>
                </a:cubicBezTo>
                <a:cubicBezTo>
                  <a:pt x="18646" y="5968"/>
                  <a:pt x="18760" y="5957"/>
                  <a:pt x="18876" y="5953"/>
                </a:cubicBezTo>
                <a:cubicBezTo>
                  <a:pt x="18987" y="5949"/>
                  <a:pt x="19085" y="5928"/>
                  <a:pt x="19199" y="5928"/>
                </a:cubicBezTo>
                <a:cubicBezTo>
                  <a:pt x="19333" y="5928"/>
                  <a:pt x="19460" y="5904"/>
                  <a:pt x="19596" y="5904"/>
                </a:cubicBezTo>
                <a:cubicBezTo>
                  <a:pt x="19903" y="5904"/>
                  <a:pt x="20210" y="5896"/>
                  <a:pt x="20513" y="5928"/>
                </a:cubicBezTo>
                <a:cubicBezTo>
                  <a:pt x="20538" y="5928"/>
                  <a:pt x="20546" y="5928"/>
                  <a:pt x="20563" y="59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858080" y="3089160"/>
            <a:ext cx="162000" cy="349200"/>
          </a:xfrm>
          <a:custGeom>
            <a:avLst/>
            <a:gdLst/>
            <a:ahLst/>
            <a:rect l="l" t="t" r="r" b="b"/>
            <a:pathLst>
              <a:path w="448" h="969">
                <a:moveTo>
                  <a:pt x="21977" y="8781"/>
                </a:moveTo>
                <a:cubicBezTo>
                  <a:pt x="21977" y="8891"/>
                  <a:pt x="21929" y="8998"/>
                  <a:pt x="21853" y="9079"/>
                </a:cubicBezTo>
                <a:cubicBezTo>
                  <a:pt x="21845" y="9079"/>
                  <a:pt x="21836" y="9079"/>
                  <a:pt x="21828" y="9079"/>
                </a:cubicBezTo>
                <a:cubicBezTo>
                  <a:pt x="21982" y="9116"/>
                  <a:pt x="22096" y="9117"/>
                  <a:pt x="22250" y="9103"/>
                </a:cubicBezTo>
              </a:path>
              <a:path w="448" h="969">
                <a:moveTo>
                  <a:pt x="22275" y="8582"/>
                </a:moveTo>
                <a:cubicBezTo>
                  <a:pt x="22261" y="8829"/>
                  <a:pt x="22224" y="9061"/>
                  <a:pt x="22175" y="9302"/>
                </a:cubicBezTo>
                <a:cubicBezTo>
                  <a:pt x="22158" y="9384"/>
                  <a:pt x="22124" y="9629"/>
                  <a:pt x="22151" y="9550"/>
                </a:cubicBezTo>
                <a:cubicBezTo>
                  <a:pt x="22159" y="9517"/>
                  <a:pt x="22167" y="9484"/>
                  <a:pt x="22175" y="94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572240" y="3821040"/>
            <a:ext cx="635040" cy="590760"/>
          </a:xfrm>
          <a:custGeom>
            <a:avLst/>
            <a:gdLst/>
            <a:ahLst/>
            <a:rect l="l" t="t" r="r" b="b"/>
            <a:pathLst>
              <a:path w="1763" h="1639">
                <a:moveTo>
                  <a:pt x="21233" y="10666"/>
                </a:moveTo>
                <a:cubicBezTo>
                  <a:pt x="21253" y="10726"/>
                  <a:pt x="21345" y="10669"/>
                  <a:pt x="21406" y="10666"/>
                </a:cubicBezTo>
                <a:cubicBezTo>
                  <a:pt x="21753" y="10649"/>
                  <a:pt x="22101" y="10630"/>
                  <a:pt x="22448" y="10616"/>
                </a:cubicBezTo>
                <a:cubicBezTo>
                  <a:pt x="22513" y="10613"/>
                  <a:pt x="22581" y="10616"/>
                  <a:pt x="22647" y="10616"/>
                </a:cubicBezTo>
              </a:path>
              <a:path w="1763" h="1639">
                <a:moveTo>
                  <a:pt x="21481" y="11361"/>
                </a:moveTo>
                <a:cubicBezTo>
                  <a:pt x="21408" y="11336"/>
                  <a:pt x="21501" y="11684"/>
                  <a:pt x="21506" y="11757"/>
                </a:cubicBezTo>
                <a:cubicBezTo>
                  <a:pt x="21511" y="11840"/>
                  <a:pt x="21506" y="11956"/>
                  <a:pt x="21506" y="11956"/>
                </a:cubicBezTo>
              </a:path>
              <a:path w="1763" h="1639">
                <a:moveTo>
                  <a:pt x="21828" y="11410"/>
                </a:moveTo>
                <a:cubicBezTo>
                  <a:pt x="21851" y="11297"/>
                  <a:pt x="21928" y="11294"/>
                  <a:pt x="22027" y="11261"/>
                </a:cubicBezTo>
                <a:cubicBezTo>
                  <a:pt x="22089" y="11404"/>
                  <a:pt x="22079" y="11449"/>
                  <a:pt x="21977" y="11559"/>
                </a:cubicBezTo>
                <a:cubicBezTo>
                  <a:pt x="21969" y="11567"/>
                  <a:pt x="21960" y="11576"/>
                  <a:pt x="21952" y="11584"/>
                </a:cubicBezTo>
                <a:cubicBezTo>
                  <a:pt x="22036" y="11552"/>
                  <a:pt x="22183" y="11556"/>
                  <a:pt x="22200" y="11683"/>
                </a:cubicBezTo>
                <a:cubicBezTo>
                  <a:pt x="22224" y="11859"/>
                  <a:pt x="22055" y="11908"/>
                  <a:pt x="21927" y="11931"/>
                </a:cubicBezTo>
              </a:path>
              <a:path w="1763" h="1639">
                <a:moveTo>
                  <a:pt x="22399" y="11038"/>
                </a:moveTo>
                <a:cubicBezTo>
                  <a:pt x="22300" y="11000"/>
                  <a:pt x="22221" y="10968"/>
                  <a:pt x="22101" y="10964"/>
                </a:cubicBezTo>
                <a:cubicBezTo>
                  <a:pt x="21858" y="10955"/>
                  <a:pt x="21603" y="10946"/>
                  <a:pt x="21382" y="11063"/>
                </a:cubicBezTo>
                <a:cubicBezTo>
                  <a:pt x="21135" y="11194"/>
                  <a:pt x="21021" y="11357"/>
                  <a:pt x="21034" y="11633"/>
                </a:cubicBezTo>
                <a:cubicBezTo>
                  <a:pt x="21046" y="11869"/>
                  <a:pt x="21155" y="12083"/>
                  <a:pt x="21382" y="12179"/>
                </a:cubicBezTo>
                <a:cubicBezTo>
                  <a:pt x="21658" y="12295"/>
                  <a:pt x="22002" y="12283"/>
                  <a:pt x="22275" y="12179"/>
                </a:cubicBezTo>
                <a:cubicBezTo>
                  <a:pt x="22525" y="12084"/>
                  <a:pt x="22781" y="11891"/>
                  <a:pt x="22796" y="11609"/>
                </a:cubicBezTo>
                <a:cubicBezTo>
                  <a:pt x="22805" y="11437"/>
                  <a:pt x="22654" y="11231"/>
                  <a:pt x="22498" y="11162"/>
                </a:cubicBezTo>
                <a:cubicBezTo>
                  <a:pt x="22469" y="11149"/>
                  <a:pt x="22228" y="11088"/>
                  <a:pt x="22225" y="11088"/>
                </a:cubicBezTo>
                <a:cubicBezTo>
                  <a:pt x="22191" y="11090"/>
                  <a:pt x="22200" y="11107"/>
                  <a:pt x="22175" y="111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429680" y="5705640"/>
            <a:ext cx="884160" cy="715680"/>
          </a:xfrm>
          <a:custGeom>
            <a:avLst/>
            <a:gdLst/>
            <a:ahLst/>
            <a:rect l="l" t="t" r="r" b="b"/>
            <a:pathLst>
              <a:path w="2456" h="1986">
                <a:moveTo>
                  <a:pt x="20861" y="15925"/>
                </a:moveTo>
                <a:cubicBezTo>
                  <a:pt x="20838" y="16114"/>
                  <a:pt x="20801" y="16306"/>
                  <a:pt x="20786" y="16495"/>
                </a:cubicBezTo>
                <a:cubicBezTo>
                  <a:pt x="20786" y="16503"/>
                  <a:pt x="20786" y="16512"/>
                  <a:pt x="20786" y="16520"/>
                </a:cubicBezTo>
              </a:path>
              <a:path w="2456" h="1986">
                <a:moveTo>
                  <a:pt x="20638" y="15875"/>
                </a:moveTo>
                <a:cubicBezTo>
                  <a:pt x="20775" y="15858"/>
                  <a:pt x="21233" y="15755"/>
                  <a:pt x="21282" y="15949"/>
                </a:cubicBezTo>
                <a:cubicBezTo>
                  <a:pt x="21299" y="16019"/>
                  <a:pt x="21050" y="16061"/>
                  <a:pt x="21010" y="16073"/>
                </a:cubicBezTo>
                <a:cubicBezTo>
                  <a:pt x="21216" y="16073"/>
                  <a:pt x="21261" y="16096"/>
                  <a:pt x="21382" y="16247"/>
                </a:cubicBezTo>
                <a:cubicBezTo>
                  <a:pt x="21240" y="16408"/>
                  <a:pt x="21159" y="16451"/>
                  <a:pt x="20935" y="16421"/>
                </a:cubicBezTo>
              </a:path>
              <a:path w="2456" h="1986">
                <a:moveTo>
                  <a:pt x="21679" y="16123"/>
                </a:moveTo>
                <a:cubicBezTo>
                  <a:pt x="21837" y="16123"/>
                  <a:pt x="21937" y="16128"/>
                  <a:pt x="22076" y="16197"/>
                </a:cubicBezTo>
              </a:path>
              <a:path w="2456" h="1986">
                <a:moveTo>
                  <a:pt x="21679" y="16371"/>
                </a:moveTo>
                <a:cubicBezTo>
                  <a:pt x="21795" y="16371"/>
                  <a:pt x="21911" y="16371"/>
                  <a:pt x="22027" y="16371"/>
                </a:cubicBezTo>
              </a:path>
              <a:path w="2456" h="1986">
                <a:moveTo>
                  <a:pt x="23019" y="16421"/>
                </a:moveTo>
                <a:cubicBezTo>
                  <a:pt x="23051" y="16410"/>
                  <a:pt x="23063" y="16344"/>
                  <a:pt x="23044" y="16297"/>
                </a:cubicBezTo>
                <a:cubicBezTo>
                  <a:pt x="23004" y="16199"/>
                  <a:pt x="22869" y="16136"/>
                  <a:pt x="22771" y="16197"/>
                </a:cubicBezTo>
                <a:cubicBezTo>
                  <a:pt x="22671" y="16260"/>
                  <a:pt x="22570" y="16448"/>
                  <a:pt x="22746" y="16495"/>
                </a:cubicBezTo>
                <a:cubicBezTo>
                  <a:pt x="22885" y="16532"/>
                  <a:pt x="23010" y="16408"/>
                  <a:pt x="23068" y="16297"/>
                </a:cubicBezTo>
                <a:cubicBezTo>
                  <a:pt x="23068" y="16289"/>
                  <a:pt x="23068" y="16280"/>
                  <a:pt x="23068" y="16272"/>
                </a:cubicBezTo>
                <a:cubicBezTo>
                  <a:pt x="23120" y="16289"/>
                  <a:pt x="23035" y="16418"/>
                  <a:pt x="23019" y="16470"/>
                </a:cubicBezTo>
                <a:cubicBezTo>
                  <a:pt x="22980" y="16593"/>
                  <a:pt x="22944" y="16713"/>
                  <a:pt x="22944" y="16842"/>
                </a:cubicBezTo>
              </a:path>
              <a:path w="2456" h="1986">
                <a:moveTo>
                  <a:pt x="21282" y="17264"/>
                </a:moveTo>
                <a:cubicBezTo>
                  <a:pt x="21282" y="17334"/>
                  <a:pt x="21236" y="17100"/>
                  <a:pt x="21233" y="17090"/>
                </a:cubicBezTo>
                <a:cubicBezTo>
                  <a:pt x="21005" y="17153"/>
                  <a:pt x="20741" y="17380"/>
                  <a:pt x="20737" y="17661"/>
                </a:cubicBezTo>
                <a:cubicBezTo>
                  <a:pt x="20732" y="18003"/>
                  <a:pt x="21213" y="17771"/>
                  <a:pt x="21332" y="17686"/>
                </a:cubicBezTo>
                <a:cubicBezTo>
                  <a:pt x="21357" y="17661"/>
                  <a:pt x="21381" y="17636"/>
                  <a:pt x="21406" y="17611"/>
                </a:cubicBezTo>
              </a:path>
              <a:path w="2456" h="1986">
                <a:moveTo>
                  <a:pt x="21927" y="17289"/>
                </a:moveTo>
                <a:cubicBezTo>
                  <a:pt x="22075" y="17289"/>
                  <a:pt x="22151" y="17253"/>
                  <a:pt x="22225" y="17363"/>
                </a:cubicBezTo>
              </a:path>
              <a:path w="2456" h="1986">
                <a:moveTo>
                  <a:pt x="21903" y="17587"/>
                </a:moveTo>
                <a:cubicBezTo>
                  <a:pt x="22003" y="17572"/>
                  <a:pt x="22073" y="17562"/>
                  <a:pt x="22175" y="175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79960" y="5616720"/>
            <a:ext cx="695160" cy="393480"/>
          </a:xfrm>
          <a:custGeom>
            <a:avLst/>
            <a:gdLst/>
            <a:ahLst/>
            <a:rect l="l" t="t" r="r" b="b"/>
            <a:pathLst>
              <a:path w="1935" h="1093">
                <a:moveTo>
                  <a:pt x="11609" y="16694"/>
                </a:moveTo>
                <a:lnTo>
                  <a:pt x="11609" y="16694"/>
                </a:lnTo>
              </a:path>
              <a:path w="1935" h="1093">
                <a:moveTo>
                  <a:pt x="13543" y="15602"/>
                </a:moveTo>
                <a:lnTo>
                  <a:pt x="13543" y="1560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84800" y="5616720"/>
            <a:ext cx="795240" cy="714240"/>
          </a:xfrm>
          <a:custGeom>
            <a:avLst/>
            <a:gdLst/>
            <a:ahLst/>
            <a:rect l="l" t="t" r="r" b="b"/>
            <a:pathLst>
              <a:path w="2209" h="1986">
                <a:moveTo>
                  <a:pt x="12402" y="15801"/>
                </a:moveTo>
                <a:cubicBezTo>
                  <a:pt x="12502" y="15782"/>
                  <a:pt x="13028" y="15696"/>
                  <a:pt x="12799" y="15925"/>
                </a:cubicBezTo>
                <a:cubicBezTo>
                  <a:pt x="12710" y="16014"/>
                  <a:pt x="12526" y="16102"/>
                  <a:pt x="12626" y="16024"/>
                </a:cubicBezTo>
                <a:cubicBezTo>
                  <a:pt x="12853" y="16085"/>
                  <a:pt x="12860" y="16063"/>
                  <a:pt x="12948" y="16272"/>
                </a:cubicBezTo>
                <a:cubicBezTo>
                  <a:pt x="12787" y="16349"/>
                  <a:pt x="12622" y="16434"/>
                  <a:pt x="12452" y="16396"/>
                </a:cubicBezTo>
              </a:path>
              <a:path w="2209" h="1986">
                <a:moveTo>
                  <a:pt x="12179" y="16594"/>
                </a:moveTo>
                <a:cubicBezTo>
                  <a:pt x="12489" y="16610"/>
                  <a:pt x="12787" y="16582"/>
                  <a:pt x="13097" y="16570"/>
                </a:cubicBezTo>
              </a:path>
              <a:path w="2209" h="1986">
                <a:moveTo>
                  <a:pt x="12725" y="16842"/>
                </a:moveTo>
                <a:cubicBezTo>
                  <a:pt x="12690" y="17068"/>
                  <a:pt x="12675" y="17295"/>
                  <a:pt x="12601" y="17512"/>
                </a:cubicBezTo>
                <a:cubicBezTo>
                  <a:pt x="12579" y="17556"/>
                  <a:pt x="12576" y="17568"/>
                  <a:pt x="12551" y="17587"/>
                </a:cubicBezTo>
              </a:path>
              <a:path w="2209" h="1986">
                <a:moveTo>
                  <a:pt x="13965" y="16594"/>
                </a:moveTo>
                <a:cubicBezTo>
                  <a:pt x="14084" y="16594"/>
                  <a:pt x="14204" y="16581"/>
                  <a:pt x="14312" y="16594"/>
                </a:cubicBezTo>
                <a:cubicBezTo>
                  <a:pt x="14320" y="16594"/>
                  <a:pt x="14329" y="16594"/>
                  <a:pt x="14337" y="16594"/>
                </a:cubicBezTo>
              </a:path>
              <a:path w="2209" h="1986">
                <a:moveTo>
                  <a:pt x="14039" y="16743"/>
                </a:moveTo>
                <a:cubicBezTo>
                  <a:pt x="14139" y="16736"/>
                  <a:pt x="14236" y="16718"/>
                  <a:pt x="14337" y="16718"/>
                </a:cubicBezTo>
                <a:cubicBezTo>
                  <a:pt x="14362" y="16718"/>
                  <a:pt x="14370" y="16718"/>
                  <a:pt x="14387" y="16718"/>
                </a:cubicBezTo>
              </a:path>
              <a:path w="2209" h="1986">
                <a:moveTo>
                  <a:pt x="13221" y="15751"/>
                </a:moveTo>
                <a:cubicBezTo>
                  <a:pt x="13235" y="15835"/>
                  <a:pt x="13264" y="15919"/>
                  <a:pt x="13295" y="15999"/>
                </a:cubicBezTo>
              </a:path>
              <a:path w="2209" h="1986">
                <a:moveTo>
                  <a:pt x="13246" y="15751"/>
                </a:moveTo>
                <a:cubicBezTo>
                  <a:pt x="13246" y="15854"/>
                  <a:pt x="13193" y="16148"/>
                  <a:pt x="13221" y="16049"/>
                </a:cubicBezTo>
                <a:cubicBezTo>
                  <a:pt x="13229" y="16024"/>
                  <a:pt x="13238" y="15999"/>
                  <a:pt x="13246" y="15974"/>
                </a:cubicBezTo>
              </a:path>
              <a:path w="2209" h="1986">
                <a:moveTo>
                  <a:pt x="13543" y="15627"/>
                </a:moveTo>
                <a:cubicBezTo>
                  <a:pt x="13543" y="15602"/>
                  <a:pt x="13543" y="15594"/>
                  <a:pt x="13568" y="15602"/>
                </a:cubicBezTo>
                <a:cubicBezTo>
                  <a:pt x="13633" y="15651"/>
                  <a:pt x="13625" y="15707"/>
                  <a:pt x="13568" y="15776"/>
                </a:cubicBezTo>
                <a:cubicBezTo>
                  <a:pt x="13560" y="15784"/>
                  <a:pt x="13551" y="15793"/>
                  <a:pt x="13543" y="15801"/>
                </a:cubicBezTo>
                <a:cubicBezTo>
                  <a:pt x="13566" y="15793"/>
                  <a:pt x="13673" y="15737"/>
                  <a:pt x="13717" y="15776"/>
                </a:cubicBezTo>
                <a:cubicBezTo>
                  <a:pt x="13809" y="15856"/>
                  <a:pt x="13716" y="15929"/>
                  <a:pt x="13667" y="15974"/>
                </a:cubicBezTo>
                <a:cubicBezTo>
                  <a:pt x="13630" y="16008"/>
                  <a:pt x="13637" y="15985"/>
                  <a:pt x="13593" y="159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446800" y="5680080"/>
            <a:ext cx="428400" cy="365040"/>
          </a:xfrm>
          <a:custGeom>
            <a:avLst/>
            <a:gdLst/>
            <a:ahLst/>
            <a:rect l="l" t="t" r="r" b="b"/>
            <a:pathLst>
              <a:path w="1191" h="1018">
                <a:moveTo>
                  <a:pt x="15553" y="15974"/>
                </a:moveTo>
                <a:cubicBezTo>
                  <a:pt x="15568" y="15928"/>
                  <a:pt x="15573" y="15945"/>
                  <a:pt x="15528" y="15875"/>
                </a:cubicBezTo>
                <a:cubicBezTo>
                  <a:pt x="15462" y="15771"/>
                  <a:pt x="15307" y="15714"/>
                  <a:pt x="15230" y="15850"/>
                </a:cubicBezTo>
                <a:cubicBezTo>
                  <a:pt x="15186" y="15981"/>
                  <a:pt x="15170" y="16011"/>
                  <a:pt x="15180" y="16098"/>
                </a:cubicBezTo>
                <a:cubicBezTo>
                  <a:pt x="15340" y="16171"/>
                  <a:pt x="15442" y="16096"/>
                  <a:pt x="15553" y="15949"/>
                </a:cubicBezTo>
                <a:cubicBezTo>
                  <a:pt x="15576" y="15919"/>
                  <a:pt x="15594" y="15882"/>
                  <a:pt x="15602" y="15850"/>
                </a:cubicBezTo>
                <a:cubicBezTo>
                  <a:pt x="15577" y="16021"/>
                  <a:pt x="15562" y="16197"/>
                  <a:pt x="15553" y="16371"/>
                </a:cubicBezTo>
                <a:cubicBezTo>
                  <a:pt x="15553" y="16462"/>
                  <a:pt x="15553" y="16470"/>
                  <a:pt x="15553" y="16520"/>
                </a:cubicBezTo>
              </a:path>
              <a:path w="1191" h="1018">
                <a:moveTo>
                  <a:pt x="15131" y="16793"/>
                </a:moveTo>
                <a:cubicBezTo>
                  <a:pt x="15388" y="16750"/>
                  <a:pt x="15662" y="16732"/>
                  <a:pt x="15925" y="16743"/>
                </a:cubicBezTo>
                <a:cubicBezTo>
                  <a:pt x="16067" y="16749"/>
                  <a:pt x="16183" y="16768"/>
                  <a:pt x="16321" y="167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286680" y="5634000"/>
            <a:ext cx="731520" cy="233280"/>
          </a:xfrm>
          <a:custGeom>
            <a:avLst/>
            <a:gdLst/>
            <a:ahLst/>
            <a:rect l="l" t="t" r="r" b="b"/>
            <a:pathLst>
              <a:path w="2035" h="646">
                <a:moveTo>
                  <a:pt x="18604" y="15726"/>
                </a:moveTo>
                <a:cubicBezTo>
                  <a:pt x="18604" y="15756"/>
                  <a:pt x="18611" y="15729"/>
                  <a:pt x="18678" y="15677"/>
                </a:cubicBezTo>
                <a:cubicBezTo>
                  <a:pt x="18817" y="15814"/>
                  <a:pt x="18746" y="15967"/>
                  <a:pt x="18579" y="16073"/>
                </a:cubicBezTo>
                <a:cubicBezTo>
                  <a:pt x="18451" y="16116"/>
                  <a:pt x="18420" y="16145"/>
                  <a:pt x="18355" y="16073"/>
                </a:cubicBezTo>
                <a:cubicBezTo>
                  <a:pt x="18415" y="15975"/>
                  <a:pt x="18520" y="15978"/>
                  <a:pt x="18628" y="16024"/>
                </a:cubicBezTo>
                <a:cubicBezTo>
                  <a:pt x="18656" y="16052"/>
                  <a:pt x="18670" y="16061"/>
                  <a:pt x="18703" y="16049"/>
                </a:cubicBezTo>
              </a:path>
              <a:path w="2035" h="646">
                <a:moveTo>
                  <a:pt x="19100" y="15751"/>
                </a:moveTo>
                <a:cubicBezTo>
                  <a:pt x="19049" y="15649"/>
                  <a:pt x="18975" y="15732"/>
                  <a:pt x="18926" y="15801"/>
                </a:cubicBezTo>
                <a:cubicBezTo>
                  <a:pt x="18906" y="15841"/>
                  <a:pt x="18897" y="15847"/>
                  <a:pt x="18901" y="15875"/>
                </a:cubicBezTo>
                <a:cubicBezTo>
                  <a:pt x="18995" y="15852"/>
                  <a:pt x="19029" y="15822"/>
                  <a:pt x="19100" y="15751"/>
                </a:cubicBezTo>
                <a:cubicBezTo>
                  <a:pt x="19100" y="15858"/>
                  <a:pt x="19089" y="15973"/>
                  <a:pt x="19050" y="16073"/>
                </a:cubicBezTo>
                <a:cubicBezTo>
                  <a:pt x="19042" y="16094"/>
                  <a:pt x="19025" y="16146"/>
                  <a:pt x="19025" y="16098"/>
                </a:cubicBezTo>
              </a:path>
              <a:path w="2035" h="646">
                <a:moveTo>
                  <a:pt x="18058" y="16297"/>
                </a:moveTo>
                <a:cubicBezTo>
                  <a:pt x="18052" y="16146"/>
                  <a:pt x="18038" y="16000"/>
                  <a:pt x="18033" y="15850"/>
                </a:cubicBezTo>
                <a:cubicBezTo>
                  <a:pt x="18031" y="15795"/>
                  <a:pt x="18025" y="15767"/>
                  <a:pt x="18058" y="15726"/>
                </a:cubicBezTo>
                <a:cubicBezTo>
                  <a:pt x="18090" y="15686"/>
                  <a:pt x="18134" y="15703"/>
                  <a:pt x="18182" y="15701"/>
                </a:cubicBezTo>
                <a:cubicBezTo>
                  <a:pt x="18322" y="15696"/>
                  <a:pt x="18464" y="15688"/>
                  <a:pt x="18604" y="15677"/>
                </a:cubicBezTo>
                <a:cubicBezTo>
                  <a:pt x="18851" y="15657"/>
                  <a:pt x="19124" y="15618"/>
                  <a:pt x="19372" y="15652"/>
                </a:cubicBezTo>
                <a:cubicBezTo>
                  <a:pt x="19418" y="15658"/>
                  <a:pt x="19452" y="15672"/>
                  <a:pt x="19496" y="15677"/>
                </a:cubicBezTo>
              </a:path>
              <a:path w="2035" h="646">
                <a:moveTo>
                  <a:pt x="17462" y="15974"/>
                </a:moveTo>
                <a:cubicBezTo>
                  <a:pt x="17490" y="15919"/>
                  <a:pt x="17591" y="15888"/>
                  <a:pt x="17661" y="15875"/>
                </a:cubicBezTo>
                <a:cubicBezTo>
                  <a:pt x="17769" y="15855"/>
                  <a:pt x="17745" y="16003"/>
                  <a:pt x="17686" y="16049"/>
                </a:cubicBezTo>
                <a:cubicBezTo>
                  <a:pt x="17678" y="16049"/>
                  <a:pt x="17669" y="16049"/>
                  <a:pt x="17661" y="16049"/>
                </a:cubicBezTo>
                <a:cubicBezTo>
                  <a:pt x="17653" y="16049"/>
                  <a:pt x="17644" y="16049"/>
                  <a:pt x="17636" y="16049"/>
                </a:cubicBezTo>
                <a:cubicBezTo>
                  <a:pt x="17696" y="16004"/>
                  <a:pt x="17750" y="16027"/>
                  <a:pt x="17785" y="16098"/>
                </a:cubicBezTo>
                <a:cubicBezTo>
                  <a:pt x="17845" y="16217"/>
                  <a:pt x="17714" y="16266"/>
                  <a:pt x="17611" y="16247"/>
                </a:cubicBezTo>
                <a:cubicBezTo>
                  <a:pt x="17595" y="16239"/>
                  <a:pt x="17578" y="16230"/>
                  <a:pt x="17562" y="162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412040" y="5224320"/>
            <a:ext cx="731880" cy="339840"/>
          </a:xfrm>
          <a:custGeom>
            <a:avLst/>
            <a:gdLst/>
            <a:ahLst/>
            <a:rect l="l" t="t" r="r" b="b"/>
            <a:pathLst>
              <a:path w="2035" h="943">
                <a:moveTo>
                  <a:pt x="20935" y="14660"/>
                </a:moveTo>
                <a:cubicBezTo>
                  <a:pt x="20849" y="14916"/>
                  <a:pt x="20760" y="15151"/>
                  <a:pt x="20613" y="15379"/>
                </a:cubicBezTo>
                <a:cubicBezTo>
                  <a:pt x="20605" y="15387"/>
                  <a:pt x="20596" y="15396"/>
                  <a:pt x="20588" y="15404"/>
                </a:cubicBezTo>
                <a:cubicBezTo>
                  <a:pt x="20630" y="15110"/>
                  <a:pt x="20734" y="14798"/>
                  <a:pt x="20960" y="14585"/>
                </a:cubicBezTo>
                <a:cubicBezTo>
                  <a:pt x="21010" y="14560"/>
                  <a:pt x="21059" y="14536"/>
                  <a:pt x="21109" y="14511"/>
                </a:cubicBezTo>
                <a:cubicBezTo>
                  <a:pt x="21342" y="14744"/>
                  <a:pt x="21216" y="14969"/>
                  <a:pt x="21134" y="15280"/>
                </a:cubicBezTo>
                <a:cubicBezTo>
                  <a:pt x="21122" y="15324"/>
                  <a:pt x="21067" y="15535"/>
                  <a:pt x="21109" y="15304"/>
                </a:cubicBezTo>
              </a:path>
              <a:path w="2035" h="943">
                <a:moveTo>
                  <a:pt x="20712" y="15056"/>
                </a:moveTo>
                <a:cubicBezTo>
                  <a:pt x="20938" y="15047"/>
                  <a:pt x="21161" y="15010"/>
                  <a:pt x="21382" y="15032"/>
                </a:cubicBezTo>
              </a:path>
              <a:path w="2035" h="943">
                <a:moveTo>
                  <a:pt x="21506" y="15032"/>
                </a:moveTo>
                <a:cubicBezTo>
                  <a:pt x="21642" y="15018"/>
                  <a:pt x="21743" y="15007"/>
                  <a:pt x="21878" y="15007"/>
                </a:cubicBezTo>
              </a:path>
              <a:path w="2035" h="943">
                <a:moveTo>
                  <a:pt x="21382" y="15205"/>
                </a:moveTo>
                <a:cubicBezTo>
                  <a:pt x="21615" y="15175"/>
                  <a:pt x="21823" y="15138"/>
                  <a:pt x="22051" y="15081"/>
                </a:cubicBezTo>
              </a:path>
              <a:path w="2035" h="943">
                <a:moveTo>
                  <a:pt x="22622" y="14560"/>
                </a:moveTo>
                <a:cubicBezTo>
                  <a:pt x="22437" y="14583"/>
                  <a:pt x="22381" y="14583"/>
                  <a:pt x="22299" y="14684"/>
                </a:cubicBezTo>
                <a:cubicBezTo>
                  <a:pt x="22308" y="14893"/>
                  <a:pt x="22580" y="15152"/>
                  <a:pt x="22498" y="15354"/>
                </a:cubicBezTo>
                <a:cubicBezTo>
                  <a:pt x="22377" y="15451"/>
                  <a:pt x="22338" y="15484"/>
                  <a:pt x="22225" y="15453"/>
                </a:cubicBezTo>
                <a:cubicBezTo>
                  <a:pt x="22288" y="15184"/>
                  <a:pt x="22468" y="15056"/>
                  <a:pt x="22622" y="14833"/>
                </a:cubicBezTo>
                <a:cubicBezTo>
                  <a:pt x="22622" y="14782"/>
                  <a:pt x="22597" y="14780"/>
                  <a:pt x="22523" y="148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215120" y="3438360"/>
            <a:ext cx="455760" cy="293760"/>
          </a:xfrm>
          <a:custGeom>
            <a:avLst/>
            <a:gdLst/>
            <a:ahLst/>
            <a:rect l="l" t="t" r="r" b="b"/>
            <a:pathLst>
              <a:path w="1266" h="819">
                <a:moveTo>
                  <a:pt x="20290" y="9550"/>
                </a:moveTo>
                <a:cubicBezTo>
                  <a:pt x="20290" y="9591"/>
                  <a:pt x="20290" y="9633"/>
                  <a:pt x="20290" y="9674"/>
                </a:cubicBezTo>
                <a:cubicBezTo>
                  <a:pt x="20084" y="9604"/>
                  <a:pt x="20065" y="9851"/>
                  <a:pt x="20042" y="10021"/>
                </a:cubicBezTo>
                <a:cubicBezTo>
                  <a:pt x="20008" y="10276"/>
                  <a:pt x="20167" y="10449"/>
                  <a:pt x="20414" y="10319"/>
                </a:cubicBezTo>
                <a:cubicBezTo>
                  <a:pt x="20480" y="10253"/>
                  <a:pt x="20497" y="10236"/>
                  <a:pt x="20538" y="10195"/>
                </a:cubicBezTo>
              </a:path>
              <a:path w="1266" h="819">
                <a:moveTo>
                  <a:pt x="20886" y="9798"/>
                </a:moveTo>
                <a:cubicBezTo>
                  <a:pt x="20914" y="9798"/>
                  <a:pt x="21208" y="9772"/>
                  <a:pt x="21208" y="9773"/>
                </a:cubicBezTo>
                <a:cubicBezTo>
                  <a:pt x="21200" y="9798"/>
                  <a:pt x="21191" y="9822"/>
                  <a:pt x="21183" y="9847"/>
                </a:cubicBezTo>
              </a:path>
              <a:path w="1266" h="819">
                <a:moveTo>
                  <a:pt x="20985" y="10046"/>
                </a:moveTo>
                <a:cubicBezTo>
                  <a:pt x="21104" y="10046"/>
                  <a:pt x="21207" y="10063"/>
                  <a:pt x="21307" y="99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813800" y="3419640"/>
            <a:ext cx="223560" cy="250560"/>
          </a:xfrm>
          <a:custGeom>
            <a:avLst/>
            <a:gdLst/>
            <a:ahLst/>
            <a:rect l="l" t="t" r="r" b="b"/>
            <a:pathLst>
              <a:path w="621" h="696">
                <a:moveTo>
                  <a:pt x="21704" y="9525"/>
                </a:moveTo>
                <a:cubicBezTo>
                  <a:pt x="21704" y="9450"/>
                  <a:pt x="21704" y="9698"/>
                  <a:pt x="21704" y="9699"/>
                </a:cubicBezTo>
                <a:cubicBezTo>
                  <a:pt x="21704" y="9813"/>
                  <a:pt x="21662" y="10037"/>
                  <a:pt x="21779" y="10120"/>
                </a:cubicBezTo>
                <a:cubicBezTo>
                  <a:pt x="21851" y="10171"/>
                  <a:pt x="22051" y="10157"/>
                  <a:pt x="22126" y="10120"/>
                </a:cubicBezTo>
                <a:cubicBezTo>
                  <a:pt x="22184" y="10092"/>
                  <a:pt x="22307" y="10013"/>
                  <a:pt x="22324" y="9947"/>
                </a:cubicBezTo>
                <a:cubicBezTo>
                  <a:pt x="22287" y="9895"/>
                  <a:pt x="22252" y="9846"/>
                  <a:pt x="22175" y="9872"/>
                </a:cubicBezTo>
                <a:cubicBezTo>
                  <a:pt x="22128" y="9888"/>
                  <a:pt x="22049" y="9993"/>
                  <a:pt x="22051" y="10046"/>
                </a:cubicBezTo>
                <a:cubicBezTo>
                  <a:pt x="22054" y="10104"/>
                  <a:pt x="22089" y="10147"/>
                  <a:pt x="22101" y="101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465960" y="3268800"/>
            <a:ext cx="1204920" cy="2687400"/>
          </a:xfrm>
          <a:custGeom>
            <a:avLst/>
            <a:gdLst/>
            <a:ahLst/>
            <a:rect l="l" t="t" r="r" b="b"/>
            <a:pathLst>
              <a:path w="3349" h="7467">
                <a:moveTo>
                  <a:pt x="21059" y="9153"/>
                </a:moveTo>
                <a:cubicBezTo>
                  <a:pt x="21142" y="9128"/>
                  <a:pt x="21224" y="9104"/>
                  <a:pt x="21307" y="9079"/>
                </a:cubicBezTo>
              </a:path>
              <a:path w="3349" h="7467">
                <a:moveTo>
                  <a:pt x="21059" y="9277"/>
                </a:moveTo>
                <a:cubicBezTo>
                  <a:pt x="21133" y="9258"/>
                  <a:pt x="21207" y="9238"/>
                  <a:pt x="21282" y="9227"/>
                </a:cubicBezTo>
              </a:path>
              <a:path w="3349" h="7467">
                <a:moveTo>
                  <a:pt x="17959" y="16545"/>
                </a:moveTo>
                <a:cubicBezTo>
                  <a:pt x="18077" y="16517"/>
                  <a:pt x="18133" y="16525"/>
                  <a:pt x="18256" y="16545"/>
                </a:cubicBezTo>
              </a:path>
              <a:path w="3349" h="7467">
                <a:moveTo>
                  <a:pt x="19323" y="16247"/>
                </a:moveTo>
                <a:lnTo>
                  <a:pt x="19323" y="16247"/>
                </a:lnTo>
              </a:path>
              <a:path w="3349" h="7467">
                <a:moveTo>
                  <a:pt x="19273" y="15652"/>
                </a:moveTo>
                <a:cubicBezTo>
                  <a:pt x="19273" y="15627"/>
                  <a:pt x="19273" y="15619"/>
                  <a:pt x="19298" y="156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161120" y="2652840"/>
            <a:ext cx="938160" cy="749160"/>
          </a:xfrm>
          <a:custGeom>
            <a:avLst/>
            <a:gdLst/>
            <a:ahLst/>
            <a:rect l="l" t="t" r="r" b="b"/>
            <a:pathLst>
              <a:path w="2606" h="2085">
                <a:moveTo>
                  <a:pt x="20241" y="7640"/>
                </a:moveTo>
                <a:cubicBezTo>
                  <a:pt x="20187" y="7837"/>
                  <a:pt x="20133" y="8005"/>
                  <a:pt x="20042" y="8186"/>
                </a:cubicBezTo>
                <a:cubicBezTo>
                  <a:pt x="19982" y="8284"/>
                  <a:pt x="20039" y="8063"/>
                  <a:pt x="20092" y="7962"/>
                </a:cubicBezTo>
                <a:cubicBezTo>
                  <a:pt x="20207" y="7745"/>
                  <a:pt x="20332" y="7477"/>
                  <a:pt x="20563" y="7367"/>
                </a:cubicBezTo>
                <a:cubicBezTo>
                  <a:pt x="20571" y="7367"/>
                  <a:pt x="20580" y="7367"/>
                  <a:pt x="20588" y="7367"/>
                </a:cubicBezTo>
                <a:cubicBezTo>
                  <a:pt x="20680" y="7633"/>
                  <a:pt x="20678" y="7858"/>
                  <a:pt x="20588" y="8136"/>
                </a:cubicBezTo>
                <a:cubicBezTo>
                  <a:pt x="20580" y="8153"/>
                  <a:pt x="20571" y="8169"/>
                  <a:pt x="20563" y="8186"/>
                </a:cubicBezTo>
              </a:path>
              <a:path w="2606" h="2085">
                <a:moveTo>
                  <a:pt x="20141" y="7863"/>
                </a:moveTo>
                <a:cubicBezTo>
                  <a:pt x="20325" y="7836"/>
                  <a:pt x="20501" y="7813"/>
                  <a:pt x="20687" y="7813"/>
                </a:cubicBezTo>
                <a:cubicBezTo>
                  <a:pt x="20695" y="7813"/>
                  <a:pt x="20704" y="7813"/>
                  <a:pt x="20712" y="7813"/>
                </a:cubicBezTo>
              </a:path>
              <a:path w="2606" h="2085">
                <a:moveTo>
                  <a:pt x="21109" y="7714"/>
                </a:moveTo>
                <a:cubicBezTo>
                  <a:pt x="21214" y="7691"/>
                  <a:pt x="21324" y="7641"/>
                  <a:pt x="21357" y="7739"/>
                </a:cubicBezTo>
              </a:path>
              <a:path w="2606" h="2085">
                <a:moveTo>
                  <a:pt x="21084" y="7962"/>
                </a:moveTo>
                <a:cubicBezTo>
                  <a:pt x="21167" y="7962"/>
                  <a:pt x="21249" y="7962"/>
                  <a:pt x="21332" y="7962"/>
                </a:cubicBezTo>
              </a:path>
              <a:path w="2606" h="2085">
                <a:moveTo>
                  <a:pt x="22225" y="7441"/>
                </a:moveTo>
                <a:cubicBezTo>
                  <a:pt x="22159" y="7508"/>
                  <a:pt x="22143" y="7524"/>
                  <a:pt x="22101" y="7565"/>
                </a:cubicBezTo>
                <a:cubicBezTo>
                  <a:pt x="22221" y="7506"/>
                  <a:pt x="22335" y="7423"/>
                  <a:pt x="22473" y="7417"/>
                </a:cubicBezTo>
                <a:cubicBezTo>
                  <a:pt x="22481" y="7425"/>
                  <a:pt x="22490" y="7433"/>
                  <a:pt x="22498" y="7441"/>
                </a:cubicBezTo>
                <a:cubicBezTo>
                  <a:pt x="22431" y="7576"/>
                  <a:pt x="22386" y="7609"/>
                  <a:pt x="22250" y="7689"/>
                </a:cubicBezTo>
                <a:cubicBezTo>
                  <a:pt x="22216" y="7741"/>
                  <a:pt x="22383" y="7736"/>
                  <a:pt x="22423" y="7838"/>
                </a:cubicBezTo>
                <a:cubicBezTo>
                  <a:pt x="22519" y="8081"/>
                  <a:pt x="22171" y="8077"/>
                  <a:pt x="22051" y="8111"/>
                </a:cubicBezTo>
                <a:cubicBezTo>
                  <a:pt x="22043" y="8119"/>
                  <a:pt x="22035" y="8128"/>
                  <a:pt x="22027" y="8136"/>
                </a:cubicBezTo>
              </a:path>
              <a:path w="2606" h="2085">
                <a:moveTo>
                  <a:pt x="20241" y="8756"/>
                </a:moveTo>
                <a:cubicBezTo>
                  <a:pt x="20241" y="8928"/>
                  <a:pt x="20195" y="9107"/>
                  <a:pt x="20166" y="9277"/>
                </a:cubicBezTo>
                <a:cubicBezTo>
                  <a:pt x="20161" y="9305"/>
                  <a:pt x="20147" y="9525"/>
                  <a:pt x="20117" y="9401"/>
                </a:cubicBezTo>
              </a:path>
              <a:path w="2606" h="2085">
                <a:moveTo>
                  <a:pt x="19893" y="8830"/>
                </a:moveTo>
                <a:cubicBezTo>
                  <a:pt x="20133" y="8706"/>
                  <a:pt x="20276" y="8650"/>
                  <a:pt x="20538" y="8706"/>
                </a:cubicBezTo>
                <a:cubicBezTo>
                  <a:pt x="20539" y="8914"/>
                  <a:pt x="20446" y="8920"/>
                  <a:pt x="20265" y="9029"/>
                </a:cubicBezTo>
                <a:cubicBezTo>
                  <a:pt x="20364" y="9009"/>
                  <a:pt x="20502" y="8957"/>
                  <a:pt x="20588" y="9054"/>
                </a:cubicBezTo>
                <a:cubicBezTo>
                  <a:pt x="20719" y="9202"/>
                  <a:pt x="20442" y="9353"/>
                  <a:pt x="20340" y="9376"/>
                </a:cubicBezTo>
                <a:cubicBezTo>
                  <a:pt x="20286" y="9388"/>
                  <a:pt x="20203" y="9388"/>
                  <a:pt x="20191" y="93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456240" y="5133960"/>
            <a:ext cx="839880" cy="1492200"/>
          </a:xfrm>
          <a:custGeom>
            <a:avLst/>
            <a:gdLst/>
            <a:ahLst/>
            <a:rect l="l" t="t" r="r" b="b"/>
            <a:pathLst>
              <a:path w="2332" h="4143">
                <a:moveTo>
                  <a:pt x="18976" y="15106"/>
                </a:moveTo>
                <a:cubicBezTo>
                  <a:pt x="18984" y="15106"/>
                  <a:pt x="18992" y="15106"/>
                  <a:pt x="19000" y="15106"/>
                </a:cubicBezTo>
                <a:cubicBezTo>
                  <a:pt x="19000" y="15069"/>
                  <a:pt x="19000" y="14984"/>
                  <a:pt x="18926" y="15007"/>
                </a:cubicBezTo>
                <a:cubicBezTo>
                  <a:pt x="18861" y="15050"/>
                  <a:pt x="18841" y="15056"/>
                  <a:pt x="18827" y="15106"/>
                </a:cubicBezTo>
                <a:cubicBezTo>
                  <a:pt x="18899" y="15179"/>
                  <a:pt x="18918" y="15098"/>
                  <a:pt x="18976" y="15056"/>
                </a:cubicBezTo>
                <a:cubicBezTo>
                  <a:pt x="19000" y="15056"/>
                  <a:pt x="19008" y="15056"/>
                  <a:pt x="19000" y="15032"/>
                </a:cubicBezTo>
                <a:cubicBezTo>
                  <a:pt x="19000" y="15143"/>
                  <a:pt x="18968" y="15245"/>
                  <a:pt x="18951" y="15354"/>
                </a:cubicBezTo>
                <a:cubicBezTo>
                  <a:pt x="18951" y="15379"/>
                  <a:pt x="18951" y="15387"/>
                  <a:pt x="18951" y="15404"/>
                </a:cubicBezTo>
              </a:path>
              <a:path w="2332" h="4143">
                <a:moveTo>
                  <a:pt x="18430" y="16346"/>
                </a:moveTo>
                <a:cubicBezTo>
                  <a:pt x="18503" y="16321"/>
                  <a:pt x="18527" y="16313"/>
                  <a:pt x="18579" y="16321"/>
                </a:cubicBezTo>
                <a:cubicBezTo>
                  <a:pt x="18624" y="16468"/>
                  <a:pt x="18662" y="16581"/>
                  <a:pt x="18479" y="16644"/>
                </a:cubicBezTo>
                <a:cubicBezTo>
                  <a:pt x="18454" y="16644"/>
                  <a:pt x="18430" y="16644"/>
                  <a:pt x="18405" y="16644"/>
                </a:cubicBezTo>
                <a:cubicBezTo>
                  <a:pt x="18421" y="16516"/>
                  <a:pt x="18478" y="16509"/>
                  <a:pt x="18604" y="16545"/>
                </a:cubicBezTo>
                <a:cubicBezTo>
                  <a:pt x="18644" y="16565"/>
                  <a:pt x="18650" y="16574"/>
                  <a:pt x="18678" y="16570"/>
                </a:cubicBezTo>
              </a:path>
              <a:path w="2332" h="4143">
                <a:moveTo>
                  <a:pt x="18827" y="16297"/>
                </a:moveTo>
                <a:cubicBezTo>
                  <a:pt x="18913" y="16290"/>
                  <a:pt x="18988" y="16272"/>
                  <a:pt x="19075" y="16272"/>
                </a:cubicBezTo>
                <a:cubicBezTo>
                  <a:pt x="19075" y="16392"/>
                  <a:pt x="19062" y="16502"/>
                  <a:pt x="19050" y="16619"/>
                </a:cubicBezTo>
              </a:path>
              <a:path w="2332" h="4143">
                <a:moveTo>
                  <a:pt x="17934" y="16917"/>
                </a:moveTo>
                <a:cubicBezTo>
                  <a:pt x="18339" y="16871"/>
                  <a:pt x="18742" y="16817"/>
                  <a:pt x="19149" y="16793"/>
                </a:cubicBezTo>
                <a:cubicBezTo>
                  <a:pt x="19226" y="16788"/>
                  <a:pt x="19257" y="16771"/>
                  <a:pt x="19273" y="16818"/>
                </a:cubicBezTo>
              </a:path>
              <a:path w="2332" h="4143">
                <a:moveTo>
                  <a:pt x="18951" y="17041"/>
                </a:moveTo>
                <a:cubicBezTo>
                  <a:pt x="19117" y="17054"/>
                  <a:pt x="19215" y="17083"/>
                  <a:pt x="19174" y="17289"/>
                </a:cubicBezTo>
                <a:cubicBezTo>
                  <a:pt x="19146" y="17431"/>
                  <a:pt x="19033" y="17470"/>
                  <a:pt x="18951" y="17388"/>
                </a:cubicBezTo>
                <a:cubicBezTo>
                  <a:pt x="19030" y="17322"/>
                  <a:pt x="19043" y="17314"/>
                  <a:pt x="19124" y="17338"/>
                </a:cubicBezTo>
                <a:cubicBezTo>
                  <a:pt x="19159" y="17338"/>
                  <a:pt x="19172" y="17347"/>
                  <a:pt x="19174" y="17388"/>
                </a:cubicBezTo>
              </a:path>
              <a:path w="2332" h="4143">
                <a:moveTo>
                  <a:pt x="19323" y="15577"/>
                </a:moveTo>
                <a:cubicBezTo>
                  <a:pt x="19301" y="15515"/>
                  <a:pt x="19282" y="15598"/>
                  <a:pt x="19273" y="15503"/>
                </a:cubicBezTo>
                <a:cubicBezTo>
                  <a:pt x="19269" y="15458"/>
                  <a:pt x="19273" y="15536"/>
                  <a:pt x="19298" y="15553"/>
                </a:cubicBezTo>
              </a:path>
              <a:path w="2332" h="4143">
                <a:moveTo>
                  <a:pt x="19695" y="15949"/>
                </a:moveTo>
                <a:cubicBezTo>
                  <a:pt x="19695" y="15831"/>
                  <a:pt x="19588" y="15929"/>
                  <a:pt x="19546" y="15974"/>
                </a:cubicBezTo>
                <a:cubicBezTo>
                  <a:pt x="19455" y="16071"/>
                  <a:pt x="19441" y="16119"/>
                  <a:pt x="19521" y="16173"/>
                </a:cubicBezTo>
                <a:cubicBezTo>
                  <a:pt x="19637" y="16106"/>
                  <a:pt x="19674" y="16067"/>
                  <a:pt x="19695" y="15925"/>
                </a:cubicBezTo>
              </a:path>
              <a:path w="2332" h="4143">
                <a:moveTo>
                  <a:pt x="19596" y="16247"/>
                </a:moveTo>
                <a:cubicBezTo>
                  <a:pt x="19596" y="16454"/>
                  <a:pt x="19596" y="16660"/>
                  <a:pt x="19596" y="16867"/>
                </a:cubicBezTo>
              </a:path>
              <a:path w="2332" h="4143">
                <a:moveTo>
                  <a:pt x="19521" y="17115"/>
                </a:moveTo>
                <a:cubicBezTo>
                  <a:pt x="19446" y="17130"/>
                  <a:pt x="19338" y="17205"/>
                  <a:pt x="19323" y="17289"/>
                </a:cubicBezTo>
                <a:cubicBezTo>
                  <a:pt x="19331" y="17305"/>
                  <a:pt x="19340" y="17322"/>
                  <a:pt x="19348" y="17338"/>
                </a:cubicBezTo>
                <a:cubicBezTo>
                  <a:pt x="19473" y="17380"/>
                  <a:pt x="19566" y="17380"/>
                  <a:pt x="19621" y="17239"/>
                </a:cubicBezTo>
                <a:cubicBezTo>
                  <a:pt x="19678" y="17094"/>
                  <a:pt x="19631" y="17071"/>
                  <a:pt x="19521" y="17016"/>
                </a:cubicBezTo>
              </a:path>
              <a:path w="2332" h="4143">
                <a:moveTo>
                  <a:pt x="19670" y="14982"/>
                </a:moveTo>
                <a:cubicBezTo>
                  <a:pt x="19614" y="15066"/>
                  <a:pt x="19563" y="15177"/>
                  <a:pt x="19546" y="15280"/>
                </a:cubicBezTo>
                <a:cubicBezTo>
                  <a:pt x="19546" y="15348"/>
                  <a:pt x="19543" y="15367"/>
                  <a:pt x="19571" y="15404"/>
                </a:cubicBezTo>
                <a:cubicBezTo>
                  <a:pt x="19649" y="15404"/>
                  <a:pt x="19752" y="15419"/>
                  <a:pt x="19794" y="15329"/>
                </a:cubicBezTo>
                <a:cubicBezTo>
                  <a:pt x="19794" y="15313"/>
                  <a:pt x="19794" y="15296"/>
                  <a:pt x="19794" y="15280"/>
                </a:cubicBezTo>
                <a:cubicBezTo>
                  <a:pt x="19670" y="15280"/>
                  <a:pt x="19654" y="15342"/>
                  <a:pt x="19621" y="15453"/>
                </a:cubicBezTo>
                <a:cubicBezTo>
                  <a:pt x="19621" y="15461"/>
                  <a:pt x="19621" y="15470"/>
                  <a:pt x="19621" y="15478"/>
                </a:cubicBezTo>
              </a:path>
              <a:path w="2332" h="4143">
                <a:moveTo>
                  <a:pt x="19248" y="17562"/>
                </a:moveTo>
                <a:cubicBezTo>
                  <a:pt x="19248" y="17637"/>
                  <a:pt x="19207" y="17712"/>
                  <a:pt x="19224" y="17785"/>
                </a:cubicBezTo>
                <a:cubicBezTo>
                  <a:pt x="19248" y="17810"/>
                  <a:pt x="19256" y="17818"/>
                  <a:pt x="19273" y="17785"/>
                </a:cubicBezTo>
              </a:path>
              <a:path w="2332" h="4143">
                <a:moveTo>
                  <a:pt x="19621" y="17462"/>
                </a:moveTo>
                <a:cubicBezTo>
                  <a:pt x="19574" y="17471"/>
                  <a:pt x="19502" y="17493"/>
                  <a:pt x="19521" y="17562"/>
                </a:cubicBezTo>
                <a:cubicBezTo>
                  <a:pt x="19537" y="17622"/>
                  <a:pt x="19720" y="17692"/>
                  <a:pt x="19670" y="17760"/>
                </a:cubicBezTo>
                <a:cubicBezTo>
                  <a:pt x="19654" y="17768"/>
                  <a:pt x="19637" y="17777"/>
                  <a:pt x="19621" y="17785"/>
                </a:cubicBezTo>
                <a:cubicBezTo>
                  <a:pt x="19506" y="17735"/>
                  <a:pt x="19531" y="17641"/>
                  <a:pt x="19645" y="17537"/>
                </a:cubicBezTo>
                <a:cubicBezTo>
                  <a:pt x="19673" y="17537"/>
                  <a:pt x="19679" y="17535"/>
                  <a:pt x="19645" y="17512"/>
                </a:cubicBezTo>
              </a:path>
              <a:path w="2332" h="4143">
                <a:moveTo>
                  <a:pt x="18752" y="17785"/>
                </a:moveTo>
                <a:cubicBezTo>
                  <a:pt x="18850" y="17785"/>
                  <a:pt x="18929" y="17778"/>
                  <a:pt x="19025" y="17760"/>
                </a:cubicBezTo>
              </a:path>
              <a:path w="2332" h="4143">
                <a:moveTo>
                  <a:pt x="18976" y="18033"/>
                </a:moveTo>
                <a:cubicBezTo>
                  <a:pt x="19205" y="17979"/>
                  <a:pt x="19436" y="17944"/>
                  <a:pt x="19670" y="17909"/>
                </a:cubicBezTo>
                <a:cubicBezTo>
                  <a:pt x="19678" y="17909"/>
                  <a:pt x="19687" y="17909"/>
                  <a:pt x="19695" y="17909"/>
                </a:cubicBezTo>
              </a:path>
              <a:path w="2332" h="4143">
                <a:moveTo>
                  <a:pt x="19372" y="18157"/>
                </a:moveTo>
                <a:cubicBezTo>
                  <a:pt x="19474" y="18157"/>
                  <a:pt x="19513" y="18132"/>
                  <a:pt x="19546" y="18207"/>
                </a:cubicBezTo>
                <a:cubicBezTo>
                  <a:pt x="19583" y="18290"/>
                  <a:pt x="19500" y="18334"/>
                  <a:pt x="19447" y="18405"/>
                </a:cubicBezTo>
                <a:cubicBezTo>
                  <a:pt x="19546" y="18405"/>
                  <a:pt x="19602" y="18382"/>
                  <a:pt x="19695" y="18355"/>
                </a:cubicBezTo>
              </a:path>
              <a:path w="2332" h="4143">
                <a:moveTo>
                  <a:pt x="19422" y="14833"/>
                </a:moveTo>
                <a:cubicBezTo>
                  <a:pt x="19509" y="14833"/>
                  <a:pt x="19585" y="14797"/>
                  <a:pt x="19670" y="14784"/>
                </a:cubicBezTo>
                <a:cubicBezTo>
                  <a:pt x="19814" y="14762"/>
                  <a:pt x="19527" y="14807"/>
                  <a:pt x="19521" y="14808"/>
                </a:cubicBezTo>
                <a:cubicBezTo>
                  <a:pt x="19513" y="14808"/>
                  <a:pt x="19504" y="14808"/>
                  <a:pt x="19496" y="14808"/>
                </a:cubicBezTo>
                <a:cubicBezTo>
                  <a:pt x="19588" y="14799"/>
                  <a:pt x="19677" y="14767"/>
                  <a:pt x="19769" y="14759"/>
                </a:cubicBezTo>
                <a:cubicBezTo>
                  <a:pt x="19777" y="14759"/>
                  <a:pt x="19786" y="14759"/>
                  <a:pt x="19794" y="14759"/>
                </a:cubicBezTo>
              </a:path>
              <a:path w="2332" h="4143">
                <a:moveTo>
                  <a:pt x="19943" y="14461"/>
                </a:moveTo>
                <a:cubicBezTo>
                  <a:pt x="19829" y="14361"/>
                  <a:pt x="19776" y="14317"/>
                  <a:pt x="19621" y="14288"/>
                </a:cubicBezTo>
                <a:cubicBezTo>
                  <a:pt x="19403" y="14248"/>
                  <a:pt x="19255" y="14267"/>
                  <a:pt x="19050" y="14337"/>
                </a:cubicBezTo>
                <a:cubicBezTo>
                  <a:pt x="18868" y="14399"/>
                  <a:pt x="18742" y="14478"/>
                  <a:pt x="18604" y="14610"/>
                </a:cubicBezTo>
                <a:cubicBezTo>
                  <a:pt x="18520" y="14690"/>
                  <a:pt x="18445" y="14761"/>
                  <a:pt x="18430" y="14883"/>
                </a:cubicBezTo>
                <a:cubicBezTo>
                  <a:pt x="18409" y="15053"/>
                  <a:pt x="18437" y="15186"/>
                  <a:pt x="18529" y="15329"/>
                </a:cubicBezTo>
                <a:cubicBezTo>
                  <a:pt x="18625" y="15479"/>
                  <a:pt x="18790" y="15503"/>
                  <a:pt x="18951" y="15553"/>
                </a:cubicBezTo>
                <a:cubicBezTo>
                  <a:pt x="19052" y="15584"/>
                  <a:pt x="19123" y="15659"/>
                  <a:pt x="19224" y="15701"/>
                </a:cubicBezTo>
                <a:cubicBezTo>
                  <a:pt x="19321" y="15741"/>
                  <a:pt x="19443" y="15786"/>
                  <a:pt x="19546" y="15801"/>
                </a:cubicBezTo>
                <a:cubicBezTo>
                  <a:pt x="19658" y="15817"/>
                  <a:pt x="19735" y="15813"/>
                  <a:pt x="19844" y="15801"/>
                </a:cubicBezTo>
                <a:cubicBezTo>
                  <a:pt x="19939" y="15791"/>
                  <a:pt x="20012" y="15780"/>
                  <a:pt x="20092" y="15726"/>
                </a:cubicBezTo>
                <a:cubicBezTo>
                  <a:pt x="20189" y="15660"/>
                  <a:pt x="20213" y="15534"/>
                  <a:pt x="20241" y="15429"/>
                </a:cubicBezTo>
                <a:cubicBezTo>
                  <a:pt x="20276" y="15297"/>
                  <a:pt x="20277" y="15163"/>
                  <a:pt x="20241" y="15032"/>
                </a:cubicBezTo>
                <a:cubicBezTo>
                  <a:pt x="20221" y="14958"/>
                  <a:pt x="20175" y="14902"/>
                  <a:pt x="20141" y="14833"/>
                </a:cubicBezTo>
                <a:cubicBezTo>
                  <a:pt x="20104" y="14759"/>
                  <a:pt x="20062" y="14674"/>
                  <a:pt x="20017" y="14610"/>
                </a:cubicBezTo>
                <a:cubicBezTo>
                  <a:pt x="19987" y="14568"/>
                  <a:pt x="19915" y="14527"/>
                  <a:pt x="19893" y="145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10160" y="6107040"/>
            <a:ext cx="276120" cy="233280"/>
          </a:xfrm>
          <a:custGeom>
            <a:avLst/>
            <a:gdLst/>
            <a:ahLst/>
            <a:rect l="l" t="t" r="r" b="b"/>
            <a:pathLst>
              <a:path w="770" h="646">
                <a:moveTo>
                  <a:pt x="15304" y="17090"/>
                </a:moveTo>
                <a:cubicBezTo>
                  <a:pt x="15338" y="17261"/>
                  <a:pt x="15372" y="17412"/>
                  <a:pt x="15379" y="17587"/>
                </a:cubicBezTo>
                <a:cubicBezTo>
                  <a:pt x="15379" y="17595"/>
                  <a:pt x="15379" y="17603"/>
                  <a:pt x="15379" y="17611"/>
                </a:cubicBezTo>
              </a:path>
              <a:path w="770" h="646">
                <a:moveTo>
                  <a:pt x="15627" y="16991"/>
                </a:moveTo>
                <a:cubicBezTo>
                  <a:pt x="15859" y="16956"/>
                  <a:pt x="16008" y="16967"/>
                  <a:pt x="15974" y="17264"/>
                </a:cubicBezTo>
                <a:cubicBezTo>
                  <a:pt x="15951" y="17461"/>
                  <a:pt x="15817" y="17491"/>
                  <a:pt x="15677" y="17438"/>
                </a:cubicBezTo>
                <a:cubicBezTo>
                  <a:pt x="15716" y="17292"/>
                  <a:pt x="15801" y="17267"/>
                  <a:pt x="15949" y="17338"/>
                </a:cubicBezTo>
                <a:cubicBezTo>
                  <a:pt x="16006" y="17366"/>
                  <a:pt x="16022" y="17400"/>
                  <a:pt x="16073" y="174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456080" y="6072120"/>
            <a:ext cx="169920" cy="14292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12427" y="16867"/>
                </a:moveTo>
                <a:cubicBezTo>
                  <a:pt x="12391" y="16966"/>
                  <a:pt x="12314" y="17138"/>
                  <a:pt x="12427" y="17214"/>
                </a:cubicBezTo>
                <a:cubicBezTo>
                  <a:pt x="12588" y="17323"/>
                  <a:pt x="12700" y="17250"/>
                  <a:pt x="12849" y="171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054160" y="5419800"/>
            <a:ext cx="2125800" cy="839880"/>
          </a:xfrm>
          <a:custGeom>
            <a:avLst/>
            <a:gdLst/>
            <a:ahLst/>
            <a:rect l="l" t="t" r="r" b="b"/>
            <a:pathLst>
              <a:path w="5905" h="2333">
                <a:moveTo>
                  <a:pt x="10443" y="15751"/>
                </a:moveTo>
                <a:cubicBezTo>
                  <a:pt x="10443" y="15883"/>
                  <a:pt x="10462" y="16021"/>
                  <a:pt x="10418" y="16148"/>
                </a:cubicBezTo>
                <a:cubicBezTo>
                  <a:pt x="10410" y="16156"/>
                  <a:pt x="10401" y="16165"/>
                  <a:pt x="10393" y="16173"/>
                </a:cubicBezTo>
              </a:path>
              <a:path w="5905" h="2333">
                <a:moveTo>
                  <a:pt x="10096" y="15627"/>
                </a:moveTo>
                <a:cubicBezTo>
                  <a:pt x="10176" y="15614"/>
                  <a:pt x="10732" y="15510"/>
                  <a:pt x="10641" y="15751"/>
                </a:cubicBezTo>
                <a:cubicBezTo>
                  <a:pt x="10547" y="15868"/>
                  <a:pt x="10522" y="15907"/>
                  <a:pt x="10418" y="15925"/>
                </a:cubicBezTo>
                <a:cubicBezTo>
                  <a:pt x="10410" y="15933"/>
                  <a:pt x="10401" y="15941"/>
                  <a:pt x="10393" y="15949"/>
                </a:cubicBezTo>
                <a:cubicBezTo>
                  <a:pt x="10596" y="15929"/>
                  <a:pt x="10584" y="15941"/>
                  <a:pt x="10790" y="15974"/>
                </a:cubicBezTo>
                <a:cubicBezTo>
                  <a:pt x="10712" y="16107"/>
                  <a:pt x="10591" y="16196"/>
                  <a:pt x="10418" y="16197"/>
                </a:cubicBezTo>
                <a:cubicBezTo>
                  <a:pt x="10410" y="16189"/>
                  <a:pt x="10401" y="16181"/>
                  <a:pt x="10393" y="16173"/>
                </a:cubicBezTo>
              </a:path>
              <a:path w="5905" h="2333">
                <a:moveTo>
                  <a:pt x="9847" y="16520"/>
                </a:moveTo>
                <a:cubicBezTo>
                  <a:pt x="10188" y="16489"/>
                  <a:pt x="10522" y="16470"/>
                  <a:pt x="10864" y="16470"/>
                </a:cubicBezTo>
                <a:cubicBezTo>
                  <a:pt x="10889" y="16470"/>
                  <a:pt x="10914" y="16470"/>
                  <a:pt x="10939" y="16470"/>
                </a:cubicBezTo>
              </a:path>
              <a:path w="5905" h="2333">
                <a:moveTo>
                  <a:pt x="10542" y="16942"/>
                </a:moveTo>
                <a:cubicBezTo>
                  <a:pt x="10542" y="17083"/>
                  <a:pt x="10526" y="16950"/>
                  <a:pt x="10443" y="16917"/>
                </a:cubicBezTo>
                <a:cubicBezTo>
                  <a:pt x="10294" y="16858"/>
                  <a:pt x="10038" y="17231"/>
                  <a:pt x="10145" y="17338"/>
                </a:cubicBezTo>
                <a:cubicBezTo>
                  <a:pt x="10291" y="17484"/>
                  <a:pt x="10704" y="17356"/>
                  <a:pt x="10815" y="17214"/>
                </a:cubicBezTo>
                <a:cubicBezTo>
                  <a:pt x="10831" y="17173"/>
                  <a:pt x="10848" y="17131"/>
                  <a:pt x="10864" y="17090"/>
                </a:cubicBezTo>
              </a:path>
              <a:path w="5905" h="2333">
                <a:moveTo>
                  <a:pt x="11286" y="16545"/>
                </a:moveTo>
                <a:cubicBezTo>
                  <a:pt x="11412" y="16545"/>
                  <a:pt x="11563" y="16496"/>
                  <a:pt x="11509" y="16619"/>
                </a:cubicBezTo>
              </a:path>
              <a:path w="5905" h="2333">
                <a:moveTo>
                  <a:pt x="11187" y="16818"/>
                </a:moveTo>
                <a:cubicBezTo>
                  <a:pt x="11331" y="16783"/>
                  <a:pt x="11468" y="16741"/>
                  <a:pt x="11609" y="16694"/>
                </a:cubicBezTo>
              </a:path>
              <a:path w="5905" h="2333">
                <a:moveTo>
                  <a:pt x="5705" y="15081"/>
                </a:moveTo>
                <a:cubicBezTo>
                  <a:pt x="5731" y="15145"/>
                  <a:pt x="5712" y="15176"/>
                  <a:pt x="5755" y="15230"/>
                </a:cubicBezTo>
                <a:cubicBezTo>
                  <a:pt x="5847" y="15347"/>
                  <a:pt x="6052" y="15308"/>
                  <a:pt x="6152" y="15230"/>
                </a:cubicBezTo>
                <a:cubicBezTo>
                  <a:pt x="6163" y="15221"/>
                  <a:pt x="6166" y="15192"/>
                  <a:pt x="6176" y="15180"/>
                </a:cubicBezTo>
                <a:cubicBezTo>
                  <a:pt x="6244" y="15276"/>
                  <a:pt x="6296" y="15370"/>
                  <a:pt x="6449" y="15354"/>
                </a:cubicBezTo>
                <a:cubicBezTo>
                  <a:pt x="6598" y="15339"/>
                  <a:pt x="6686" y="15217"/>
                  <a:pt x="6821" y="15255"/>
                </a:cubicBezTo>
                <a:cubicBezTo>
                  <a:pt x="7022" y="15312"/>
                  <a:pt x="7129" y="15307"/>
                  <a:pt x="7317" y="15180"/>
                </a:cubicBezTo>
                <a:cubicBezTo>
                  <a:pt x="7334" y="15164"/>
                  <a:pt x="7350" y="15147"/>
                  <a:pt x="7367" y="15131"/>
                </a:cubicBezTo>
                <a:cubicBezTo>
                  <a:pt x="7421" y="15209"/>
                  <a:pt x="7475" y="15312"/>
                  <a:pt x="7615" y="15280"/>
                </a:cubicBezTo>
                <a:cubicBezTo>
                  <a:pt x="7751" y="15249"/>
                  <a:pt x="7896" y="15121"/>
                  <a:pt x="8012" y="15056"/>
                </a:cubicBezTo>
                <a:cubicBezTo>
                  <a:pt x="8085" y="15216"/>
                  <a:pt x="8147" y="15221"/>
                  <a:pt x="8334" y="15180"/>
                </a:cubicBezTo>
                <a:cubicBezTo>
                  <a:pt x="8456" y="15140"/>
                  <a:pt x="8485" y="15144"/>
                  <a:pt x="8533" y="15081"/>
                </a:cubicBezTo>
                <a:cubicBezTo>
                  <a:pt x="8551" y="15132"/>
                  <a:pt x="8526" y="15126"/>
                  <a:pt x="8558" y="15156"/>
                </a:cubicBezTo>
                <a:cubicBezTo>
                  <a:pt x="8643" y="15236"/>
                  <a:pt x="8780" y="15203"/>
                  <a:pt x="8905" y="15180"/>
                </a:cubicBezTo>
                <a:cubicBezTo>
                  <a:pt x="8979" y="15162"/>
                  <a:pt x="9012" y="15180"/>
                  <a:pt x="9004" y="151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732200" y="6242040"/>
            <a:ext cx="179640" cy="179280"/>
          </a:xfrm>
          <a:custGeom>
            <a:avLst/>
            <a:gdLst/>
            <a:ahLst/>
            <a:rect l="l" t="t" r="r" b="b"/>
            <a:pathLst>
              <a:path w="498" h="498">
                <a:moveTo>
                  <a:pt x="13146" y="17487"/>
                </a:moveTo>
                <a:cubicBezTo>
                  <a:pt x="13174" y="17431"/>
                  <a:pt x="13215" y="17589"/>
                  <a:pt x="13246" y="17636"/>
                </a:cubicBezTo>
                <a:cubicBezTo>
                  <a:pt x="13290" y="17701"/>
                  <a:pt x="13271" y="17608"/>
                  <a:pt x="13271" y="17587"/>
                </a:cubicBezTo>
              </a:path>
              <a:path w="498" h="498">
                <a:moveTo>
                  <a:pt x="13295" y="17388"/>
                </a:moveTo>
                <a:cubicBezTo>
                  <a:pt x="13250" y="17496"/>
                  <a:pt x="13218" y="17658"/>
                  <a:pt x="13196" y="17785"/>
                </a:cubicBezTo>
                <a:cubicBezTo>
                  <a:pt x="13182" y="17867"/>
                  <a:pt x="13246" y="17702"/>
                  <a:pt x="13295" y="17636"/>
                </a:cubicBezTo>
              </a:path>
              <a:path w="498" h="498">
                <a:moveTo>
                  <a:pt x="13444" y="17338"/>
                </a:moveTo>
                <a:cubicBezTo>
                  <a:pt x="13485" y="17338"/>
                  <a:pt x="13527" y="17338"/>
                  <a:pt x="13568" y="17338"/>
                </a:cubicBezTo>
                <a:cubicBezTo>
                  <a:pt x="13561" y="17404"/>
                  <a:pt x="13546" y="17451"/>
                  <a:pt x="13519" y="17512"/>
                </a:cubicBezTo>
                <a:cubicBezTo>
                  <a:pt x="13569" y="17551"/>
                  <a:pt x="13651" y="17526"/>
                  <a:pt x="13643" y="17611"/>
                </a:cubicBezTo>
                <a:cubicBezTo>
                  <a:pt x="13637" y="17674"/>
                  <a:pt x="13490" y="17785"/>
                  <a:pt x="13494" y="17735"/>
                </a:cubicBezTo>
                <a:cubicBezTo>
                  <a:pt x="13502" y="17719"/>
                  <a:pt x="13511" y="17702"/>
                  <a:pt x="13519" y="176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276200" y="2581200"/>
            <a:ext cx="3965760" cy="3571920"/>
          </a:xfrm>
          <a:custGeom>
            <a:avLst/>
            <a:gdLst/>
            <a:ahLst/>
            <a:rect l="l" t="t" r="r" b="b"/>
            <a:pathLst>
              <a:path w="11014" h="9922">
                <a:moveTo>
                  <a:pt x="13345" y="10443"/>
                </a:moveTo>
                <a:cubicBezTo>
                  <a:pt x="13372" y="10484"/>
                  <a:pt x="13387" y="10517"/>
                  <a:pt x="13395" y="10567"/>
                </a:cubicBezTo>
              </a:path>
              <a:path w="11014" h="9922">
                <a:moveTo>
                  <a:pt x="9302" y="7268"/>
                </a:moveTo>
                <a:lnTo>
                  <a:pt x="9302" y="7268"/>
                </a:lnTo>
              </a:path>
              <a:path w="11014" h="9922">
                <a:moveTo>
                  <a:pt x="10840" y="7169"/>
                </a:moveTo>
                <a:lnTo>
                  <a:pt x="10840" y="7169"/>
                </a:lnTo>
              </a:path>
              <a:path w="11014" h="9922">
                <a:moveTo>
                  <a:pt x="14560" y="7193"/>
                </a:moveTo>
                <a:cubicBezTo>
                  <a:pt x="14560" y="7185"/>
                  <a:pt x="14560" y="7177"/>
                  <a:pt x="14560" y="7169"/>
                </a:cubicBezTo>
              </a:path>
              <a:path w="11014" h="9922">
                <a:moveTo>
                  <a:pt x="3646" y="16495"/>
                </a:moveTo>
                <a:cubicBezTo>
                  <a:pt x="3635" y="16678"/>
                  <a:pt x="3631" y="16890"/>
                  <a:pt x="3572" y="17066"/>
                </a:cubicBezTo>
                <a:cubicBezTo>
                  <a:pt x="3564" y="17074"/>
                  <a:pt x="3555" y="17082"/>
                  <a:pt x="3547" y="17090"/>
                </a:cubicBezTo>
              </a:path>
              <a:path w="11014" h="9922">
                <a:moveTo>
                  <a:pt x="4812" y="16495"/>
                </a:moveTo>
                <a:cubicBezTo>
                  <a:pt x="4978" y="16448"/>
                  <a:pt x="5029" y="16434"/>
                  <a:pt x="5135" y="16396"/>
                </a:cubicBezTo>
              </a:path>
              <a:path w="11014" h="9922">
                <a:moveTo>
                  <a:pt x="3894" y="15354"/>
                </a:moveTo>
                <a:cubicBezTo>
                  <a:pt x="3929" y="15354"/>
                  <a:pt x="3942" y="15363"/>
                  <a:pt x="3944" y="154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14280" y="5554800"/>
            <a:ext cx="393840" cy="268200"/>
          </a:xfrm>
          <a:custGeom>
            <a:avLst/>
            <a:gdLst/>
            <a:ahLst/>
            <a:rect l="l" t="t" r="r" b="b"/>
            <a:pathLst>
              <a:path w="1093" h="745">
                <a:moveTo>
                  <a:pt x="3845" y="15553"/>
                </a:moveTo>
                <a:cubicBezTo>
                  <a:pt x="3754" y="15660"/>
                  <a:pt x="3723" y="15879"/>
                  <a:pt x="3646" y="16024"/>
                </a:cubicBezTo>
                <a:cubicBezTo>
                  <a:pt x="3638" y="16032"/>
                  <a:pt x="3629" y="16041"/>
                  <a:pt x="3621" y="16049"/>
                </a:cubicBezTo>
                <a:cubicBezTo>
                  <a:pt x="3659" y="15842"/>
                  <a:pt x="3770" y="15695"/>
                  <a:pt x="3894" y="15528"/>
                </a:cubicBezTo>
                <a:cubicBezTo>
                  <a:pt x="3919" y="15495"/>
                  <a:pt x="3944" y="15462"/>
                  <a:pt x="3969" y="15429"/>
                </a:cubicBezTo>
                <a:cubicBezTo>
                  <a:pt x="4144" y="15473"/>
                  <a:pt x="4126" y="15694"/>
                  <a:pt x="4118" y="15850"/>
                </a:cubicBezTo>
                <a:cubicBezTo>
                  <a:pt x="4113" y="15940"/>
                  <a:pt x="4026" y="16049"/>
                  <a:pt x="4068" y="15974"/>
                </a:cubicBezTo>
                <a:cubicBezTo>
                  <a:pt x="4076" y="15966"/>
                  <a:pt x="4085" y="15957"/>
                  <a:pt x="4093" y="15949"/>
                </a:cubicBezTo>
              </a:path>
              <a:path w="1093" h="745">
                <a:moveTo>
                  <a:pt x="3746" y="15925"/>
                </a:moveTo>
                <a:cubicBezTo>
                  <a:pt x="3906" y="15884"/>
                  <a:pt x="4025" y="15875"/>
                  <a:pt x="4192" y="15875"/>
                </a:cubicBezTo>
              </a:path>
              <a:path w="1093" h="745">
                <a:moveTo>
                  <a:pt x="3373" y="16148"/>
                </a:moveTo>
                <a:cubicBezTo>
                  <a:pt x="3694" y="16183"/>
                  <a:pt x="4017" y="16173"/>
                  <a:pt x="4341" y="16173"/>
                </a:cubicBezTo>
                <a:cubicBezTo>
                  <a:pt x="4382" y="16173"/>
                  <a:pt x="4424" y="16173"/>
                  <a:pt x="4465" y="161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63800" y="5653080"/>
            <a:ext cx="287280" cy="544680"/>
          </a:xfrm>
          <a:custGeom>
            <a:avLst/>
            <a:gdLst/>
            <a:ahLst/>
            <a:rect l="l" t="t" r="r" b="b"/>
            <a:pathLst>
              <a:path w="795" h="1514">
                <a:moveTo>
                  <a:pt x="5978" y="15701"/>
                </a:moveTo>
                <a:cubicBezTo>
                  <a:pt x="5837" y="15715"/>
                  <a:pt x="5761" y="15739"/>
                  <a:pt x="5631" y="15801"/>
                </a:cubicBezTo>
                <a:cubicBezTo>
                  <a:pt x="5692" y="15995"/>
                  <a:pt x="5862" y="16058"/>
                  <a:pt x="6028" y="16197"/>
                </a:cubicBezTo>
                <a:cubicBezTo>
                  <a:pt x="5944" y="16267"/>
                  <a:pt x="5605" y="16367"/>
                  <a:pt x="5730" y="16123"/>
                </a:cubicBezTo>
                <a:cubicBezTo>
                  <a:pt x="5747" y="16090"/>
                  <a:pt x="6032" y="15807"/>
                  <a:pt x="6028" y="15801"/>
                </a:cubicBezTo>
                <a:cubicBezTo>
                  <a:pt x="6020" y="15801"/>
                  <a:pt x="6011" y="15801"/>
                  <a:pt x="6003" y="15801"/>
                </a:cubicBezTo>
              </a:path>
              <a:path w="795" h="1514">
                <a:moveTo>
                  <a:pt x="5457" y="16470"/>
                </a:moveTo>
                <a:cubicBezTo>
                  <a:pt x="5725" y="16440"/>
                  <a:pt x="5985" y="16396"/>
                  <a:pt x="6251" y="16446"/>
                </a:cubicBezTo>
                <a:cubicBezTo>
                  <a:pt x="6243" y="16446"/>
                  <a:pt x="6234" y="16446"/>
                  <a:pt x="6226" y="16446"/>
                </a:cubicBezTo>
              </a:path>
              <a:path w="795" h="1514">
                <a:moveTo>
                  <a:pt x="6127" y="16818"/>
                </a:moveTo>
                <a:cubicBezTo>
                  <a:pt x="6078" y="16640"/>
                  <a:pt x="5914" y="16662"/>
                  <a:pt x="5755" y="16768"/>
                </a:cubicBezTo>
                <a:cubicBezTo>
                  <a:pt x="5738" y="16793"/>
                  <a:pt x="5722" y="16817"/>
                  <a:pt x="5705" y="16842"/>
                </a:cubicBezTo>
                <a:cubicBezTo>
                  <a:pt x="5854" y="16936"/>
                  <a:pt x="5937" y="16807"/>
                  <a:pt x="6077" y="16718"/>
                </a:cubicBezTo>
                <a:cubicBezTo>
                  <a:pt x="6085" y="16718"/>
                  <a:pt x="6094" y="16718"/>
                  <a:pt x="6102" y="16718"/>
                </a:cubicBezTo>
                <a:cubicBezTo>
                  <a:pt x="6102" y="16875"/>
                  <a:pt x="6078" y="17012"/>
                  <a:pt x="6052" y="17165"/>
                </a:cubicBezTo>
                <a:cubicBezTo>
                  <a:pt x="6051" y="17172"/>
                  <a:pt x="6052" y="17255"/>
                  <a:pt x="6052" y="171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268280" y="5911920"/>
            <a:ext cx="177840" cy="214200"/>
          </a:xfrm>
          <a:custGeom>
            <a:avLst/>
            <a:gdLst/>
            <a:ahLst/>
            <a:rect l="l" t="t" r="r" b="b"/>
            <a:pathLst>
              <a:path w="497" h="596">
                <a:moveTo>
                  <a:pt x="3522" y="16446"/>
                </a:moveTo>
                <a:cubicBezTo>
                  <a:pt x="3589" y="16439"/>
                  <a:pt x="4068" y="16343"/>
                  <a:pt x="3944" y="16545"/>
                </a:cubicBezTo>
                <a:cubicBezTo>
                  <a:pt x="3895" y="16625"/>
                  <a:pt x="3792" y="16662"/>
                  <a:pt x="3746" y="16718"/>
                </a:cubicBezTo>
                <a:cubicBezTo>
                  <a:pt x="3861" y="16718"/>
                  <a:pt x="3996" y="16717"/>
                  <a:pt x="4018" y="16867"/>
                </a:cubicBezTo>
                <a:cubicBezTo>
                  <a:pt x="4010" y="16900"/>
                  <a:pt x="4002" y="16933"/>
                  <a:pt x="3994" y="16966"/>
                </a:cubicBezTo>
                <a:cubicBezTo>
                  <a:pt x="3958" y="16978"/>
                  <a:pt x="3597" y="17080"/>
                  <a:pt x="3597" y="16966"/>
                </a:cubicBezTo>
                <a:cubicBezTo>
                  <a:pt x="3613" y="16941"/>
                  <a:pt x="3630" y="16917"/>
                  <a:pt x="3646" y="168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697040" y="5867280"/>
            <a:ext cx="133200" cy="17640"/>
          </a:xfrm>
          <a:custGeom>
            <a:avLst/>
            <a:gdLst/>
            <a:ahLst/>
            <a:rect l="l" t="t" r="r" b="b"/>
            <a:pathLst>
              <a:path w="373" h="50">
                <a:moveTo>
                  <a:pt x="4713" y="16297"/>
                </a:moveTo>
                <a:cubicBezTo>
                  <a:pt x="4840" y="16297"/>
                  <a:pt x="4935" y="16324"/>
                  <a:pt x="5060" y="16346"/>
                </a:cubicBezTo>
                <a:cubicBezTo>
                  <a:pt x="5068" y="16346"/>
                  <a:pt x="5077" y="16346"/>
                  <a:pt x="5085" y="163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134200" y="6089760"/>
            <a:ext cx="312840" cy="287280"/>
          </a:xfrm>
          <a:custGeom>
            <a:avLst/>
            <a:gdLst/>
            <a:ahLst/>
            <a:rect l="l" t="t" r="r" b="b"/>
            <a:pathLst>
              <a:path w="869" h="795">
                <a:moveTo>
                  <a:pt x="22597" y="17190"/>
                </a:moveTo>
                <a:cubicBezTo>
                  <a:pt x="22597" y="17120"/>
                  <a:pt x="22635" y="17269"/>
                  <a:pt x="22647" y="17338"/>
                </a:cubicBezTo>
                <a:cubicBezTo>
                  <a:pt x="22668" y="17461"/>
                  <a:pt x="22546" y="17711"/>
                  <a:pt x="22671" y="17711"/>
                </a:cubicBezTo>
                <a:cubicBezTo>
                  <a:pt x="22679" y="17703"/>
                  <a:pt x="22688" y="17694"/>
                  <a:pt x="22696" y="17686"/>
                </a:cubicBezTo>
              </a:path>
              <a:path w="869" h="795">
                <a:moveTo>
                  <a:pt x="23068" y="17066"/>
                </a:moveTo>
                <a:cubicBezTo>
                  <a:pt x="23096" y="16997"/>
                  <a:pt x="23152" y="16958"/>
                  <a:pt x="23217" y="16917"/>
                </a:cubicBezTo>
                <a:cubicBezTo>
                  <a:pt x="23358" y="17023"/>
                  <a:pt x="23339" y="17137"/>
                  <a:pt x="23242" y="17289"/>
                </a:cubicBezTo>
                <a:cubicBezTo>
                  <a:pt x="23202" y="17351"/>
                  <a:pt x="23061" y="17554"/>
                  <a:pt x="22994" y="17587"/>
                </a:cubicBezTo>
                <a:cubicBezTo>
                  <a:pt x="23011" y="17621"/>
                  <a:pt x="23042" y="17523"/>
                  <a:pt x="23093" y="17487"/>
                </a:cubicBezTo>
                <a:cubicBezTo>
                  <a:pt x="23151" y="17445"/>
                  <a:pt x="23230" y="17514"/>
                  <a:pt x="23267" y="17537"/>
                </a:cubicBezTo>
                <a:cubicBezTo>
                  <a:pt x="23349" y="17588"/>
                  <a:pt x="23374" y="17577"/>
                  <a:pt x="23465" y="175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152880" y="6367320"/>
            <a:ext cx="27000" cy="17640"/>
          </a:xfrm>
          <a:custGeom>
            <a:avLst/>
            <a:gdLst/>
            <a:ahLst/>
            <a:rect l="l" t="t" r="r" b="b"/>
            <a:pathLst>
              <a:path w="75" h="50">
                <a:moveTo>
                  <a:pt x="8756" y="17711"/>
                </a:moveTo>
                <a:cubicBezTo>
                  <a:pt x="8756" y="17778"/>
                  <a:pt x="8814" y="17700"/>
                  <a:pt x="8830" y="176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08040" y="2062080"/>
            <a:ext cx="3124080" cy="90720"/>
          </a:xfrm>
          <a:custGeom>
            <a:avLst/>
            <a:gdLst/>
            <a:ahLst/>
            <a:rect l="l" t="t" r="r" b="b"/>
            <a:pathLst>
              <a:path w="8682" h="249">
                <a:moveTo>
                  <a:pt x="1687" y="5978"/>
                </a:moveTo>
                <a:cubicBezTo>
                  <a:pt x="1719" y="5970"/>
                  <a:pt x="1705" y="5988"/>
                  <a:pt x="1736" y="5978"/>
                </a:cubicBezTo>
                <a:cubicBezTo>
                  <a:pt x="1799" y="5958"/>
                  <a:pt x="1845" y="5939"/>
                  <a:pt x="1910" y="5928"/>
                </a:cubicBezTo>
                <a:cubicBezTo>
                  <a:pt x="2031" y="5907"/>
                  <a:pt x="2158" y="5897"/>
                  <a:pt x="2282" y="5879"/>
                </a:cubicBezTo>
                <a:cubicBezTo>
                  <a:pt x="2388" y="5864"/>
                  <a:pt x="2496" y="5844"/>
                  <a:pt x="2604" y="5829"/>
                </a:cubicBezTo>
                <a:cubicBezTo>
                  <a:pt x="2696" y="5816"/>
                  <a:pt x="2781" y="5798"/>
                  <a:pt x="2877" y="5804"/>
                </a:cubicBezTo>
                <a:cubicBezTo>
                  <a:pt x="2969" y="5810"/>
                  <a:pt x="3081" y="5819"/>
                  <a:pt x="3175" y="5829"/>
                </a:cubicBezTo>
                <a:cubicBezTo>
                  <a:pt x="3250" y="5837"/>
                  <a:pt x="3327" y="5868"/>
                  <a:pt x="3398" y="5879"/>
                </a:cubicBezTo>
                <a:cubicBezTo>
                  <a:pt x="3501" y="5895"/>
                  <a:pt x="3618" y="5921"/>
                  <a:pt x="3721" y="5928"/>
                </a:cubicBezTo>
                <a:cubicBezTo>
                  <a:pt x="3825" y="5935"/>
                  <a:pt x="3916" y="5909"/>
                  <a:pt x="4018" y="5904"/>
                </a:cubicBezTo>
                <a:cubicBezTo>
                  <a:pt x="4219" y="5895"/>
                  <a:pt x="4415" y="5903"/>
                  <a:pt x="4614" y="5879"/>
                </a:cubicBezTo>
                <a:cubicBezTo>
                  <a:pt x="4689" y="5870"/>
                  <a:pt x="4764" y="5858"/>
                  <a:pt x="4837" y="5854"/>
                </a:cubicBezTo>
                <a:cubicBezTo>
                  <a:pt x="4958" y="5848"/>
                  <a:pt x="5066" y="5873"/>
                  <a:pt x="5184" y="5879"/>
                </a:cubicBezTo>
                <a:cubicBezTo>
                  <a:pt x="5289" y="5884"/>
                  <a:pt x="5386" y="5859"/>
                  <a:pt x="5482" y="5854"/>
                </a:cubicBezTo>
                <a:cubicBezTo>
                  <a:pt x="5683" y="5843"/>
                  <a:pt x="5879" y="5854"/>
                  <a:pt x="6077" y="5829"/>
                </a:cubicBezTo>
                <a:cubicBezTo>
                  <a:pt x="6190" y="5815"/>
                  <a:pt x="6312" y="5787"/>
                  <a:pt x="6424" y="5779"/>
                </a:cubicBezTo>
                <a:cubicBezTo>
                  <a:pt x="6749" y="5756"/>
                  <a:pt x="7122" y="5709"/>
                  <a:pt x="7441" y="5730"/>
                </a:cubicBezTo>
                <a:cubicBezTo>
                  <a:pt x="7537" y="5736"/>
                  <a:pt x="7619" y="5744"/>
                  <a:pt x="7714" y="5755"/>
                </a:cubicBezTo>
                <a:cubicBezTo>
                  <a:pt x="7839" y="5770"/>
                  <a:pt x="7963" y="5785"/>
                  <a:pt x="8086" y="5804"/>
                </a:cubicBezTo>
                <a:cubicBezTo>
                  <a:pt x="8189" y="5820"/>
                  <a:pt x="8283" y="5852"/>
                  <a:pt x="8384" y="5879"/>
                </a:cubicBezTo>
                <a:cubicBezTo>
                  <a:pt x="8540" y="5920"/>
                  <a:pt x="8672" y="5913"/>
                  <a:pt x="8830" y="5928"/>
                </a:cubicBezTo>
                <a:cubicBezTo>
                  <a:pt x="8944" y="5939"/>
                  <a:pt x="9039" y="5943"/>
                  <a:pt x="9153" y="5953"/>
                </a:cubicBezTo>
                <a:cubicBezTo>
                  <a:pt x="9310" y="5967"/>
                  <a:pt x="9463" y="5987"/>
                  <a:pt x="9624" y="5978"/>
                </a:cubicBezTo>
                <a:cubicBezTo>
                  <a:pt x="9821" y="5967"/>
                  <a:pt x="10026" y="5939"/>
                  <a:pt x="10220" y="5928"/>
                </a:cubicBezTo>
                <a:cubicBezTo>
                  <a:pt x="10269" y="5925"/>
                  <a:pt x="10319" y="5930"/>
                  <a:pt x="10368" y="59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3T16:24:54Z</dcterms:created>
  <dc:creator>ccps</dc:creator>
  <dc:description/>
  <dc:language>en-US</dc:language>
  <cp:lastModifiedBy>deanne e mcgrath</cp:lastModifiedBy>
  <dcterms:modified xsi:type="dcterms:W3CDTF">2011-10-10T19:19:18Z</dcterms:modified>
  <cp:revision>7</cp:revision>
  <dc:subject/>
  <dc:title>Unit 13</dc:title>
</cp:coreProperties>
</file>